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18DF-12C3-4C9E-B3F8-1E09796B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6A37-EBCA-4A2E-8B9E-25EA082E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9797-C70B-4696-814D-EEB2E9CA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E78-D1AA-41C6-82F2-356F3E76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A840-83F0-4FE0-9AF7-F67D9998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B27B-CC15-4952-B54F-854B90C0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8026-0ED1-4B96-8A3F-9FAB81EC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A661-6622-46AB-BF56-C6A1738C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E89F-58CB-4800-8E8A-829CEF7C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D90-E488-4D0A-A90D-DEAFDDF5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019D-9C8B-423A-98A8-C51A81FF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3ADE-AE7F-4C87-9240-865B4D85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1C9C-93BD-448A-8885-F39F2786E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7842" t="4274" r="5882" b="52281"/>
          <a:stretch/>
        </p:blipFill>
        <p:spPr>
          <a:xfrm>
            <a:off x="0" y="0"/>
            <a:ext cx="8534520" cy="5916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81480" y="2971800"/>
            <a:ext cx="533520" cy="4572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9560" t="35288" r="8087" b="40497"/>
          <a:stretch/>
        </p:blipFill>
        <p:spPr>
          <a:xfrm>
            <a:off x="0" y="0"/>
            <a:ext cx="6400800" cy="2590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rcRect l="22450" t="6101" r="27554" b="65412"/>
          <a:stretch/>
        </p:blipFill>
        <p:spPr>
          <a:xfrm>
            <a:off x="6324480" y="0"/>
            <a:ext cx="2590920" cy="2031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95200" y="2874960"/>
            <a:ext cx="187560" cy="366840"/>
          </a:xfrm>
          <a:custGeom>
            <a:avLst/>
            <a:gdLst/>
            <a:ahLst/>
            <a:rect l="l" t="t" r="r" b="b"/>
            <a:pathLst>
              <a:path w="521" h="1018">
                <a:moveTo>
                  <a:pt x="1017" y="8334"/>
                </a:moveTo>
                <a:cubicBezTo>
                  <a:pt x="1017" y="8326"/>
                  <a:pt x="1017" y="8318"/>
                  <a:pt x="1017" y="8310"/>
                </a:cubicBezTo>
                <a:cubicBezTo>
                  <a:pt x="1017" y="8384"/>
                  <a:pt x="1017" y="8459"/>
                  <a:pt x="1017" y="8533"/>
                </a:cubicBezTo>
              </a:path>
              <a:path w="521" h="1018">
                <a:moveTo>
                  <a:pt x="868" y="8210"/>
                </a:moveTo>
                <a:cubicBezTo>
                  <a:pt x="860" y="8202"/>
                  <a:pt x="851" y="8194"/>
                  <a:pt x="843" y="8186"/>
                </a:cubicBezTo>
              </a:path>
              <a:path w="521" h="1018">
                <a:moveTo>
                  <a:pt x="819" y="8012"/>
                </a:moveTo>
                <a:cubicBezTo>
                  <a:pt x="831" y="7974"/>
                  <a:pt x="848" y="7987"/>
                  <a:pt x="893" y="7987"/>
                </a:cubicBezTo>
                <a:cubicBezTo>
                  <a:pt x="969" y="7987"/>
                  <a:pt x="1021" y="8004"/>
                  <a:pt x="1091" y="8037"/>
                </a:cubicBezTo>
                <a:cubicBezTo>
                  <a:pt x="1186" y="8083"/>
                  <a:pt x="1251" y="8098"/>
                  <a:pt x="1290" y="8210"/>
                </a:cubicBezTo>
                <a:cubicBezTo>
                  <a:pt x="1334" y="8337"/>
                  <a:pt x="1346" y="8429"/>
                  <a:pt x="1315" y="8558"/>
                </a:cubicBezTo>
                <a:cubicBezTo>
                  <a:pt x="1283" y="8691"/>
                  <a:pt x="1204" y="8778"/>
                  <a:pt x="1116" y="8880"/>
                </a:cubicBezTo>
                <a:cubicBezTo>
                  <a:pt x="1054" y="8952"/>
                  <a:pt x="1010" y="8992"/>
                  <a:pt x="918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46080" y="2911320"/>
            <a:ext cx="608040" cy="152640"/>
          </a:xfrm>
          <a:custGeom>
            <a:avLst/>
            <a:gdLst/>
            <a:ahLst/>
            <a:rect l="l" t="t" r="r" b="b"/>
            <a:pathLst>
              <a:path w="1688" h="423">
                <a:moveTo>
                  <a:pt x="2828" y="8161"/>
                </a:moveTo>
                <a:cubicBezTo>
                  <a:pt x="2884" y="8123"/>
                  <a:pt x="2877" y="8145"/>
                  <a:pt x="2877" y="8086"/>
                </a:cubicBezTo>
                <a:cubicBezTo>
                  <a:pt x="2811" y="8100"/>
                  <a:pt x="2747" y="8129"/>
                  <a:pt x="2704" y="8186"/>
                </a:cubicBezTo>
                <a:cubicBezTo>
                  <a:pt x="2648" y="8259"/>
                  <a:pt x="2626" y="8326"/>
                  <a:pt x="2654" y="8409"/>
                </a:cubicBezTo>
                <a:cubicBezTo>
                  <a:pt x="2679" y="8484"/>
                  <a:pt x="2757" y="8499"/>
                  <a:pt x="2828" y="8483"/>
                </a:cubicBezTo>
                <a:cubicBezTo>
                  <a:pt x="2853" y="8475"/>
                  <a:pt x="2877" y="8466"/>
                  <a:pt x="2902" y="8458"/>
                </a:cubicBezTo>
              </a:path>
              <a:path w="1688" h="423">
                <a:moveTo>
                  <a:pt x="3101" y="8260"/>
                </a:moveTo>
                <a:cubicBezTo>
                  <a:pt x="3077" y="8242"/>
                  <a:pt x="3027" y="8228"/>
                  <a:pt x="3051" y="8186"/>
                </a:cubicBezTo>
                <a:cubicBezTo>
                  <a:pt x="3073" y="8146"/>
                  <a:pt x="3129" y="8117"/>
                  <a:pt x="3175" y="8136"/>
                </a:cubicBezTo>
                <a:cubicBezTo>
                  <a:pt x="3236" y="8161"/>
                  <a:pt x="3264" y="8253"/>
                  <a:pt x="3274" y="8310"/>
                </a:cubicBezTo>
                <a:cubicBezTo>
                  <a:pt x="3288" y="8391"/>
                  <a:pt x="3244" y="8430"/>
                  <a:pt x="3175" y="8434"/>
                </a:cubicBezTo>
                <a:cubicBezTo>
                  <a:pt x="3136" y="8436"/>
                  <a:pt x="3048" y="8453"/>
                  <a:pt x="3026" y="8409"/>
                </a:cubicBezTo>
                <a:cubicBezTo>
                  <a:pt x="3026" y="8401"/>
                  <a:pt x="3026" y="8392"/>
                  <a:pt x="3026" y="8384"/>
                </a:cubicBezTo>
              </a:path>
              <a:path w="1688" h="423">
                <a:moveTo>
                  <a:pt x="3423" y="8235"/>
                </a:moveTo>
                <a:cubicBezTo>
                  <a:pt x="3476" y="8235"/>
                  <a:pt x="3460" y="8223"/>
                  <a:pt x="3497" y="8210"/>
                </a:cubicBezTo>
                <a:cubicBezTo>
                  <a:pt x="3497" y="8283"/>
                  <a:pt x="3511" y="8341"/>
                  <a:pt x="3522" y="8409"/>
                </a:cubicBezTo>
                <a:cubicBezTo>
                  <a:pt x="3529" y="8450"/>
                  <a:pt x="3528" y="8522"/>
                  <a:pt x="3547" y="8434"/>
                </a:cubicBezTo>
                <a:cubicBezTo>
                  <a:pt x="3561" y="8368"/>
                  <a:pt x="3561" y="8295"/>
                  <a:pt x="3597" y="8235"/>
                </a:cubicBezTo>
                <a:cubicBezTo>
                  <a:pt x="3619" y="8212"/>
                  <a:pt x="3624" y="8204"/>
                  <a:pt x="3646" y="8210"/>
                </a:cubicBezTo>
                <a:cubicBezTo>
                  <a:pt x="3679" y="8232"/>
                  <a:pt x="3696" y="8304"/>
                  <a:pt x="3721" y="8359"/>
                </a:cubicBezTo>
                <a:cubicBezTo>
                  <a:pt x="3744" y="8410"/>
                  <a:pt x="3758" y="8459"/>
                  <a:pt x="3770" y="8508"/>
                </a:cubicBezTo>
              </a:path>
              <a:path w="1688" h="423">
                <a:moveTo>
                  <a:pt x="3845" y="8384"/>
                </a:moveTo>
                <a:cubicBezTo>
                  <a:pt x="3909" y="8384"/>
                  <a:pt x="3941" y="8374"/>
                  <a:pt x="3994" y="8334"/>
                </a:cubicBezTo>
                <a:cubicBezTo>
                  <a:pt x="4022" y="8313"/>
                  <a:pt x="4065" y="8248"/>
                  <a:pt x="4043" y="8210"/>
                </a:cubicBezTo>
                <a:cubicBezTo>
                  <a:pt x="4009" y="8149"/>
                  <a:pt x="3940" y="8190"/>
                  <a:pt x="3919" y="8235"/>
                </a:cubicBezTo>
                <a:cubicBezTo>
                  <a:pt x="3887" y="8304"/>
                  <a:pt x="3954" y="8367"/>
                  <a:pt x="3994" y="8409"/>
                </a:cubicBezTo>
                <a:cubicBezTo>
                  <a:pt x="4063" y="8482"/>
                  <a:pt x="4123" y="8483"/>
                  <a:pt x="4217" y="8483"/>
                </a:cubicBezTo>
                <a:cubicBezTo>
                  <a:pt x="4275" y="8483"/>
                  <a:pt x="4283" y="8483"/>
                  <a:pt x="4316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90840" y="2955960"/>
            <a:ext cx="135000" cy="125280"/>
          </a:xfrm>
          <a:custGeom>
            <a:avLst/>
            <a:gdLst/>
            <a:ahLst/>
            <a:rect l="l" t="t" r="r" b="b"/>
            <a:pathLst>
              <a:path w="373" h="349">
                <a:moveTo>
                  <a:pt x="7268" y="8434"/>
                </a:moveTo>
                <a:cubicBezTo>
                  <a:pt x="7293" y="8434"/>
                  <a:pt x="7301" y="8434"/>
                  <a:pt x="7293" y="8409"/>
                </a:cubicBezTo>
                <a:cubicBezTo>
                  <a:pt x="7169" y="8409"/>
                  <a:pt x="7045" y="8409"/>
                  <a:pt x="6921" y="8409"/>
                </a:cubicBezTo>
              </a:path>
              <a:path w="373" h="349">
                <a:moveTo>
                  <a:pt x="6995" y="8210"/>
                </a:moveTo>
                <a:cubicBezTo>
                  <a:pt x="7060" y="8242"/>
                  <a:pt x="7067" y="8308"/>
                  <a:pt x="7069" y="8384"/>
                </a:cubicBezTo>
                <a:cubicBezTo>
                  <a:pt x="7069" y="8476"/>
                  <a:pt x="7067" y="8503"/>
                  <a:pt x="7094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5080" y="2919240"/>
            <a:ext cx="1019160" cy="376560"/>
          </a:xfrm>
          <a:custGeom>
            <a:avLst/>
            <a:gdLst/>
            <a:ahLst/>
            <a:rect l="l" t="t" r="r" b="b"/>
            <a:pathLst>
              <a:path w="2829" h="1043">
                <a:moveTo>
                  <a:pt x="9054" y="8359"/>
                </a:moveTo>
                <a:cubicBezTo>
                  <a:pt x="9074" y="8319"/>
                  <a:pt x="9083" y="8313"/>
                  <a:pt x="9079" y="8285"/>
                </a:cubicBezTo>
                <a:cubicBezTo>
                  <a:pt x="9021" y="8285"/>
                  <a:pt x="8991" y="8306"/>
                  <a:pt x="8954" y="8359"/>
                </a:cubicBezTo>
                <a:cubicBezTo>
                  <a:pt x="8923" y="8403"/>
                  <a:pt x="8875" y="8527"/>
                  <a:pt x="8905" y="8582"/>
                </a:cubicBezTo>
                <a:cubicBezTo>
                  <a:pt x="8948" y="8661"/>
                  <a:pt x="9002" y="8657"/>
                  <a:pt x="9079" y="8657"/>
                </a:cubicBezTo>
                <a:cubicBezTo>
                  <a:pt x="9123" y="8657"/>
                  <a:pt x="9137" y="8660"/>
                  <a:pt x="9153" y="8632"/>
                </a:cubicBezTo>
              </a:path>
              <a:path w="2829" h="1043">
                <a:moveTo>
                  <a:pt x="9302" y="8434"/>
                </a:moveTo>
                <a:cubicBezTo>
                  <a:pt x="9302" y="8503"/>
                  <a:pt x="9297" y="8500"/>
                  <a:pt x="9351" y="8558"/>
                </a:cubicBezTo>
                <a:cubicBezTo>
                  <a:pt x="9426" y="8639"/>
                  <a:pt x="9413" y="8583"/>
                  <a:pt x="9475" y="8558"/>
                </a:cubicBezTo>
                <a:cubicBezTo>
                  <a:pt x="9564" y="8523"/>
                  <a:pt x="9595" y="8598"/>
                  <a:pt x="9624" y="8657"/>
                </a:cubicBezTo>
                <a:cubicBezTo>
                  <a:pt x="9682" y="8773"/>
                  <a:pt x="9741" y="8920"/>
                  <a:pt x="9723" y="9054"/>
                </a:cubicBezTo>
                <a:cubicBezTo>
                  <a:pt x="9704" y="9199"/>
                  <a:pt x="9575" y="9151"/>
                  <a:pt x="9475" y="9128"/>
                </a:cubicBezTo>
                <a:cubicBezTo>
                  <a:pt x="9379" y="9106"/>
                  <a:pt x="9228" y="9071"/>
                  <a:pt x="9203" y="8954"/>
                </a:cubicBezTo>
                <a:cubicBezTo>
                  <a:pt x="9203" y="8929"/>
                  <a:pt x="9203" y="8905"/>
                  <a:pt x="9203" y="8880"/>
                </a:cubicBezTo>
              </a:path>
              <a:path w="2829" h="1043">
                <a:moveTo>
                  <a:pt x="9823" y="8186"/>
                </a:moveTo>
                <a:cubicBezTo>
                  <a:pt x="9823" y="8175"/>
                  <a:pt x="9823" y="8069"/>
                  <a:pt x="9823" y="8136"/>
                </a:cubicBezTo>
                <a:cubicBezTo>
                  <a:pt x="9823" y="8215"/>
                  <a:pt x="9839" y="8283"/>
                  <a:pt x="9847" y="8359"/>
                </a:cubicBezTo>
                <a:cubicBezTo>
                  <a:pt x="9856" y="8446"/>
                  <a:pt x="9853" y="8555"/>
                  <a:pt x="9897" y="8632"/>
                </a:cubicBezTo>
                <a:cubicBezTo>
                  <a:pt x="9920" y="8655"/>
                  <a:pt x="9928" y="8659"/>
                  <a:pt x="9922" y="8682"/>
                </a:cubicBezTo>
              </a:path>
              <a:path w="2829" h="1043">
                <a:moveTo>
                  <a:pt x="9996" y="8508"/>
                </a:moveTo>
                <a:cubicBezTo>
                  <a:pt x="10013" y="8508"/>
                  <a:pt x="10029" y="8508"/>
                  <a:pt x="10046" y="8508"/>
                </a:cubicBezTo>
                <a:cubicBezTo>
                  <a:pt x="10056" y="8548"/>
                  <a:pt x="10079" y="8619"/>
                  <a:pt x="10096" y="8657"/>
                </a:cubicBezTo>
                <a:cubicBezTo>
                  <a:pt x="10104" y="8665"/>
                  <a:pt x="10112" y="8674"/>
                  <a:pt x="10120" y="8682"/>
                </a:cubicBezTo>
              </a:path>
              <a:path w="2829" h="1043">
                <a:moveTo>
                  <a:pt x="10120" y="8458"/>
                </a:moveTo>
                <a:cubicBezTo>
                  <a:pt x="10107" y="8401"/>
                  <a:pt x="10051" y="8322"/>
                  <a:pt x="10096" y="8285"/>
                </a:cubicBezTo>
                <a:cubicBezTo>
                  <a:pt x="10104" y="8285"/>
                  <a:pt x="10112" y="8285"/>
                  <a:pt x="10120" y="8285"/>
                </a:cubicBezTo>
              </a:path>
              <a:path w="2829" h="1043">
                <a:moveTo>
                  <a:pt x="10244" y="8508"/>
                </a:moveTo>
                <a:cubicBezTo>
                  <a:pt x="10252" y="8586"/>
                  <a:pt x="10274" y="8616"/>
                  <a:pt x="10294" y="8682"/>
                </a:cubicBezTo>
                <a:cubicBezTo>
                  <a:pt x="10306" y="8720"/>
                  <a:pt x="10313" y="8637"/>
                  <a:pt x="10319" y="8607"/>
                </a:cubicBezTo>
                <a:cubicBezTo>
                  <a:pt x="10325" y="8576"/>
                  <a:pt x="10332" y="8499"/>
                  <a:pt x="10393" y="8533"/>
                </a:cubicBezTo>
                <a:cubicBezTo>
                  <a:pt x="10461" y="8571"/>
                  <a:pt x="10483" y="8613"/>
                  <a:pt x="10517" y="8682"/>
                </a:cubicBezTo>
              </a:path>
              <a:path w="2829" h="1043">
                <a:moveTo>
                  <a:pt x="10641" y="8458"/>
                </a:moveTo>
                <a:cubicBezTo>
                  <a:pt x="10609" y="8450"/>
                  <a:pt x="10597" y="8440"/>
                  <a:pt x="10592" y="8533"/>
                </a:cubicBezTo>
                <a:cubicBezTo>
                  <a:pt x="10590" y="8577"/>
                  <a:pt x="10615" y="8698"/>
                  <a:pt x="10691" y="8657"/>
                </a:cubicBezTo>
                <a:cubicBezTo>
                  <a:pt x="10759" y="8621"/>
                  <a:pt x="10762" y="8539"/>
                  <a:pt x="10765" y="8458"/>
                </a:cubicBezTo>
                <a:cubicBezTo>
                  <a:pt x="10769" y="8360"/>
                  <a:pt x="10759" y="8278"/>
                  <a:pt x="10790" y="8186"/>
                </a:cubicBezTo>
                <a:cubicBezTo>
                  <a:pt x="10790" y="8236"/>
                  <a:pt x="10790" y="8235"/>
                  <a:pt x="10790" y="8285"/>
                </a:cubicBezTo>
                <a:cubicBezTo>
                  <a:pt x="10790" y="8381"/>
                  <a:pt x="10799" y="8445"/>
                  <a:pt x="10840" y="8533"/>
                </a:cubicBezTo>
                <a:cubicBezTo>
                  <a:pt x="10872" y="8601"/>
                  <a:pt x="10851" y="8680"/>
                  <a:pt x="10939" y="8706"/>
                </a:cubicBezTo>
                <a:cubicBezTo>
                  <a:pt x="10993" y="8722"/>
                  <a:pt x="11046" y="8703"/>
                  <a:pt x="11088" y="8682"/>
                </a:cubicBezTo>
                <a:cubicBezTo>
                  <a:pt x="11118" y="8667"/>
                  <a:pt x="11201" y="8620"/>
                  <a:pt x="11212" y="8582"/>
                </a:cubicBezTo>
                <a:cubicBezTo>
                  <a:pt x="11218" y="8560"/>
                  <a:pt x="11209" y="8531"/>
                  <a:pt x="11212" y="8508"/>
                </a:cubicBezTo>
                <a:cubicBezTo>
                  <a:pt x="11172" y="8497"/>
                  <a:pt x="11092" y="8499"/>
                  <a:pt x="11063" y="8558"/>
                </a:cubicBezTo>
                <a:cubicBezTo>
                  <a:pt x="11042" y="8600"/>
                  <a:pt x="11055" y="8718"/>
                  <a:pt x="11088" y="8756"/>
                </a:cubicBezTo>
                <a:cubicBezTo>
                  <a:pt x="11128" y="8803"/>
                  <a:pt x="11243" y="8789"/>
                  <a:pt x="11286" y="8756"/>
                </a:cubicBezTo>
                <a:cubicBezTo>
                  <a:pt x="11340" y="8714"/>
                  <a:pt x="11372" y="8647"/>
                  <a:pt x="11435" y="8632"/>
                </a:cubicBezTo>
                <a:cubicBezTo>
                  <a:pt x="11467" y="8625"/>
                  <a:pt x="11501" y="8644"/>
                  <a:pt x="11509" y="8657"/>
                </a:cubicBezTo>
                <a:cubicBezTo>
                  <a:pt x="11509" y="8665"/>
                  <a:pt x="11509" y="8674"/>
                  <a:pt x="11509" y="8682"/>
                </a:cubicBezTo>
                <a:cubicBezTo>
                  <a:pt x="11525" y="8639"/>
                  <a:pt x="11527" y="8594"/>
                  <a:pt x="11559" y="8558"/>
                </a:cubicBezTo>
                <a:cubicBezTo>
                  <a:pt x="11621" y="8487"/>
                  <a:pt x="11647" y="8451"/>
                  <a:pt x="11733" y="84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6120" y="3017880"/>
            <a:ext cx="135000" cy="13500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14139" y="8607"/>
                </a:moveTo>
                <a:cubicBezTo>
                  <a:pt x="14100" y="8597"/>
                  <a:pt x="14084" y="8582"/>
                  <a:pt x="14039" y="8582"/>
                </a:cubicBezTo>
                <a:cubicBezTo>
                  <a:pt x="13949" y="8582"/>
                  <a:pt x="13868" y="8583"/>
                  <a:pt x="13791" y="8558"/>
                </a:cubicBezTo>
                <a:cubicBezTo>
                  <a:pt x="13783" y="8558"/>
                  <a:pt x="13775" y="8558"/>
                  <a:pt x="13767" y="8558"/>
                </a:cubicBezTo>
              </a:path>
              <a:path w="373" h="373">
                <a:moveTo>
                  <a:pt x="13940" y="8384"/>
                </a:moveTo>
                <a:cubicBezTo>
                  <a:pt x="13940" y="8464"/>
                  <a:pt x="13923" y="8531"/>
                  <a:pt x="13915" y="8607"/>
                </a:cubicBezTo>
                <a:cubicBezTo>
                  <a:pt x="13915" y="8682"/>
                  <a:pt x="13915" y="8706"/>
                  <a:pt x="13915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43720" y="2955960"/>
            <a:ext cx="206280" cy="411120"/>
          </a:xfrm>
          <a:custGeom>
            <a:avLst/>
            <a:gdLst/>
            <a:ahLst/>
            <a:rect l="l" t="t" r="r" b="b"/>
            <a:pathLst>
              <a:path w="571" h="1142">
                <a:moveTo>
                  <a:pt x="15925" y="8210"/>
                </a:moveTo>
                <a:cubicBezTo>
                  <a:pt x="15925" y="8326"/>
                  <a:pt x="15925" y="8442"/>
                  <a:pt x="15925" y="8558"/>
                </a:cubicBezTo>
              </a:path>
              <a:path w="571" h="1142">
                <a:moveTo>
                  <a:pt x="16247" y="8781"/>
                </a:moveTo>
                <a:cubicBezTo>
                  <a:pt x="16234" y="8820"/>
                  <a:pt x="16200" y="8827"/>
                  <a:pt x="16148" y="8830"/>
                </a:cubicBezTo>
                <a:cubicBezTo>
                  <a:pt x="15992" y="8839"/>
                  <a:pt x="15833" y="8830"/>
                  <a:pt x="15677" y="8830"/>
                </a:cubicBezTo>
              </a:path>
              <a:path w="571" h="1142">
                <a:moveTo>
                  <a:pt x="15900" y="9054"/>
                </a:moveTo>
                <a:cubicBezTo>
                  <a:pt x="15875" y="9054"/>
                  <a:pt x="15867" y="9054"/>
                  <a:pt x="15850" y="9054"/>
                </a:cubicBezTo>
                <a:cubicBezTo>
                  <a:pt x="15881" y="9030"/>
                  <a:pt x="15933" y="8989"/>
                  <a:pt x="15974" y="8979"/>
                </a:cubicBezTo>
                <a:cubicBezTo>
                  <a:pt x="16020" y="8968"/>
                  <a:pt x="16077" y="8982"/>
                  <a:pt x="16098" y="9029"/>
                </a:cubicBezTo>
                <a:cubicBezTo>
                  <a:pt x="16119" y="9077"/>
                  <a:pt x="16076" y="9142"/>
                  <a:pt x="16049" y="9178"/>
                </a:cubicBezTo>
                <a:cubicBezTo>
                  <a:pt x="16024" y="9212"/>
                  <a:pt x="15966" y="9239"/>
                  <a:pt x="15949" y="9277"/>
                </a:cubicBezTo>
                <a:cubicBezTo>
                  <a:pt x="15949" y="9285"/>
                  <a:pt x="15949" y="9294"/>
                  <a:pt x="15949" y="9302"/>
                </a:cubicBezTo>
                <a:cubicBezTo>
                  <a:pt x="15986" y="9330"/>
                  <a:pt x="16050" y="9343"/>
                  <a:pt x="16098" y="9351"/>
                </a:cubicBezTo>
                <a:cubicBezTo>
                  <a:pt x="16144" y="9358"/>
                  <a:pt x="16200" y="9351"/>
                  <a:pt x="16247" y="9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97760" y="3009960"/>
            <a:ext cx="776160" cy="365040"/>
          </a:xfrm>
          <a:custGeom>
            <a:avLst/>
            <a:gdLst/>
            <a:ahLst/>
            <a:rect l="l" t="t" r="r" b="b"/>
            <a:pathLst>
              <a:path w="2159" h="1018">
                <a:moveTo>
                  <a:pt x="17338" y="8731"/>
                </a:moveTo>
                <a:cubicBezTo>
                  <a:pt x="17361" y="8708"/>
                  <a:pt x="17365" y="8700"/>
                  <a:pt x="17388" y="8706"/>
                </a:cubicBezTo>
                <a:cubicBezTo>
                  <a:pt x="17337" y="8706"/>
                  <a:pt x="17330" y="8707"/>
                  <a:pt x="17289" y="8731"/>
                </a:cubicBezTo>
                <a:cubicBezTo>
                  <a:pt x="17255" y="8750"/>
                  <a:pt x="17170" y="8794"/>
                  <a:pt x="17214" y="8855"/>
                </a:cubicBezTo>
                <a:cubicBezTo>
                  <a:pt x="17227" y="8872"/>
                  <a:pt x="17339" y="8901"/>
                  <a:pt x="17363" y="8905"/>
                </a:cubicBezTo>
                <a:cubicBezTo>
                  <a:pt x="17395" y="8910"/>
                  <a:pt x="17472" y="8918"/>
                  <a:pt x="17438" y="8979"/>
                </a:cubicBezTo>
                <a:cubicBezTo>
                  <a:pt x="17417" y="9017"/>
                  <a:pt x="17374" y="9004"/>
                  <a:pt x="17338" y="9004"/>
                </a:cubicBezTo>
                <a:cubicBezTo>
                  <a:pt x="17313" y="9004"/>
                  <a:pt x="17289" y="9004"/>
                  <a:pt x="17264" y="9004"/>
                </a:cubicBezTo>
              </a:path>
              <a:path w="2159" h="1018">
                <a:moveTo>
                  <a:pt x="17611" y="8930"/>
                </a:moveTo>
                <a:cubicBezTo>
                  <a:pt x="17631" y="8889"/>
                  <a:pt x="17629" y="8873"/>
                  <a:pt x="17661" y="8880"/>
                </a:cubicBezTo>
                <a:cubicBezTo>
                  <a:pt x="17661" y="9025"/>
                  <a:pt x="17667" y="9162"/>
                  <a:pt x="17686" y="9302"/>
                </a:cubicBezTo>
                <a:cubicBezTo>
                  <a:pt x="17686" y="9343"/>
                  <a:pt x="17686" y="9351"/>
                  <a:pt x="17686" y="9376"/>
                </a:cubicBezTo>
              </a:path>
              <a:path w="2159" h="1018">
                <a:moveTo>
                  <a:pt x="17661" y="8855"/>
                </a:moveTo>
                <a:cubicBezTo>
                  <a:pt x="17659" y="8834"/>
                  <a:pt x="17622" y="8730"/>
                  <a:pt x="17636" y="8706"/>
                </a:cubicBezTo>
                <a:cubicBezTo>
                  <a:pt x="17650" y="8682"/>
                  <a:pt x="17709" y="8668"/>
                  <a:pt x="17735" y="8682"/>
                </a:cubicBezTo>
                <a:cubicBezTo>
                  <a:pt x="17804" y="8719"/>
                  <a:pt x="17806" y="8788"/>
                  <a:pt x="17810" y="8855"/>
                </a:cubicBezTo>
                <a:cubicBezTo>
                  <a:pt x="17813" y="8907"/>
                  <a:pt x="17783" y="8949"/>
                  <a:pt x="17735" y="8954"/>
                </a:cubicBezTo>
                <a:cubicBezTo>
                  <a:pt x="17704" y="8957"/>
                  <a:pt x="17667" y="8954"/>
                  <a:pt x="17636" y="8954"/>
                </a:cubicBezTo>
              </a:path>
              <a:path w="2159" h="1018">
                <a:moveTo>
                  <a:pt x="17983" y="8384"/>
                </a:moveTo>
                <a:cubicBezTo>
                  <a:pt x="18023" y="8371"/>
                  <a:pt x="17993" y="8372"/>
                  <a:pt x="18033" y="8359"/>
                </a:cubicBezTo>
                <a:cubicBezTo>
                  <a:pt x="18033" y="8495"/>
                  <a:pt x="18023" y="8624"/>
                  <a:pt x="18008" y="8756"/>
                </a:cubicBezTo>
                <a:cubicBezTo>
                  <a:pt x="18000" y="8831"/>
                  <a:pt x="18018" y="8870"/>
                  <a:pt x="18033" y="8930"/>
                </a:cubicBezTo>
                <a:cubicBezTo>
                  <a:pt x="18063" y="8880"/>
                  <a:pt x="18063" y="8830"/>
                  <a:pt x="18107" y="8781"/>
                </a:cubicBezTo>
                <a:cubicBezTo>
                  <a:pt x="18154" y="8729"/>
                  <a:pt x="18180" y="8757"/>
                  <a:pt x="18207" y="8806"/>
                </a:cubicBezTo>
                <a:cubicBezTo>
                  <a:pt x="18235" y="8857"/>
                  <a:pt x="18256" y="8897"/>
                  <a:pt x="18256" y="8954"/>
                </a:cubicBezTo>
                <a:cubicBezTo>
                  <a:pt x="18256" y="8962"/>
                  <a:pt x="18256" y="8971"/>
                  <a:pt x="18256" y="8979"/>
                </a:cubicBezTo>
              </a:path>
              <a:path w="2159" h="1018">
                <a:moveTo>
                  <a:pt x="18256" y="8930"/>
                </a:moveTo>
                <a:cubicBezTo>
                  <a:pt x="18330" y="8930"/>
                  <a:pt x="18415" y="8948"/>
                  <a:pt x="18479" y="8905"/>
                </a:cubicBezTo>
                <a:cubicBezTo>
                  <a:pt x="18506" y="8887"/>
                  <a:pt x="18526" y="8820"/>
                  <a:pt x="18479" y="8806"/>
                </a:cubicBezTo>
                <a:cubicBezTo>
                  <a:pt x="18396" y="8781"/>
                  <a:pt x="18405" y="8854"/>
                  <a:pt x="18405" y="8905"/>
                </a:cubicBezTo>
                <a:cubicBezTo>
                  <a:pt x="18405" y="8961"/>
                  <a:pt x="18446" y="9014"/>
                  <a:pt x="18504" y="9029"/>
                </a:cubicBezTo>
                <a:cubicBezTo>
                  <a:pt x="18557" y="9043"/>
                  <a:pt x="18631" y="8999"/>
                  <a:pt x="18678" y="8979"/>
                </a:cubicBezTo>
              </a:path>
              <a:path w="2159" h="1018">
                <a:moveTo>
                  <a:pt x="18802" y="8880"/>
                </a:moveTo>
                <a:cubicBezTo>
                  <a:pt x="18802" y="8919"/>
                  <a:pt x="18823" y="8958"/>
                  <a:pt x="18802" y="8930"/>
                </a:cubicBezTo>
                <a:cubicBezTo>
                  <a:pt x="18782" y="8902"/>
                  <a:pt x="18751" y="8856"/>
                  <a:pt x="18802" y="8830"/>
                </a:cubicBezTo>
                <a:cubicBezTo>
                  <a:pt x="18859" y="8802"/>
                  <a:pt x="18955" y="8840"/>
                  <a:pt x="19000" y="8855"/>
                </a:cubicBezTo>
                <a:cubicBezTo>
                  <a:pt x="19013" y="8859"/>
                  <a:pt x="19083" y="8901"/>
                  <a:pt x="19100" y="8880"/>
                </a:cubicBezTo>
                <a:cubicBezTo>
                  <a:pt x="19117" y="8859"/>
                  <a:pt x="19137" y="8788"/>
                  <a:pt x="19124" y="8756"/>
                </a:cubicBezTo>
                <a:cubicBezTo>
                  <a:pt x="19111" y="8723"/>
                  <a:pt x="19077" y="8713"/>
                  <a:pt x="19050" y="8706"/>
                </a:cubicBezTo>
                <a:cubicBezTo>
                  <a:pt x="19000" y="8768"/>
                  <a:pt x="18973" y="8830"/>
                  <a:pt x="19025" y="8905"/>
                </a:cubicBezTo>
                <a:cubicBezTo>
                  <a:pt x="19071" y="8972"/>
                  <a:pt x="19148" y="9045"/>
                  <a:pt x="19224" y="9054"/>
                </a:cubicBezTo>
                <a:cubicBezTo>
                  <a:pt x="19286" y="9061"/>
                  <a:pt x="19325" y="9036"/>
                  <a:pt x="19372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3960" y="3321000"/>
            <a:ext cx="106200" cy="73080"/>
          </a:xfrm>
          <a:custGeom>
            <a:avLst/>
            <a:gdLst/>
            <a:ahLst/>
            <a:rect l="l" t="t" r="r" b="b"/>
            <a:pathLst>
              <a:path w="299" h="200">
                <a:moveTo>
                  <a:pt x="2232" y="9252"/>
                </a:moveTo>
                <a:cubicBezTo>
                  <a:pt x="2157" y="9252"/>
                  <a:pt x="2097" y="9248"/>
                  <a:pt x="2034" y="9227"/>
                </a:cubicBezTo>
                <a:cubicBezTo>
                  <a:pt x="2026" y="9227"/>
                  <a:pt x="2017" y="9227"/>
                  <a:pt x="2009" y="9227"/>
                </a:cubicBezTo>
              </a:path>
              <a:path w="299" h="200">
                <a:moveTo>
                  <a:pt x="2282" y="9376"/>
                </a:moveTo>
                <a:cubicBezTo>
                  <a:pt x="2290" y="9376"/>
                  <a:pt x="2299" y="9376"/>
                  <a:pt x="2307" y="9376"/>
                </a:cubicBezTo>
                <a:cubicBezTo>
                  <a:pt x="2254" y="9416"/>
                  <a:pt x="2217" y="9378"/>
                  <a:pt x="2158" y="9401"/>
                </a:cubicBezTo>
                <a:cubicBezTo>
                  <a:pt x="2130" y="9429"/>
                  <a:pt x="2117" y="9438"/>
                  <a:pt x="2084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00080" y="3197160"/>
            <a:ext cx="1044720" cy="357120"/>
          </a:xfrm>
          <a:custGeom>
            <a:avLst/>
            <a:gdLst/>
            <a:ahLst/>
            <a:rect l="l" t="t" r="r" b="b"/>
            <a:pathLst>
              <a:path w="2903" h="993">
                <a:moveTo>
                  <a:pt x="2877" y="8979"/>
                </a:moveTo>
                <a:cubicBezTo>
                  <a:pt x="2877" y="8946"/>
                  <a:pt x="2877" y="8913"/>
                  <a:pt x="2877" y="8880"/>
                </a:cubicBezTo>
                <a:cubicBezTo>
                  <a:pt x="2877" y="8970"/>
                  <a:pt x="2882" y="9044"/>
                  <a:pt x="2902" y="9128"/>
                </a:cubicBezTo>
                <a:cubicBezTo>
                  <a:pt x="2902" y="9163"/>
                  <a:pt x="2907" y="9181"/>
                  <a:pt x="2927" y="9203"/>
                </a:cubicBezTo>
              </a:path>
              <a:path w="2903" h="993">
                <a:moveTo>
                  <a:pt x="3150" y="9327"/>
                </a:moveTo>
                <a:cubicBezTo>
                  <a:pt x="3053" y="9327"/>
                  <a:pt x="2968" y="9330"/>
                  <a:pt x="2877" y="9351"/>
                </a:cubicBezTo>
                <a:cubicBezTo>
                  <a:pt x="2825" y="9363"/>
                  <a:pt x="2794" y="9328"/>
                  <a:pt x="2778" y="9376"/>
                </a:cubicBezTo>
              </a:path>
              <a:path w="2903" h="993">
                <a:moveTo>
                  <a:pt x="2877" y="9500"/>
                </a:moveTo>
                <a:cubicBezTo>
                  <a:pt x="2939" y="9500"/>
                  <a:pt x="2999" y="9489"/>
                  <a:pt x="3026" y="9525"/>
                </a:cubicBezTo>
                <a:cubicBezTo>
                  <a:pt x="3049" y="9548"/>
                  <a:pt x="3057" y="9552"/>
                  <a:pt x="3051" y="9575"/>
                </a:cubicBezTo>
                <a:cubicBezTo>
                  <a:pt x="3028" y="9581"/>
                  <a:pt x="2973" y="9587"/>
                  <a:pt x="2952" y="9599"/>
                </a:cubicBezTo>
                <a:cubicBezTo>
                  <a:pt x="2929" y="9622"/>
                  <a:pt x="2921" y="9626"/>
                  <a:pt x="2927" y="9649"/>
                </a:cubicBezTo>
                <a:cubicBezTo>
                  <a:pt x="2998" y="9649"/>
                  <a:pt x="3002" y="9651"/>
                  <a:pt x="3051" y="9699"/>
                </a:cubicBezTo>
                <a:cubicBezTo>
                  <a:pt x="3090" y="9737"/>
                  <a:pt x="3101" y="9745"/>
                  <a:pt x="3101" y="9798"/>
                </a:cubicBezTo>
                <a:cubicBezTo>
                  <a:pt x="3057" y="9798"/>
                  <a:pt x="2950" y="9819"/>
                  <a:pt x="2927" y="9773"/>
                </a:cubicBezTo>
                <a:cubicBezTo>
                  <a:pt x="2927" y="9765"/>
                  <a:pt x="2927" y="9756"/>
                  <a:pt x="2927" y="9748"/>
                </a:cubicBezTo>
              </a:path>
              <a:path w="2903" h="993">
                <a:moveTo>
                  <a:pt x="3547" y="9376"/>
                </a:moveTo>
                <a:cubicBezTo>
                  <a:pt x="3527" y="9349"/>
                  <a:pt x="3522" y="9282"/>
                  <a:pt x="3522" y="9327"/>
                </a:cubicBezTo>
                <a:cubicBezTo>
                  <a:pt x="3522" y="9400"/>
                  <a:pt x="3536" y="9458"/>
                  <a:pt x="3547" y="9525"/>
                </a:cubicBezTo>
                <a:cubicBezTo>
                  <a:pt x="3555" y="9573"/>
                  <a:pt x="3562" y="9583"/>
                  <a:pt x="3572" y="9624"/>
                </a:cubicBezTo>
              </a:path>
              <a:path w="2903" h="993">
                <a:moveTo>
                  <a:pt x="3696" y="9302"/>
                </a:moveTo>
                <a:cubicBezTo>
                  <a:pt x="3696" y="9260"/>
                  <a:pt x="3688" y="9244"/>
                  <a:pt x="3721" y="9252"/>
                </a:cubicBezTo>
                <a:cubicBezTo>
                  <a:pt x="3721" y="9308"/>
                  <a:pt x="3683" y="9331"/>
                  <a:pt x="3671" y="9376"/>
                </a:cubicBezTo>
                <a:cubicBezTo>
                  <a:pt x="3653" y="9443"/>
                  <a:pt x="3678" y="9502"/>
                  <a:pt x="3721" y="9550"/>
                </a:cubicBezTo>
                <a:cubicBezTo>
                  <a:pt x="3759" y="9592"/>
                  <a:pt x="3773" y="9616"/>
                  <a:pt x="3820" y="9575"/>
                </a:cubicBezTo>
                <a:cubicBezTo>
                  <a:pt x="3846" y="9552"/>
                  <a:pt x="3870" y="9525"/>
                  <a:pt x="3894" y="9500"/>
                </a:cubicBezTo>
              </a:path>
              <a:path w="2903" h="993">
                <a:moveTo>
                  <a:pt x="3820" y="9227"/>
                </a:moveTo>
                <a:cubicBezTo>
                  <a:pt x="3809" y="9195"/>
                  <a:pt x="3765" y="9189"/>
                  <a:pt x="3721" y="9203"/>
                </a:cubicBezTo>
                <a:cubicBezTo>
                  <a:pt x="3648" y="9226"/>
                  <a:pt x="3576" y="9249"/>
                  <a:pt x="3497" y="9252"/>
                </a:cubicBezTo>
                <a:cubicBezTo>
                  <a:pt x="3424" y="9255"/>
                  <a:pt x="3391" y="9264"/>
                  <a:pt x="3324" y="9277"/>
                </a:cubicBezTo>
              </a:path>
              <a:path w="2903" h="993">
                <a:moveTo>
                  <a:pt x="4192" y="9277"/>
                </a:moveTo>
                <a:cubicBezTo>
                  <a:pt x="4200" y="9244"/>
                  <a:pt x="4229" y="9211"/>
                  <a:pt x="4266" y="9203"/>
                </a:cubicBezTo>
                <a:cubicBezTo>
                  <a:pt x="4308" y="9194"/>
                  <a:pt x="4394" y="9159"/>
                  <a:pt x="4440" y="9178"/>
                </a:cubicBezTo>
                <a:cubicBezTo>
                  <a:pt x="4486" y="9197"/>
                  <a:pt x="4505" y="9258"/>
                  <a:pt x="4490" y="9302"/>
                </a:cubicBezTo>
                <a:cubicBezTo>
                  <a:pt x="4467" y="9370"/>
                  <a:pt x="4391" y="9410"/>
                  <a:pt x="4366" y="9475"/>
                </a:cubicBezTo>
                <a:cubicBezTo>
                  <a:pt x="4366" y="9500"/>
                  <a:pt x="4366" y="9508"/>
                  <a:pt x="4366" y="9525"/>
                </a:cubicBezTo>
                <a:cubicBezTo>
                  <a:pt x="4425" y="9534"/>
                  <a:pt x="4463" y="9548"/>
                  <a:pt x="4514" y="9575"/>
                </a:cubicBezTo>
                <a:cubicBezTo>
                  <a:pt x="4545" y="9591"/>
                  <a:pt x="4619" y="9620"/>
                  <a:pt x="4589" y="9674"/>
                </a:cubicBezTo>
                <a:cubicBezTo>
                  <a:pt x="4565" y="9718"/>
                  <a:pt x="4482" y="9699"/>
                  <a:pt x="4440" y="9699"/>
                </a:cubicBezTo>
                <a:cubicBezTo>
                  <a:pt x="4407" y="9699"/>
                  <a:pt x="4391" y="9699"/>
                  <a:pt x="4366" y="9699"/>
                </a:cubicBezTo>
              </a:path>
              <a:path w="2903" h="993">
                <a:moveTo>
                  <a:pt x="4663" y="9103"/>
                </a:moveTo>
                <a:cubicBezTo>
                  <a:pt x="4638" y="9103"/>
                  <a:pt x="4630" y="9103"/>
                  <a:pt x="4614" y="9103"/>
                </a:cubicBezTo>
                <a:cubicBezTo>
                  <a:pt x="4647" y="9092"/>
                  <a:pt x="4645" y="9068"/>
                  <a:pt x="4688" y="9054"/>
                </a:cubicBezTo>
                <a:cubicBezTo>
                  <a:pt x="4732" y="9039"/>
                  <a:pt x="4758" y="9063"/>
                  <a:pt x="4762" y="9103"/>
                </a:cubicBezTo>
                <a:cubicBezTo>
                  <a:pt x="4767" y="9146"/>
                  <a:pt x="4718" y="9179"/>
                  <a:pt x="4713" y="9227"/>
                </a:cubicBezTo>
                <a:cubicBezTo>
                  <a:pt x="4709" y="9263"/>
                  <a:pt x="4656" y="9299"/>
                  <a:pt x="4713" y="9327"/>
                </a:cubicBezTo>
                <a:cubicBezTo>
                  <a:pt x="4753" y="9347"/>
                  <a:pt x="4785" y="9311"/>
                  <a:pt x="4812" y="9302"/>
                </a:cubicBezTo>
                <a:cubicBezTo>
                  <a:pt x="4840" y="9302"/>
                  <a:pt x="4851" y="9300"/>
                  <a:pt x="4862" y="9277"/>
                </a:cubicBezTo>
              </a:path>
              <a:path w="2903" h="993">
                <a:moveTo>
                  <a:pt x="5060" y="9451"/>
                </a:moveTo>
                <a:cubicBezTo>
                  <a:pt x="5060" y="9443"/>
                  <a:pt x="5060" y="9434"/>
                  <a:pt x="5060" y="9426"/>
                </a:cubicBezTo>
                <a:cubicBezTo>
                  <a:pt x="5027" y="9459"/>
                  <a:pt x="5007" y="9493"/>
                  <a:pt x="4986" y="9525"/>
                </a:cubicBezTo>
                <a:cubicBezTo>
                  <a:pt x="4963" y="9559"/>
                  <a:pt x="4946" y="9561"/>
                  <a:pt x="4936" y="9599"/>
                </a:cubicBezTo>
              </a:path>
              <a:path w="2903" h="993">
                <a:moveTo>
                  <a:pt x="5110" y="9575"/>
                </a:moveTo>
                <a:cubicBezTo>
                  <a:pt x="5078" y="9551"/>
                  <a:pt x="5040" y="9545"/>
                  <a:pt x="5011" y="9525"/>
                </a:cubicBezTo>
                <a:cubicBezTo>
                  <a:pt x="4974" y="9500"/>
                  <a:pt x="4981" y="9500"/>
                  <a:pt x="4936" y="9500"/>
                </a:cubicBezTo>
              </a:path>
              <a:path w="2903" h="993">
                <a:moveTo>
                  <a:pt x="5283" y="9302"/>
                </a:moveTo>
                <a:cubicBezTo>
                  <a:pt x="5308" y="9302"/>
                  <a:pt x="5316" y="9302"/>
                  <a:pt x="5333" y="9302"/>
                </a:cubicBezTo>
                <a:cubicBezTo>
                  <a:pt x="5333" y="9387"/>
                  <a:pt x="5302" y="9537"/>
                  <a:pt x="5358" y="9599"/>
                </a:cubicBezTo>
                <a:cubicBezTo>
                  <a:pt x="5380" y="9624"/>
                  <a:pt x="5422" y="9636"/>
                  <a:pt x="5457" y="9624"/>
                </a:cubicBezTo>
                <a:cubicBezTo>
                  <a:pt x="5482" y="9615"/>
                  <a:pt x="5559" y="9611"/>
                  <a:pt x="5581" y="9599"/>
                </a:cubicBezTo>
                <a:cubicBezTo>
                  <a:pt x="5613" y="9582"/>
                  <a:pt x="5716" y="9575"/>
                  <a:pt x="5680" y="9575"/>
                </a:cubicBezTo>
                <a:cubicBezTo>
                  <a:pt x="5672" y="9575"/>
                  <a:pt x="5663" y="9575"/>
                  <a:pt x="5655" y="9575"/>
                </a:cubicBezTo>
              </a:path>
              <a:path w="2903" h="993">
                <a:moveTo>
                  <a:pt x="5507" y="9525"/>
                </a:moveTo>
                <a:cubicBezTo>
                  <a:pt x="5467" y="9538"/>
                  <a:pt x="5482" y="9573"/>
                  <a:pt x="5482" y="9624"/>
                </a:cubicBezTo>
                <a:cubicBezTo>
                  <a:pt x="5482" y="9715"/>
                  <a:pt x="5475" y="9789"/>
                  <a:pt x="5507" y="98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33760" y="3438360"/>
            <a:ext cx="117360" cy="88920"/>
          </a:xfrm>
          <a:custGeom>
            <a:avLst/>
            <a:gdLst/>
            <a:ahLst/>
            <a:rect l="l" t="t" r="r" b="b"/>
            <a:pathLst>
              <a:path w="324" h="249">
                <a:moveTo>
                  <a:pt x="7640" y="9674"/>
                </a:moveTo>
                <a:cubicBezTo>
                  <a:pt x="7532" y="9674"/>
                  <a:pt x="7425" y="9674"/>
                  <a:pt x="7317" y="9674"/>
                </a:cubicBezTo>
              </a:path>
              <a:path w="324" h="249">
                <a:moveTo>
                  <a:pt x="7392" y="9550"/>
                </a:moveTo>
                <a:cubicBezTo>
                  <a:pt x="7426" y="9595"/>
                  <a:pt x="7438" y="9639"/>
                  <a:pt x="7441" y="9699"/>
                </a:cubicBezTo>
                <a:cubicBezTo>
                  <a:pt x="7441" y="9748"/>
                  <a:pt x="7441" y="9765"/>
                  <a:pt x="7441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1800" y="3463920"/>
            <a:ext cx="179280" cy="171360"/>
          </a:xfrm>
          <a:custGeom>
            <a:avLst/>
            <a:gdLst/>
            <a:ahLst/>
            <a:rect l="l" t="t" r="r" b="b"/>
            <a:pathLst>
              <a:path w="497" h="473">
                <a:moveTo>
                  <a:pt x="9128" y="9674"/>
                </a:moveTo>
                <a:cubicBezTo>
                  <a:pt x="9128" y="9649"/>
                  <a:pt x="9128" y="9641"/>
                  <a:pt x="9128" y="9624"/>
                </a:cubicBezTo>
                <a:cubicBezTo>
                  <a:pt x="9128" y="9693"/>
                  <a:pt x="9111" y="9731"/>
                  <a:pt x="9103" y="9798"/>
                </a:cubicBezTo>
                <a:cubicBezTo>
                  <a:pt x="9092" y="9890"/>
                  <a:pt x="9079" y="9977"/>
                  <a:pt x="9079" y="10071"/>
                </a:cubicBezTo>
                <a:cubicBezTo>
                  <a:pt x="9079" y="10079"/>
                  <a:pt x="9079" y="10088"/>
                  <a:pt x="9079" y="10096"/>
                </a:cubicBezTo>
              </a:path>
              <a:path w="497" h="473">
                <a:moveTo>
                  <a:pt x="9252" y="9674"/>
                </a:moveTo>
                <a:cubicBezTo>
                  <a:pt x="9260" y="9674"/>
                  <a:pt x="9269" y="9674"/>
                  <a:pt x="9277" y="9674"/>
                </a:cubicBezTo>
                <a:cubicBezTo>
                  <a:pt x="9266" y="9718"/>
                  <a:pt x="9230" y="9747"/>
                  <a:pt x="9227" y="9798"/>
                </a:cubicBezTo>
                <a:cubicBezTo>
                  <a:pt x="9224" y="9854"/>
                  <a:pt x="9207" y="9976"/>
                  <a:pt x="9252" y="10021"/>
                </a:cubicBezTo>
                <a:cubicBezTo>
                  <a:pt x="9289" y="10058"/>
                  <a:pt x="9361" y="10098"/>
                  <a:pt x="9401" y="10046"/>
                </a:cubicBezTo>
                <a:cubicBezTo>
                  <a:pt x="9437" y="9998"/>
                  <a:pt x="9465" y="9971"/>
                  <a:pt x="9500" y="9922"/>
                </a:cubicBezTo>
              </a:path>
              <a:path w="497" h="473">
                <a:moveTo>
                  <a:pt x="9426" y="9649"/>
                </a:moveTo>
                <a:cubicBezTo>
                  <a:pt x="9414" y="9613"/>
                  <a:pt x="9350" y="9611"/>
                  <a:pt x="9302" y="9624"/>
                </a:cubicBezTo>
                <a:cubicBezTo>
                  <a:pt x="9218" y="9648"/>
                  <a:pt x="9145" y="9649"/>
                  <a:pt x="9054" y="9649"/>
                </a:cubicBezTo>
                <a:cubicBezTo>
                  <a:pt x="9037" y="9649"/>
                  <a:pt x="9021" y="9649"/>
                  <a:pt x="9004" y="9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71920" y="3384720"/>
            <a:ext cx="696960" cy="258480"/>
          </a:xfrm>
          <a:custGeom>
            <a:avLst/>
            <a:gdLst/>
            <a:ahLst/>
            <a:rect l="l" t="t" r="r" b="b"/>
            <a:pathLst>
              <a:path w="1936" h="720">
                <a:moveTo>
                  <a:pt x="9996" y="9649"/>
                </a:moveTo>
                <a:cubicBezTo>
                  <a:pt x="9971" y="9649"/>
                  <a:pt x="9947" y="9649"/>
                  <a:pt x="9922" y="9649"/>
                </a:cubicBezTo>
                <a:cubicBezTo>
                  <a:pt x="9936" y="9594"/>
                  <a:pt x="9969" y="9577"/>
                  <a:pt x="10021" y="9550"/>
                </a:cubicBezTo>
                <a:cubicBezTo>
                  <a:pt x="10088" y="9515"/>
                  <a:pt x="10125" y="9479"/>
                  <a:pt x="10195" y="9525"/>
                </a:cubicBezTo>
                <a:cubicBezTo>
                  <a:pt x="10265" y="9572"/>
                  <a:pt x="10235" y="9621"/>
                  <a:pt x="10220" y="9674"/>
                </a:cubicBezTo>
                <a:cubicBezTo>
                  <a:pt x="10206" y="9723"/>
                  <a:pt x="10160" y="9752"/>
                  <a:pt x="10145" y="9798"/>
                </a:cubicBezTo>
                <a:cubicBezTo>
                  <a:pt x="10126" y="9856"/>
                  <a:pt x="10179" y="9875"/>
                  <a:pt x="10220" y="9897"/>
                </a:cubicBezTo>
                <a:cubicBezTo>
                  <a:pt x="10250" y="9913"/>
                  <a:pt x="10333" y="9958"/>
                  <a:pt x="10344" y="9996"/>
                </a:cubicBezTo>
                <a:cubicBezTo>
                  <a:pt x="10358" y="10045"/>
                  <a:pt x="10340" y="10086"/>
                  <a:pt x="10294" y="10096"/>
                </a:cubicBezTo>
                <a:cubicBezTo>
                  <a:pt x="10222" y="10111"/>
                  <a:pt x="10160" y="10086"/>
                  <a:pt x="10096" y="10071"/>
                </a:cubicBezTo>
                <a:cubicBezTo>
                  <a:pt x="10088" y="10071"/>
                  <a:pt x="10079" y="10071"/>
                  <a:pt x="10071" y="10071"/>
                </a:cubicBezTo>
              </a:path>
              <a:path w="1936" h="720">
                <a:moveTo>
                  <a:pt x="10492" y="9500"/>
                </a:moveTo>
                <a:cubicBezTo>
                  <a:pt x="10492" y="9475"/>
                  <a:pt x="10492" y="9467"/>
                  <a:pt x="10492" y="9451"/>
                </a:cubicBezTo>
                <a:cubicBezTo>
                  <a:pt x="10543" y="9438"/>
                  <a:pt x="10557" y="9401"/>
                  <a:pt x="10616" y="9401"/>
                </a:cubicBezTo>
                <a:cubicBezTo>
                  <a:pt x="10657" y="9401"/>
                  <a:pt x="10681" y="9434"/>
                  <a:pt x="10666" y="9475"/>
                </a:cubicBezTo>
                <a:cubicBezTo>
                  <a:pt x="10647" y="9529"/>
                  <a:pt x="10641" y="9544"/>
                  <a:pt x="10641" y="9599"/>
                </a:cubicBezTo>
                <a:cubicBezTo>
                  <a:pt x="10641" y="9624"/>
                  <a:pt x="10641" y="9632"/>
                  <a:pt x="10641" y="9649"/>
                </a:cubicBezTo>
                <a:cubicBezTo>
                  <a:pt x="10677" y="9649"/>
                  <a:pt x="10713" y="9642"/>
                  <a:pt x="10740" y="9624"/>
                </a:cubicBezTo>
                <a:cubicBezTo>
                  <a:pt x="10748" y="9616"/>
                  <a:pt x="10757" y="9607"/>
                  <a:pt x="10765" y="9599"/>
                </a:cubicBezTo>
              </a:path>
              <a:path w="1936" h="720">
                <a:moveTo>
                  <a:pt x="11063" y="9773"/>
                </a:moveTo>
                <a:cubicBezTo>
                  <a:pt x="11071" y="9765"/>
                  <a:pt x="11080" y="9756"/>
                  <a:pt x="11088" y="9748"/>
                </a:cubicBezTo>
                <a:cubicBezTo>
                  <a:pt x="11051" y="9757"/>
                  <a:pt x="11011" y="9786"/>
                  <a:pt x="10988" y="9823"/>
                </a:cubicBezTo>
                <a:cubicBezTo>
                  <a:pt x="10964" y="9861"/>
                  <a:pt x="10944" y="9931"/>
                  <a:pt x="10939" y="9971"/>
                </a:cubicBezTo>
                <a:cubicBezTo>
                  <a:pt x="10939" y="9979"/>
                  <a:pt x="10939" y="9988"/>
                  <a:pt x="10939" y="9996"/>
                </a:cubicBezTo>
              </a:path>
              <a:path w="1936" h="720">
                <a:moveTo>
                  <a:pt x="11112" y="9947"/>
                </a:moveTo>
                <a:cubicBezTo>
                  <a:pt x="11112" y="9939"/>
                  <a:pt x="11112" y="9930"/>
                  <a:pt x="11112" y="9922"/>
                </a:cubicBezTo>
                <a:cubicBezTo>
                  <a:pt x="11060" y="9909"/>
                  <a:pt x="11027" y="9897"/>
                  <a:pt x="10964" y="9897"/>
                </a:cubicBezTo>
                <a:cubicBezTo>
                  <a:pt x="10939" y="9897"/>
                  <a:pt x="10931" y="9897"/>
                  <a:pt x="10914" y="9897"/>
                </a:cubicBezTo>
              </a:path>
              <a:path w="1936" h="720">
                <a:moveTo>
                  <a:pt x="11237" y="9550"/>
                </a:moveTo>
                <a:cubicBezTo>
                  <a:pt x="11274" y="9563"/>
                  <a:pt x="11258" y="9575"/>
                  <a:pt x="11311" y="9575"/>
                </a:cubicBezTo>
                <a:cubicBezTo>
                  <a:pt x="11407" y="9575"/>
                  <a:pt x="11495" y="9561"/>
                  <a:pt x="11584" y="9550"/>
                </a:cubicBezTo>
                <a:cubicBezTo>
                  <a:pt x="11665" y="9540"/>
                  <a:pt x="11744" y="9548"/>
                  <a:pt x="11807" y="9599"/>
                </a:cubicBezTo>
                <a:cubicBezTo>
                  <a:pt x="11876" y="9655"/>
                  <a:pt x="11856" y="9704"/>
                  <a:pt x="11832" y="9773"/>
                </a:cubicBezTo>
                <a:cubicBezTo>
                  <a:pt x="11802" y="9859"/>
                  <a:pt x="11751" y="9958"/>
                  <a:pt x="11733" y="10046"/>
                </a:cubicBezTo>
                <a:cubicBezTo>
                  <a:pt x="11733" y="10087"/>
                  <a:pt x="11733" y="10095"/>
                  <a:pt x="11733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75120" y="3554280"/>
            <a:ext cx="98640" cy="11592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13767" y="10046"/>
                </a:moveTo>
                <a:cubicBezTo>
                  <a:pt x="13783" y="10046"/>
                  <a:pt x="13800" y="10046"/>
                  <a:pt x="13816" y="10046"/>
                </a:cubicBezTo>
                <a:cubicBezTo>
                  <a:pt x="13740" y="10046"/>
                  <a:pt x="13682" y="10052"/>
                  <a:pt x="13618" y="10071"/>
                </a:cubicBezTo>
                <a:cubicBezTo>
                  <a:pt x="13598" y="10077"/>
                  <a:pt x="13564" y="10071"/>
                  <a:pt x="13543" y="10071"/>
                </a:cubicBezTo>
              </a:path>
              <a:path w="274" h="324">
                <a:moveTo>
                  <a:pt x="13643" y="9872"/>
                </a:moveTo>
                <a:cubicBezTo>
                  <a:pt x="13696" y="9890"/>
                  <a:pt x="13653" y="9965"/>
                  <a:pt x="13667" y="10021"/>
                </a:cubicBezTo>
                <a:cubicBezTo>
                  <a:pt x="13682" y="10083"/>
                  <a:pt x="13692" y="10128"/>
                  <a:pt x="13692" y="101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57880" y="3473280"/>
            <a:ext cx="401400" cy="331920"/>
          </a:xfrm>
          <a:custGeom>
            <a:avLst/>
            <a:gdLst/>
            <a:ahLst/>
            <a:rect l="l" t="t" r="r" b="b"/>
            <a:pathLst>
              <a:path w="1117" h="919">
                <a:moveTo>
                  <a:pt x="15032" y="9723"/>
                </a:moveTo>
                <a:cubicBezTo>
                  <a:pt x="15032" y="9668"/>
                  <a:pt x="15032" y="9623"/>
                  <a:pt x="15032" y="9699"/>
                </a:cubicBezTo>
                <a:cubicBezTo>
                  <a:pt x="15032" y="9775"/>
                  <a:pt x="15040" y="9827"/>
                  <a:pt x="15056" y="9897"/>
                </a:cubicBezTo>
                <a:cubicBezTo>
                  <a:pt x="15056" y="9905"/>
                  <a:pt x="15056" y="9914"/>
                  <a:pt x="15056" y="9922"/>
                </a:cubicBezTo>
              </a:path>
              <a:path w="1117" h="919">
                <a:moveTo>
                  <a:pt x="15280" y="9947"/>
                </a:moveTo>
                <a:cubicBezTo>
                  <a:pt x="15280" y="10023"/>
                  <a:pt x="15266" y="9999"/>
                  <a:pt x="15205" y="10021"/>
                </a:cubicBezTo>
                <a:cubicBezTo>
                  <a:pt x="15136" y="10046"/>
                  <a:pt x="15053" y="10059"/>
                  <a:pt x="14982" y="10071"/>
                </a:cubicBezTo>
                <a:cubicBezTo>
                  <a:pt x="14953" y="10076"/>
                  <a:pt x="14914" y="10071"/>
                  <a:pt x="14883" y="10071"/>
                </a:cubicBezTo>
              </a:path>
              <a:path w="1117" h="919">
                <a:moveTo>
                  <a:pt x="15007" y="10269"/>
                </a:moveTo>
                <a:cubicBezTo>
                  <a:pt x="14980" y="10305"/>
                  <a:pt x="14949" y="10319"/>
                  <a:pt x="14982" y="10319"/>
                </a:cubicBezTo>
                <a:cubicBezTo>
                  <a:pt x="15045" y="10319"/>
                  <a:pt x="15085" y="10294"/>
                  <a:pt x="15156" y="10294"/>
                </a:cubicBezTo>
                <a:cubicBezTo>
                  <a:pt x="15209" y="10294"/>
                  <a:pt x="15219" y="10376"/>
                  <a:pt x="15205" y="10418"/>
                </a:cubicBezTo>
                <a:cubicBezTo>
                  <a:pt x="15187" y="10472"/>
                  <a:pt x="15143" y="10492"/>
                  <a:pt x="15131" y="10542"/>
                </a:cubicBezTo>
                <a:cubicBezTo>
                  <a:pt x="15184" y="10582"/>
                  <a:pt x="15218" y="10570"/>
                  <a:pt x="15280" y="10542"/>
                </a:cubicBezTo>
                <a:cubicBezTo>
                  <a:pt x="15344" y="10513"/>
                  <a:pt x="15433" y="10502"/>
                  <a:pt x="15503" y="10492"/>
                </a:cubicBezTo>
                <a:cubicBezTo>
                  <a:pt x="15520" y="10492"/>
                  <a:pt x="15536" y="10492"/>
                  <a:pt x="15553" y="10492"/>
                </a:cubicBezTo>
              </a:path>
              <a:path w="1117" h="919">
                <a:moveTo>
                  <a:pt x="15974" y="10046"/>
                </a:moveTo>
                <a:cubicBezTo>
                  <a:pt x="15944" y="10077"/>
                  <a:pt x="15911" y="10122"/>
                  <a:pt x="15875" y="10145"/>
                </a:cubicBezTo>
                <a:cubicBezTo>
                  <a:pt x="15817" y="10182"/>
                  <a:pt x="15809" y="10196"/>
                  <a:pt x="15776" y="10244"/>
                </a:cubicBezTo>
                <a:cubicBezTo>
                  <a:pt x="15768" y="10252"/>
                  <a:pt x="15759" y="10261"/>
                  <a:pt x="15751" y="10269"/>
                </a:cubicBezTo>
              </a:path>
              <a:path w="1117" h="919">
                <a:moveTo>
                  <a:pt x="15999" y="10244"/>
                </a:moveTo>
                <a:cubicBezTo>
                  <a:pt x="15950" y="10209"/>
                  <a:pt x="15911" y="10198"/>
                  <a:pt x="15850" y="10170"/>
                </a:cubicBezTo>
                <a:cubicBezTo>
                  <a:pt x="15794" y="10145"/>
                  <a:pt x="15753" y="10103"/>
                  <a:pt x="15701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8120" y="3490920"/>
            <a:ext cx="750960" cy="393840"/>
          </a:xfrm>
          <a:custGeom>
            <a:avLst/>
            <a:gdLst/>
            <a:ahLst/>
            <a:rect l="l" t="t" r="r" b="b"/>
            <a:pathLst>
              <a:path w="2085" h="1092">
                <a:moveTo>
                  <a:pt x="16743" y="9723"/>
                </a:moveTo>
                <a:cubicBezTo>
                  <a:pt x="16751" y="9715"/>
                  <a:pt x="16760" y="9707"/>
                  <a:pt x="16768" y="9699"/>
                </a:cubicBezTo>
                <a:cubicBezTo>
                  <a:pt x="16756" y="9756"/>
                  <a:pt x="16728" y="9815"/>
                  <a:pt x="16718" y="9872"/>
                </a:cubicBezTo>
                <a:cubicBezTo>
                  <a:pt x="16710" y="9918"/>
                  <a:pt x="16702" y="10017"/>
                  <a:pt x="16743" y="10046"/>
                </a:cubicBezTo>
                <a:cubicBezTo>
                  <a:pt x="16816" y="10096"/>
                  <a:pt x="16864" y="10057"/>
                  <a:pt x="16942" y="10046"/>
                </a:cubicBezTo>
                <a:cubicBezTo>
                  <a:pt x="16989" y="10039"/>
                  <a:pt x="17043" y="10046"/>
                  <a:pt x="17090" y="10046"/>
                </a:cubicBezTo>
              </a:path>
              <a:path w="2085" h="1092">
                <a:moveTo>
                  <a:pt x="16991" y="9922"/>
                </a:moveTo>
                <a:cubicBezTo>
                  <a:pt x="16983" y="9922"/>
                  <a:pt x="16974" y="9922"/>
                  <a:pt x="16966" y="9922"/>
                </a:cubicBezTo>
                <a:cubicBezTo>
                  <a:pt x="16966" y="9996"/>
                  <a:pt x="16966" y="10071"/>
                  <a:pt x="16966" y="10145"/>
                </a:cubicBezTo>
              </a:path>
              <a:path w="2085" h="1092">
                <a:moveTo>
                  <a:pt x="17264" y="10319"/>
                </a:moveTo>
                <a:cubicBezTo>
                  <a:pt x="17249" y="10363"/>
                  <a:pt x="17193" y="10344"/>
                  <a:pt x="17140" y="10344"/>
                </a:cubicBezTo>
                <a:cubicBezTo>
                  <a:pt x="17016" y="10344"/>
                  <a:pt x="16892" y="10344"/>
                  <a:pt x="16768" y="10344"/>
                </a:cubicBezTo>
              </a:path>
              <a:path w="2085" h="1092">
                <a:moveTo>
                  <a:pt x="16966" y="10443"/>
                </a:moveTo>
                <a:cubicBezTo>
                  <a:pt x="16980" y="10471"/>
                  <a:pt x="16989" y="10443"/>
                  <a:pt x="17041" y="10443"/>
                </a:cubicBezTo>
                <a:cubicBezTo>
                  <a:pt x="17077" y="10443"/>
                  <a:pt x="17144" y="10427"/>
                  <a:pt x="17165" y="10468"/>
                </a:cubicBezTo>
                <a:cubicBezTo>
                  <a:pt x="17188" y="10513"/>
                  <a:pt x="17139" y="10520"/>
                  <a:pt x="17115" y="10542"/>
                </a:cubicBezTo>
                <a:cubicBezTo>
                  <a:pt x="17080" y="10573"/>
                  <a:pt x="17088" y="10626"/>
                  <a:pt x="17140" y="10641"/>
                </a:cubicBezTo>
                <a:cubicBezTo>
                  <a:pt x="17186" y="10654"/>
                  <a:pt x="17238" y="10659"/>
                  <a:pt x="17264" y="10716"/>
                </a:cubicBezTo>
                <a:cubicBezTo>
                  <a:pt x="17283" y="10758"/>
                  <a:pt x="17251" y="10787"/>
                  <a:pt x="17214" y="10790"/>
                </a:cubicBezTo>
                <a:cubicBezTo>
                  <a:pt x="17155" y="10794"/>
                  <a:pt x="17133" y="10774"/>
                  <a:pt x="17090" y="10740"/>
                </a:cubicBezTo>
              </a:path>
              <a:path w="2085" h="1092">
                <a:moveTo>
                  <a:pt x="17859" y="10220"/>
                </a:moveTo>
                <a:cubicBezTo>
                  <a:pt x="17867" y="10212"/>
                  <a:pt x="17876" y="10203"/>
                  <a:pt x="17884" y="10195"/>
                </a:cubicBezTo>
                <a:cubicBezTo>
                  <a:pt x="17823" y="10244"/>
                  <a:pt x="17789" y="10285"/>
                  <a:pt x="17735" y="10344"/>
                </a:cubicBezTo>
                <a:cubicBezTo>
                  <a:pt x="17707" y="10375"/>
                  <a:pt x="17711" y="10378"/>
                  <a:pt x="17711" y="10418"/>
                </a:cubicBezTo>
              </a:path>
              <a:path w="2085" h="1092">
                <a:moveTo>
                  <a:pt x="17859" y="10418"/>
                </a:moveTo>
                <a:cubicBezTo>
                  <a:pt x="17859" y="10393"/>
                  <a:pt x="17859" y="10385"/>
                  <a:pt x="17859" y="10368"/>
                </a:cubicBezTo>
                <a:cubicBezTo>
                  <a:pt x="17820" y="10358"/>
                  <a:pt x="17747" y="10336"/>
                  <a:pt x="17711" y="10319"/>
                </a:cubicBezTo>
                <a:cubicBezTo>
                  <a:pt x="17673" y="10301"/>
                  <a:pt x="17650" y="10260"/>
                  <a:pt x="17611" y="10244"/>
                </a:cubicBezTo>
              </a:path>
              <a:path w="2085" h="1092">
                <a:moveTo>
                  <a:pt x="18231" y="10046"/>
                </a:moveTo>
                <a:cubicBezTo>
                  <a:pt x="18239" y="10046"/>
                  <a:pt x="18248" y="10046"/>
                  <a:pt x="18256" y="10046"/>
                </a:cubicBezTo>
                <a:cubicBezTo>
                  <a:pt x="18269" y="10097"/>
                  <a:pt x="18281" y="10109"/>
                  <a:pt x="18281" y="10170"/>
                </a:cubicBezTo>
                <a:cubicBezTo>
                  <a:pt x="18281" y="10245"/>
                  <a:pt x="18262" y="10334"/>
                  <a:pt x="18306" y="10393"/>
                </a:cubicBezTo>
              </a:path>
              <a:path w="2085" h="1092">
                <a:moveTo>
                  <a:pt x="18554" y="10021"/>
                </a:moveTo>
                <a:cubicBezTo>
                  <a:pt x="18525" y="10069"/>
                  <a:pt x="18488" y="10159"/>
                  <a:pt x="18479" y="10220"/>
                </a:cubicBezTo>
                <a:cubicBezTo>
                  <a:pt x="18469" y="10284"/>
                  <a:pt x="18498" y="10378"/>
                  <a:pt x="18554" y="10418"/>
                </a:cubicBezTo>
                <a:cubicBezTo>
                  <a:pt x="18622" y="10466"/>
                  <a:pt x="18690" y="10436"/>
                  <a:pt x="18752" y="10393"/>
                </a:cubicBezTo>
                <a:cubicBezTo>
                  <a:pt x="18777" y="10368"/>
                  <a:pt x="18785" y="10360"/>
                  <a:pt x="18802" y="10344"/>
                </a:cubicBezTo>
              </a:path>
              <a:path w="2085" h="1092">
                <a:moveTo>
                  <a:pt x="18728" y="10071"/>
                </a:moveTo>
                <a:cubicBezTo>
                  <a:pt x="18711" y="10021"/>
                  <a:pt x="18659" y="10068"/>
                  <a:pt x="18604" y="10071"/>
                </a:cubicBezTo>
                <a:cubicBezTo>
                  <a:pt x="18448" y="10080"/>
                  <a:pt x="18289" y="10071"/>
                  <a:pt x="18132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29280" y="3527280"/>
            <a:ext cx="492120" cy="277920"/>
          </a:xfrm>
          <a:custGeom>
            <a:avLst/>
            <a:gdLst/>
            <a:ahLst/>
            <a:rect l="l" t="t" r="r" b="b"/>
            <a:pathLst>
              <a:path w="1366" h="770">
                <a:moveTo>
                  <a:pt x="19422" y="10244"/>
                </a:moveTo>
                <a:cubicBezTo>
                  <a:pt x="19422" y="10220"/>
                  <a:pt x="19422" y="10212"/>
                  <a:pt x="19447" y="10220"/>
                </a:cubicBezTo>
                <a:cubicBezTo>
                  <a:pt x="19402" y="10231"/>
                  <a:pt x="19382" y="10260"/>
                  <a:pt x="19348" y="10294"/>
                </a:cubicBezTo>
                <a:cubicBezTo>
                  <a:pt x="19330" y="10313"/>
                  <a:pt x="19282" y="10387"/>
                  <a:pt x="19273" y="10393"/>
                </a:cubicBezTo>
                <a:cubicBezTo>
                  <a:pt x="19265" y="10393"/>
                  <a:pt x="19256" y="10393"/>
                  <a:pt x="19248" y="10393"/>
                </a:cubicBezTo>
              </a:path>
              <a:path w="1366" h="770">
                <a:moveTo>
                  <a:pt x="19422" y="10393"/>
                </a:moveTo>
                <a:cubicBezTo>
                  <a:pt x="19430" y="10393"/>
                  <a:pt x="19439" y="10393"/>
                  <a:pt x="19447" y="10393"/>
                </a:cubicBezTo>
                <a:cubicBezTo>
                  <a:pt x="19425" y="10371"/>
                  <a:pt x="19376" y="10302"/>
                  <a:pt x="19348" y="10294"/>
                </a:cubicBezTo>
                <a:cubicBezTo>
                  <a:pt x="19303" y="10294"/>
                  <a:pt x="19290" y="10297"/>
                  <a:pt x="19273" y="10269"/>
                </a:cubicBezTo>
              </a:path>
              <a:path w="1366" h="770">
                <a:moveTo>
                  <a:pt x="19819" y="10046"/>
                </a:moveTo>
                <a:cubicBezTo>
                  <a:pt x="19819" y="10092"/>
                  <a:pt x="19827" y="10030"/>
                  <a:pt x="19869" y="10021"/>
                </a:cubicBezTo>
                <a:cubicBezTo>
                  <a:pt x="19928" y="10008"/>
                  <a:pt x="19980" y="9996"/>
                  <a:pt x="20042" y="9996"/>
                </a:cubicBezTo>
                <a:cubicBezTo>
                  <a:pt x="20105" y="9996"/>
                  <a:pt x="20092" y="10048"/>
                  <a:pt x="20092" y="10096"/>
                </a:cubicBezTo>
                <a:cubicBezTo>
                  <a:pt x="20092" y="10141"/>
                  <a:pt x="20030" y="10196"/>
                  <a:pt x="19993" y="10220"/>
                </a:cubicBezTo>
                <a:cubicBezTo>
                  <a:pt x="19950" y="10248"/>
                  <a:pt x="19882" y="10273"/>
                  <a:pt x="19918" y="10344"/>
                </a:cubicBezTo>
                <a:cubicBezTo>
                  <a:pt x="19944" y="10396"/>
                  <a:pt x="20025" y="10390"/>
                  <a:pt x="20067" y="10418"/>
                </a:cubicBezTo>
                <a:cubicBezTo>
                  <a:pt x="20108" y="10446"/>
                  <a:pt x="20151" y="10506"/>
                  <a:pt x="20092" y="10542"/>
                </a:cubicBezTo>
                <a:cubicBezTo>
                  <a:pt x="20057" y="10564"/>
                  <a:pt x="19990" y="10580"/>
                  <a:pt x="19943" y="10567"/>
                </a:cubicBezTo>
                <a:cubicBezTo>
                  <a:pt x="19902" y="10555"/>
                  <a:pt x="19875" y="10540"/>
                  <a:pt x="19844" y="10517"/>
                </a:cubicBezTo>
              </a:path>
              <a:path w="1366" h="770">
                <a:moveTo>
                  <a:pt x="20414" y="9872"/>
                </a:moveTo>
                <a:cubicBezTo>
                  <a:pt x="20414" y="9829"/>
                  <a:pt x="20420" y="9813"/>
                  <a:pt x="20464" y="9798"/>
                </a:cubicBezTo>
                <a:cubicBezTo>
                  <a:pt x="20520" y="9779"/>
                  <a:pt x="20546" y="9814"/>
                  <a:pt x="20563" y="9823"/>
                </a:cubicBezTo>
                <a:cubicBezTo>
                  <a:pt x="20599" y="9841"/>
                  <a:pt x="20598" y="9858"/>
                  <a:pt x="20563" y="9897"/>
                </a:cubicBezTo>
                <a:cubicBezTo>
                  <a:pt x="20535" y="9928"/>
                  <a:pt x="20527" y="9922"/>
                  <a:pt x="20489" y="9922"/>
                </a:cubicBezTo>
                <a:cubicBezTo>
                  <a:pt x="20489" y="9982"/>
                  <a:pt x="20498" y="9969"/>
                  <a:pt x="20538" y="9996"/>
                </a:cubicBezTo>
                <a:cubicBezTo>
                  <a:pt x="20572" y="10019"/>
                  <a:pt x="20609" y="10058"/>
                  <a:pt x="20613" y="10096"/>
                </a:cubicBezTo>
                <a:cubicBezTo>
                  <a:pt x="20613" y="10120"/>
                  <a:pt x="20613" y="10129"/>
                  <a:pt x="20613" y="10145"/>
                </a:cubicBezTo>
                <a:cubicBezTo>
                  <a:pt x="20548" y="10145"/>
                  <a:pt x="20549" y="10146"/>
                  <a:pt x="20489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8880" y="3786120"/>
            <a:ext cx="98280" cy="63720"/>
          </a:xfrm>
          <a:custGeom>
            <a:avLst/>
            <a:gdLst/>
            <a:ahLst/>
            <a:rect l="l" t="t" r="r" b="b"/>
            <a:pathLst>
              <a:path w="274" h="175">
                <a:moveTo>
                  <a:pt x="2332" y="10542"/>
                </a:moveTo>
                <a:cubicBezTo>
                  <a:pt x="2340" y="10534"/>
                  <a:pt x="2348" y="10525"/>
                  <a:pt x="2356" y="10517"/>
                </a:cubicBezTo>
                <a:cubicBezTo>
                  <a:pt x="2309" y="10517"/>
                  <a:pt x="2293" y="10534"/>
                  <a:pt x="2257" y="10542"/>
                </a:cubicBezTo>
                <a:cubicBezTo>
                  <a:pt x="2203" y="10554"/>
                  <a:pt x="2168" y="10567"/>
                  <a:pt x="2108" y="10567"/>
                </a:cubicBezTo>
              </a:path>
              <a:path w="274" h="175">
                <a:moveTo>
                  <a:pt x="2381" y="10666"/>
                </a:moveTo>
                <a:cubicBezTo>
                  <a:pt x="2319" y="10666"/>
                  <a:pt x="2291" y="10676"/>
                  <a:pt x="2232" y="10691"/>
                </a:cubicBezTo>
                <a:cubicBezTo>
                  <a:pt x="2199" y="10691"/>
                  <a:pt x="2183" y="10691"/>
                  <a:pt x="2158" y="10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54080" y="3786120"/>
            <a:ext cx="500040" cy="142920"/>
          </a:xfrm>
          <a:custGeom>
            <a:avLst/>
            <a:gdLst/>
            <a:ahLst/>
            <a:rect l="l" t="t" r="r" b="b"/>
            <a:pathLst>
              <a:path w="1390" h="398">
                <a:moveTo>
                  <a:pt x="3001" y="10666"/>
                </a:moveTo>
                <a:cubicBezTo>
                  <a:pt x="2962" y="10679"/>
                  <a:pt x="2991" y="10678"/>
                  <a:pt x="2952" y="10691"/>
                </a:cubicBezTo>
                <a:cubicBezTo>
                  <a:pt x="2930" y="10684"/>
                  <a:pt x="2907" y="10652"/>
                  <a:pt x="2927" y="10616"/>
                </a:cubicBezTo>
                <a:cubicBezTo>
                  <a:pt x="2953" y="10570"/>
                  <a:pt x="3029" y="10531"/>
                  <a:pt x="3076" y="10517"/>
                </a:cubicBezTo>
                <a:cubicBezTo>
                  <a:pt x="3115" y="10505"/>
                  <a:pt x="3186" y="10520"/>
                  <a:pt x="3200" y="10567"/>
                </a:cubicBezTo>
                <a:cubicBezTo>
                  <a:pt x="3221" y="10641"/>
                  <a:pt x="3183" y="10685"/>
                  <a:pt x="3150" y="10740"/>
                </a:cubicBezTo>
                <a:cubicBezTo>
                  <a:pt x="3117" y="10795"/>
                  <a:pt x="3076" y="10825"/>
                  <a:pt x="3076" y="10889"/>
                </a:cubicBezTo>
                <a:cubicBezTo>
                  <a:pt x="3076" y="10897"/>
                  <a:pt x="3076" y="10906"/>
                  <a:pt x="3076" y="10914"/>
                </a:cubicBezTo>
                <a:cubicBezTo>
                  <a:pt x="3159" y="10914"/>
                  <a:pt x="3241" y="10914"/>
                  <a:pt x="3324" y="10914"/>
                </a:cubicBezTo>
              </a:path>
              <a:path w="1390" h="398">
                <a:moveTo>
                  <a:pt x="3696" y="10641"/>
                </a:moveTo>
                <a:cubicBezTo>
                  <a:pt x="3704" y="10611"/>
                  <a:pt x="3713" y="10597"/>
                  <a:pt x="3721" y="10567"/>
                </a:cubicBezTo>
                <a:cubicBezTo>
                  <a:pt x="3668" y="10567"/>
                  <a:pt x="3580" y="10545"/>
                  <a:pt x="3547" y="10592"/>
                </a:cubicBezTo>
                <a:cubicBezTo>
                  <a:pt x="3520" y="10630"/>
                  <a:pt x="3497" y="10710"/>
                  <a:pt x="3547" y="10740"/>
                </a:cubicBezTo>
                <a:cubicBezTo>
                  <a:pt x="3582" y="10762"/>
                  <a:pt x="3630" y="10717"/>
                  <a:pt x="3646" y="10691"/>
                </a:cubicBezTo>
                <a:cubicBezTo>
                  <a:pt x="3678" y="10641"/>
                  <a:pt x="3668" y="10629"/>
                  <a:pt x="3721" y="10616"/>
                </a:cubicBezTo>
                <a:cubicBezTo>
                  <a:pt x="3721" y="10683"/>
                  <a:pt x="3736" y="10729"/>
                  <a:pt x="3746" y="10790"/>
                </a:cubicBezTo>
                <a:cubicBezTo>
                  <a:pt x="3756" y="10847"/>
                  <a:pt x="3742" y="10865"/>
                  <a:pt x="3770" y="10914"/>
                </a:cubicBezTo>
              </a:path>
              <a:path w="1390" h="398">
                <a:moveTo>
                  <a:pt x="4068" y="10716"/>
                </a:moveTo>
                <a:cubicBezTo>
                  <a:pt x="4034" y="10691"/>
                  <a:pt x="4008" y="10684"/>
                  <a:pt x="3994" y="10641"/>
                </a:cubicBezTo>
                <a:cubicBezTo>
                  <a:pt x="3983" y="10606"/>
                  <a:pt x="4045" y="10575"/>
                  <a:pt x="4068" y="10567"/>
                </a:cubicBezTo>
                <a:cubicBezTo>
                  <a:pt x="4097" y="10557"/>
                  <a:pt x="4152" y="10563"/>
                  <a:pt x="4167" y="10592"/>
                </a:cubicBezTo>
                <a:cubicBezTo>
                  <a:pt x="4178" y="10613"/>
                  <a:pt x="4131" y="10720"/>
                  <a:pt x="4118" y="10740"/>
                </a:cubicBezTo>
                <a:cubicBezTo>
                  <a:pt x="4095" y="10775"/>
                  <a:pt x="4073" y="10822"/>
                  <a:pt x="4068" y="10864"/>
                </a:cubicBezTo>
                <a:cubicBezTo>
                  <a:pt x="4062" y="10917"/>
                  <a:pt x="4104" y="10914"/>
                  <a:pt x="4142" y="10914"/>
                </a:cubicBezTo>
                <a:cubicBezTo>
                  <a:pt x="4207" y="10914"/>
                  <a:pt x="4228" y="10880"/>
                  <a:pt x="4291" y="10864"/>
                </a:cubicBezTo>
                <a:cubicBezTo>
                  <a:pt x="4299" y="10864"/>
                  <a:pt x="4308" y="10864"/>
                  <a:pt x="4316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87680" y="3795840"/>
            <a:ext cx="233280" cy="169560"/>
          </a:xfrm>
          <a:custGeom>
            <a:avLst/>
            <a:gdLst/>
            <a:ahLst/>
            <a:rect l="l" t="t" r="r" b="b"/>
            <a:pathLst>
              <a:path w="646" h="472">
                <a:moveTo>
                  <a:pt x="4688" y="10889"/>
                </a:moveTo>
                <a:cubicBezTo>
                  <a:pt x="4688" y="10881"/>
                  <a:pt x="4688" y="10872"/>
                  <a:pt x="4688" y="10864"/>
                </a:cubicBezTo>
              </a:path>
              <a:path w="646" h="472">
                <a:moveTo>
                  <a:pt x="4961" y="10716"/>
                </a:moveTo>
                <a:cubicBezTo>
                  <a:pt x="4939" y="10709"/>
                  <a:pt x="4916" y="10677"/>
                  <a:pt x="4936" y="10641"/>
                </a:cubicBezTo>
                <a:cubicBezTo>
                  <a:pt x="4964" y="10590"/>
                  <a:pt x="4982" y="10589"/>
                  <a:pt x="5035" y="10567"/>
                </a:cubicBezTo>
                <a:cubicBezTo>
                  <a:pt x="5082" y="10548"/>
                  <a:pt x="5148" y="10514"/>
                  <a:pt x="5159" y="10592"/>
                </a:cubicBezTo>
                <a:cubicBezTo>
                  <a:pt x="5170" y="10671"/>
                  <a:pt x="5144" y="10722"/>
                  <a:pt x="5110" y="10790"/>
                </a:cubicBezTo>
                <a:cubicBezTo>
                  <a:pt x="5080" y="10851"/>
                  <a:pt x="5085" y="10897"/>
                  <a:pt x="5085" y="10964"/>
                </a:cubicBezTo>
                <a:cubicBezTo>
                  <a:pt x="5085" y="11025"/>
                  <a:pt x="5162" y="11026"/>
                  <a:pt x="5209" y="11013"/>
                </a:cubicBezTo>
                <a:cubicBezTo>
                  <a:pt x="5276" y="10994"/>
                  <a:pt x="5262" y="10988"/>
                  <a:pt x="5333" y="10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70080" y="3786120"/>
            <a:ext cx="465120" cy="187560"/>
          </a:xfrm>
          <a:custGeom>
            <a:avLst/>
            <a:gdLst/>
            <a:ahLst/>
            <a:rect l="l" t="t" r="r" b="b"/>
            <a:pathLst>
              <a:path w="1290" h="522">
                <a:moveTo>
                  <a:pt x="6152" y="10840"/>
                </a:moveTo>
                <a:cubicBezTo>
                  <a:pt x="6160" y="10840"/>
                  <a:pt x="6168" y="10840"/>
                  <a:pt x="6176" y="10840"/>
                </a:cubicBezTo>
                <a:cubicBezTo>
                  <a:pt x="6161" y="10778"/>
                  <a:pt x="6127" y="10775"/>
                  <a:pt x="6077" y="10815"/>
                </a:cubicBezTo>
                <a:cubicBezTo>
                  <a:pt x="6040" y="10845"/>
                  <a:pt x="6008" y="10915"/>
                  <a:pt x="6028" y="10964"/>
                </a:cubicBezTo>
                <a:cubicBezTo>
                  <a:pt x="6056" y="11033"/>
                  <a:pt x="6085" y="11038"/>
                  <a:pt x="6152" y="11038"/>
                </a:cubicBezTo>
                <a:cubicBezTo>
                  <a:pt x="6235" y="11038"/>
                  <a:pt x="6239" y="11006"/>
                  <a:pt x="6300" y="10988"/>
                </a:cubicBezTo>
                <a:cubicBezTo>
                  <a:pt x="6317" y="10988"/>
                  <a:pt x="6333" y="10988"/>
                  <a:pt x="6350" y="10988"/>
                </a:cubicBezTo>
              </a:path>
              <a:path w="1290" h="522">
                <a:moveTo>
                  <a:pt x="6424" y="10889"/>
                </a:moveTo>
                <a:cubicBezTo>
                  <a:pt x="6424" y="10822"/>
                  <a:pt x="6424" y="10928"/>
                  <a:pt x="6424" y="10939"/>
                </a:cubicBezTo>
                <a:cubicBezTo>
                  <a:pt x="6424" y="10980"/>
                  <a:pt x="6424" y="10988"/>
                  <a:pt x="6424" y="11013"/>
                </a:cubicBezTo>
                <a:cubicBezTo>
                  <a:pt x="6477" y="11000"/>
                  <a:pt x="6474" y="10976"/>
                  <a:pt x="6499" y="10939"/>
                </a:cubicBezTo>
                <a:cubicBezTo>
                  <a:pt x="6521" y="10906"/>
                  <a:pt x="6577" y="10898"/>
                  <a:pt x="6598" y="10939"/>
                </a:cubicBezTo>
                <a:cubicBezTo>
                  <a:pt x="6616" y="10975"/>
                  <a:pt x="6603" y="10977"/>
                  <a:pt x="6648" y="10988"/>
                </a:cubicBezTo>
                <a:cubicBezTo>
                  <a:pt x="6653" y="10966"/>
                  <a:pt x="6685" y="10874"/>
                  <a:pt x="6697" y="10864"/>
                </a:cubicBezTo>
                <a:cubicBezTo>
                  <a:pt x="6732" y="10835"/>
                  <a:pt x="6778" y="10896"/>
                  <a:pt x="6796" y="10914"/>
                </a:cubicBezTo>
              </a:path>
              <a:path w="1290" h="522">
                <a:moveTo>
                  <a:pt x="7020" y="10641"/>
                </a:moveTo>
                <a:cubicBezTo>
                  <a:pt x="7020" y="10607"/>
                  <a:pt x="7007" y="10561"/>
                  <a:pt x="7045" y="10542"/>
                </a:cubicBezTo>
                <a:cubicBezTo>
                  <a:pt x="7084" y="10522"/>
                  <a:pt x="7119" y="10517"/>
                  <a:pt x="7169" y="10517"/>
                </a:cubicBezTo>
                <a:cubicBezTo>
                  <a:pt x="7223" y="10517"/>
                  <a:pt x="7261" y="10505"/>
                  <a:pt x="7268" y="10567"/>
                </a:cubicBezTo>
                <a:cubicBezTo>
                  <a:pt x="7272" y="10607"/>
                  <a:pt x="7258" y="10648"/>
                  <a:pt x="7218" y="10666"/>
                </a:cubicBezTo>
                <a:cubicBezTo>
                  <a:pt x="7193" y="10666"/>
                  <a:pt x="7185" y="10666"/>
                  <a:pt x="7193" y="10691"/>
                </a:cubicBezTo>
                <a:cubicBezTo>
                  <a:pt x="7210" y="10704"/>
                  <a:pt x="7286" y="10730"/>
                  <a:pt x="7293" y="10740"/>
                </a:cubicBezTo>
                <a:cubicBezTo>
                  <a:pt x="7304" y="10757"/>
                  <a:pt x="7312" y="10793"/>
                  <a:pt x="7317" y="10815"/>
                </a:cubicBezTo>
                <a:cubicBezTo>
                  <a:pt x="7282" y="10842"/>
                  <a:pt x="7241" y="10861"/>
                  <a:pt x="7193" y="10864"/>
                </a:cubicBezTo>
                <a:cubicBezTo>
                  <a:pt x="7144" y="10864"/>
                  <a:pt x="7127" y="10864"/>
                  <a:pt x="7094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7200" y="4205160"/>
            <a:ext cx="241560" cy="358920"/>
          </a:xfrm>
          <a:custGeom>
            <a:avLst/>
            <a:gdLst/>
            <a:ahLst/>
            <a:rect l="l" t="t" r="r" b="b"/>
            <a:pathLst>
              <a:path w="671" h="993">
                <a:moveTo>
                  <a:pt x="595" y="11956"/>
                </a:moveTo>
                <a:cubicBezTo>
                  <a:pt x="595" y="12076"/>
                  <a:pt x="601" y="12189"/>
                  <a:pt x="620" y="12303"/>
                </a:cubicBezTo>
                <a:cubicBezTo>
                  <a:pt x="620" y="12353"/>
                  <a:pt x="620" y="12369"/>
                  <a:pt x="620" y="12402"/>
                </a:cubicBezTo>
              </a:path>
              <a:path w="671" h="993">
                <a:moveTo>
                  <a:pt x="719" y="12055"/>
                </a:moveTo>
                <a:cubicBezTo>
                  <a:pt x="727" y="12047"/>
                  <a:pt x="736" y="12038"/>
                  <a:pt x="744" y="12030"/>
                </a:cubicBezTo>
                <a:cubicBezTo>
                  <a:pt x="752" y="12062"/>
                  <a:pt x="758" y="12097"/>
                  <a:pt x="769" y="12129"/>
                </a:cubicBezTo>
                <a:cubicBezTo>
                  <a:pt x="788" y="12183"/>
                  <a:pt x="794" y="12199"/>
                  <a:pt x="794" y="12254"/>
                </a:cubicBezTo>
              </a:path>
              <a:path w="671" h="993">
                <a:moveTo>
                  <a:pt x="695" y="11832"/>
                </a:moveTo>
                <a:cubicBezTo>
                  <a:pt x="695" y="11807"/>
                  <a:pt x="695" y="11799"/>
                  <a:pt x="695" y="11832"/>
                </a:cubicBezTo>
              </a:path>
              <a:path w="671" h="993">
                <a:moveTo>
                  <a:pt x="595" y="11757"/>
                </a:moveTo>
                <a:cubicBezTo>
                  <a:pt x="542" y="11757"/>
                  <a:pt x="559" y="11769"/>
                  <a:pt x="521" y="11782"/>
                </a:cubicBezTo>
              </a:path>
              <a:path w="671" h="993">
                <a:moveTo>
                  <a:pt x="769" y="11683"/>
                </a:moveTo>
                <a:cubicBezTo>
                  <a:pt x="811" y="11683"/>
                  <a:pt x="834" y="11693"/>
                  <a:pt x="868" y="11708"/>
                </a:cubicBezTo>
                <a:cubicBezTo>
                  <a:pt x="933" y="11736"/>
                  <a:pt x="991" y="11784"/>
                  <a:pt x="1042" y="11832"/>
                </a:cubicBezTo>
                <a:cubicBezTo>
                  <a:pt x="1125" y="11911"/>
                  <a:pt x="1183" y="11993"/>
                  <a:pt x="1191" y="12105"/>
                </a:cubicBezTo>
                <a:cubicBezTo>
                  <a:pt x="1200" y="12228"/>
                  <a:pt x="1132" y="12305"/>
                  <a:pt x="1067" y="12402"/>
                </a:cubicBezTo>
                <a:cubicBezTo>
                  <a:pt x="1018" y="12475"/>
                  <a:pt x="969" y="12576"/>
                  <a:pt x="893" y="12626"/>
                </a:cubicBezTo>
                <a:cubicBezTo>
                  <a:pt x="849" y="12647"/>
                  <a:pt x="837" y="12650"/>
                  <a:pt x="819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98720" y="4456080"/>
            <a:ext cx="517320" cy="142920"/>
          </a:xfrm>
          <a:custGeom>
            <a:avLst/>
            <a:gdLst/>
            <a:ahLst/>
            <a:rect l="l" t="t" r="r" b="b"/>
            <a:pathLst>
              <a:path w="1440" h="397">
                <a:moveTo>
                  <a:pt x="3175" y="12477"/>
                </a:moveTo>
                <a:cubicBezTo>
                  <a:pt x="3175" y="12452"/>
                  <a:pt x="3175" y="12444"/>
                  <a:pt x="3175" y="12427"/>
                </a:cubicBezTo>
                <a:cubicBezTo>
                  <a:pt x="3099" y="12442"/>
                  <a:pt x="3102" y="12461"/>
                  <a:pt x="3076" y="12526"/>
                </a:cubicBezTo>
                <a:cubicBezTo>
                  <a:pt x="3050" y="12591"/>
                  <a:pt x="3032" y="12650"/>
                  <a:pt x="3101" y="12700"/>
                </a:cubicBezTo>
                <a:cubicBezTo>
                  <a:pt x="3153" y="12738"/>
                  <a:pt x="3213" y="12725"/>
                  <a:pt x="3274" y="12725"/>
                </a:cubicBezTo>
              </a:path>
              <a:path w="1440" h="397">
                <a:moveTo>
                  <a:pt x="3398" y="12526"/>
                </a:moveTo>
                <a:cubicBezTo>
                  <a:pt x="3373" y="12526"/>
                  <a:pt x="3365" y="12526"/>
                  <a:pt x="3373" y="12502"/>
                </a:cubicBezTo>
                <a:cubicBezTo>
                  <a:pt x="3383" y="12473"/>
                  <a:pt x="3407" y="12457"/>
                  <a:pt x="3448" y="12452"/>
                </a:cubicBezTo>
                <a:cubicBezTo>
                  <a:pt x="3500" y="12446"/>
                  <a:pt x="3560" y="12505"/>
                  <a:pt x="3572" y="12551"/>
                </a:cubicBezTo>
                <a:cubicBezTo>
                  <a:pt x="3581" y="12585"/>
                  <a:pt x="3587" y="12680"/>
                  <a:pt x="3547" y="12700"/>
                </a:cubicBezTo>
                <a:cubicBezTo>
                  <a:pt x="3523" y="12712"/>
                  <a:pt x="3450" y="12722"/>
                  <a:pt x="3423" y="12725"/>
                </a:cubicBezTo>
                <a:cubicBezTo>
                  <a:pt x="3415" y="12725"/>
                  <a:pt x="3406" y="12725"/>
                  <a:pt x="3398" y="12725"/>
                </a:cubicBezTo>
              </a:path>
              <a:path w="1440" h="397">
                <a:moveTo>
                  <a:pt x="3646" y="12526"/>
                </a:moveTo>
                <a:cubicBezTo>
                  <a:pt x="3715" y="12526"/>
                  <a:pt x="3732" y="12522"/>
                  <a:pt x="3746" y="12601"/>
                </a:cubicBezTo>
                <a:cubicBezTo>
                  <a:pt x="3758" y="12669"/>
                  <a:pt x="3729" y="12719"/>
                  <a:pt x="3770" y="12774"/>
                </a:cubicBezTo>
                <a:cubicBezTo>
                  <a:pt x="3781" y="12721"/>
                  <a:pt x="3782" y="12653"/>
                  <a:pt x="3795" y="12601"/>
                </a:cubicBezTo>
                <a:cubicBezTo>
                  <a:pt x="3805" y="12560"/>
                  <a:pt x="3851" y="12472"/>
                  <a:pt x="3894" y="12452"/>
                </a:cubicBezTo>
                <a:cubicBezTo>
                  <a:pt x="3902" y="12452"/>
                  <a:pt x="3911" y="12452"/>
                  <a:pt x="3919" y="12452"/>
                </a:cubicBezTo>
                <a:cubicBezTo>
                  <a:pt x="3971" y="12516"/>
                  <a:pt x="3986" y="12587"/>
                  <a:pt x="4018" y="12650"/>
                </a:cubicBezTo>
                <a:cubicBezTo>
                  <a:pt x="4026" y="12658"/>
                  <a:pt x="4035" y="12667"/>
                  <a:pt x="4043" y="12675"/>
                </a:cubicBezTo>
              </a:path>
              <a:path w="1440" h="397">
                <a:moveTo>
                  <a:pt x="4018" y="12576"/>
                </a:moveTo>
                <a:cubicBezTo>
                  <a:pt x="4067" y="12572"/>
                  <a:pt x="4172" y="12571"/>
                  <a:pt x="4192" y="12502"/>
                </a:cubicBezTo>
                <a:cubicBezTo>
                  <a:pt x="4208" y="12448"/>
                  <a:pt x="4202" y="12385"/>
                  <a:pt x="4142" y="12378"/>
                </a:cubicBezTo>
                <a:cubicBezTo>
                  <a:pt x="4068" y="12370"/>
                  <a:pt x="4094" y="12471"/>
                  <a:pt x="4118" y="12502"/>
                </a:cubicBezTo>
                <a:cubicBezTo>
                  <a:pt x="4179" y="12583"/>
                  <a:pt x="4265" y="12635"/>
                  <a:pt x="4366" y="12650"/>
                </a:cubicBezTo>
                <a:cubicBezTo>
                  <a:pt x="4432" y="12650"/>
                  <a:pt x="4449" y="12650"/>
                  <a:pt x="4490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08200" y="4581360"/>
            <a:ext cx="106560" cy="106560"/>
          </a:xfrm>
          <a:custGeom>
            <a:avLst/>
            <a:gdLst/>
            <a:ahLst/>
            <a:rect l="l" t="t" r="r" b="b"/>
            <a:pathLst>
              <a:path w="299" h="298">
                <a:moveTo>
                  <a:pt x="7491" y="12874"/>
                </a:moveTo>
                <a:cubicBezTo>
                  <a:pt x="7532" y="12874"/>
                  <a:pt x="7549" y="12865"/>
                  <a:pt x="7541" y="12898"/>
                </a:cubicBezTo>
                <a:cubicBezTo>
                  <a:pt x="7451" y="12898"/>
                  <a:pt x="7377" y="12903"/>
                  <a:pt x="7293" y="12923"/>
                </a:cubicBezTo>
                <a:cubicBezTo>
                  <a:pt x="7265" y="12923"/>
                  <a:pt x="7254" y="12925"/>
                  <a:pt x="7243" y="12948"/>
                </a:cubicBezTo>
              </a:path>
              <a:path w="299" h="298">
                <a:moveTo>
                  <a:pt x="7293" y="12774"/>
                </a:moveTo>
                <a:cubicBezTo>
                  <a:pt x="7332" y="12735"/>
                  <a:pt x="7333" y="12719"/>
                  <a:pt x="7367" y="12725"/>
                </a:cubicBezTo>
                <a:cubicBezTo>
                  <a:pt x="7367" y="12824"/>
                  <a:pt x="7367" y="12923"/>
                  <a:pt x="7367" y="130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87800" y="4510080"/>
            <a:ext cx="965160" cy="384120"/>
          </a:xfrm>
          <a:custGeom>
            <a:avLst/>
            <a:gdLst/>
            <a:ahLst/>
            <a:rect l="l" t="t" r="r" b="b"/>
            <a:pathLst>
              <a:path w="2680" h="1068">
                <a:moveTo>
                  <a:pt x="8979" y="12973"/>
                </a:moveTo>
                <a:cubicBezTo>
                  <a:pt x="8979" y="12956"/>
                  <a:pt x="8979" y="12940"/>
                  <a:pt x="8979" y="12923"/>
                </a:cubicBezTo>
                <a:cubicBezTo>
                  <a:pt x="8942" y="12932"/>
                  <a:pt x="8904" y="12962"/>
                  <a:pt x="8880" y="12998"/>
                </a:cubicBezTo>
                <a:cubicBezTo>
                  <a:pt x="8841" y="13057"/>
                  <a:pt x="8843" y="13136"/>
                  <a:pt x="8880" y="13196"/>
                </a:cubicBezTo>
                <a:cubicBezTo>
                  <a:pt x="8917" y="13257"/>
                  <a:pt x="8966" y="13246"/>
                  <a:pt x="9029" y="13246"/>
                </a:cubicBezTo>
                <a:cubicBezTo>
                  <a:pt x="9064" y="13246"/>
                  <a:pt x="9081" y="13241"/>
                  <a:pt x="9103" y="13221"/>
                </a:cubicBezTo>
              </a:path>
              <a:path w="2680" h="1068">
                <a:moveTo>
                  <a:pt x="9252" y="13022"/>
                </a:moveTo>
                <a:cubicBezTo>
                  <a:pt x="9252" y="13077"/>
                  <a:pt x="9264" y="13105"/>
                  <a:pt x="9302" y="13146"/>
                </a:cubicBezTo>
                <a:cubicBezTo>
                  <a:pt x="9352" y="13201"/>
                  <a:pt x="9404" y="13133"/>
                  <a:pt x="9451" y="13097"/>
                </a:cubicBezTo>
                <a:cubicBezTo>
                  <a:pt x="9459" y="13089"/>
                  <a:pt x="9467" y="13080"/>
                  <a:pt x="9475" y="13072"/>
                </a:cubicBezTo>
                <a:cubicBezTo>
                  <a:pt x="9563" y="13134"/>
                  <a:pt x="9587" y="13233"/>
                  <a:pt x="9599" y="13345"/>
                </a:cubicBezTo>
                <a:cubicBezTo>
                  <a:pt x="9609" y="13440"/>
                  <a:pt x="9620" y="13567"/>
                  <a:pt x="9500" y="13593"/>
                </a:cubicBezTo>
                <a:cubicBezTo>
                  <a:pt x="9401" y="13615"/>
                  <a:pt x="9273" y="13553"/>
                  <a:pt x="9203" y="13494"/>
                </a:cubicBezTo>
                <a:cubicBezTo>
                  <a:pt x="9158" y="13449"/>
                  <a:pt x="9141" y="13440"/>
                  <a:pt x="9153" y="13395"/>
                </a:cubicBezTo>
              </a:path>
              <a:path w="2680" h="1068">
                <a:moveTo>
                  <a:pt x="9674" y="12526"/>
                </a:moveTo>
                <a:cubicBezTo>
                  <a:pt x="9712" y="12539"/>
                  <a:pt x="9710" y="12601"/>
                  <a:pt x="9699" y="12650"/>
                </a:cubicBezTo>
                <a:cubicBezTo>
                  <a:pt x="9673" y="12767"/>
                  <a:pt x="9674" y="12876"/>
                  <a:pt x="9674" y="12998"/>
                </a:cubicBezTo>
                <a:cubicBezTo>
                  <a:pt x="9674" y="13042"/>
                  <a:pt x="9696" y="13164"/>
                  <a:pt x="9723" y="13196"/>
                </a:cubicBezTo>
                <a:cubicBezTo>
                  <a:pt x="9731" y="13196"/>
                  <a:pt x="9740" y="13196"/>
                  <a:pt x="9748" y="13196"/>
                </a:cubicBezTo>
              </a:path>
              <a:path w="2680" h="1068">
                <a:moveTo>
                  <a:pt x="9922" y="13047"/>
                </a:moveTo>
                <a:cubicBezTo>
                  <a:pt x="9994" y="13065"/>
                  <a:pt x="9969" y="13093"/>
                  <a:pt x="9996" y="13146"/>
                </a:cubicBezTo>
                <a:cubicBezTo>
                  <a:pt x="10019" y="13169"/>
                  <a:pt x="10027" y="13173"/>
                  <a:pt x="10021" y="13196"/>
                </a:cubicBezTo>
              </a:path>
              <a:path w="2680" h="1068">
                <a:moveTo>
                  <a:pt x="10021" y="12898"/>
                </a:moveTo>
                <a:cubicBezTo>
                  <a:pt x="9998" y="12845"/>
                  <a:pt x="9976" y="12839"/>
                  <a:pt x="10021" y="12824"/>
                </a:cubicBezTo>
              </a:path>
              <a:path w="2680" h="1068">
                <a:moveTo>
                  <a:pt x="10145" y="13022"/>
                </a:moveTo>
                <a:cubicBezTo>
                  <a:pt x="10151" y="13107"/>
                  <a:pt x="10147" y="13157"/>
                  <a:pt x="10195" y="13221"/>
                </a:cubicBezTo>
                <a:cubicBezTo>
                  <a:pt x="10195" y="13169"/>
                  <a:pt x="10207" y="13139"/>
                  <a:pt x="10220" y="13097"/>
                </a:cubicBezTo>
                <a:cubicBezTo>
                  <a:pt x="10220" y="13069"/>
                  <a:pt x="10222" y="13058"/>
                  <a:pt x="10244" y="13047"/>
                </a:cubicBezTo>
                <a:cubicBezTo>
                  <a:pt x="10296" y="13060"/>
                  <a:pt x="10328" y="13106"/>
                  <a:pt x="10368" y="13146"/>
                </a:cubicBezTo>
                <a:cubicBezTo>
                  <a:pt x="10404" y="13182"/>
                  <a:pt x="10415" y="13209"/>
                  <a:pt x="10443" y="13246"/>
                </a:cubicBezTo>
              </a:path>
              <a:path w="2680" h="1068">
                <a:moveTo>
                  <a:pt x="10542" y="13072"/>
                </a:moveTo>
                <a:cubicBezTo>
                  <a:pt x="10554" y="13102"/>
                  <a:pt x="10529" y="13136"/>
                  <a:pt x="10542" y="13196"/>
                </a:cubicBezTo>
                <a:cubicBezTo>
                  <a:pt x="10558" y="13266"/>
                  <a:pt x="10607" y="13305"/>
                  <a:pt x="10666" y="13271"/>
                </a:cubicBezTo>
                <a:cubicBezTo>
                  <a:pt x="10758" y="13218"/>
                  <a:pt x="10703" y="13053"/>
                  <a:pt x="10716" y="12973"/>
                </a:cubicBezTo>
                <a:cubicBezTo>
                  <a:pt x="10732" y="12872"/>
                  <a:pt x="10740" y="12780"/>
                  <a:pt x="10740" y="12675"/>
                </a:cubicBezTo>
                <a:cubicBezTo>
                  <a:pt x="10740" y="12659"/>
                  <a:pt x="10740" y="12642"/>
                  <a:pt x="10740" y="12626"/>
                </a:cubicBezTo>
                <a:cubicBezTo>
                  <a:pt x="10740" y="12677"/>
                  <a:pt x="10724" y="12674"/>
                  <a:pt x="10716" y="12725"/>
                </a:cubicBezTo>
                <a:cubicBezTo>
                  <a:pt x="10704" y="12800"/>
                  <a:pt x="10670" y="12896"/>
                  <a:pt x="10691" y="12973"/>
                </a:cubicBezTo>
                <a:cubicBezTo>
                  <a:pt x="10699" y="13002"/>
                  <a:pt x="10757" y="13088"/>
                  <a:pt x="10790" y="13097"/>
                </a:cubicBezTo>
                <a:cubicBezTo>
                  <a:pt x="10849" y="13114"/>
                  <a:pt x="10912" y="13094"/>
                  <a:pt x="10964" y="13072"/>
                </a:cubicBezTo>
                <a:cubicBezTo>
                  <a:pt x="11006" y="13054"/>
                  <a:pt x="11042" y="13034"/>
                  <a:pt x="11038" y="12973"/>
                </a:cubicBezTo>
                <a:cubicBezTo>
                  <a:pt x="11036" y="12941"/>
                  <a:pt x="10979" y="12932"/>
                  <a:pt x="10964" y="12923"/>
                </a:cubicBezTo>
                <a:cubicBezTo>
                  <a:pt x="10964" y="13025"/>
                  <a:pt x="10950" y="13090"/>
                  <a:pt x="11013" y="13171"/>
                </a:cubicBezTo>
                <a:cubicBezTo>
                  <a:pt x="11050" y="13219"/>
                  <a:pt x="11123" y="13202"/>
                  <a:pt x="11162" y="13171"/>
                </a:cubicBezTo>
                <a:cubicBezTo>
                  <a:pt x="11200" y="13140"/>
                  <a:pt x="11213" y="13149"/>
                  <a:pt x="11261" y="13146"/>
                </a:cubicBezTo>
                <a:cubicBezTo>
                  <a:pt x="11323" y="13143"/>
                  <a:pt x="11320" y="13134"/>
                  <a:pt x="11336" y="13072"/>
                </a:cubicBezTo>
                <a:cubicBezTo>
                  <a:pt x="11358" y="12989"/>
                  <a:pt x="11365" y="12929"/>
                  <a:pt x="11435" y="12874"/>
                </a:cubicBezTo>
                <a:cubicBezTo>
                  <a:pt x="11483" y="12850"/>
                  <a:pt x="11497" y="12842"/>
                  <a:pt x="11534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53040" y="4670280"/>
            <a:ext cx="115920" cy="133560"/>
          </a:xfrm>
          <a:custGeom>
            <a:avLst/>
            <a:gdLst/>
            <a:ahLst/>
            <a:rect l="l" t="t" r="r" b="b"/>
            <a:pathLst>
              <a:path w="324" h="373">
                <a:moveTo>
                  <a:pt x="14610" y="13171"/>
                </a:moveTo>
                <a:cubicBezTo>
                  <a:pt x="14618" y="13179"/>
                  <a:pt x="14627" y="13188"/>
                  <a:pt x="14635" y="13196"/>
                </a:cubicBezTo>
                <a:cubicBezTo>
                  <a:pt x="14600" y="13222"/>
                  <a:pt x="14559" y="13244"/>
                  <a:pt x="14511" y="13246"/>
                </a:cubicBezTo>
                <a:cubicBezTo>
                  <a:pt x="14437" y="13250"/>
                  <a:pt x="14386" y="13271"/>
                  <a:pt x="14312" y="13271"/>
                </a:cubicBezTo>
              </a:path>
              <a:path w="324" h="373">
                <a:moveTo>
                  <a:pt x="14387" y="12998"/>
                </a:moveTo>
                <a:cubicBezTo>
                  <a:pt x="14403" y="12990"/>
                  <a:pt x="14420" y="12981"/>
                  <a:pt x="14436" y="12973"/>
                </a:cubicBezTo>
                <a:cubicBezTo>
                  <a:pt x="14436" y="13097"/>
                  <a:pt x="14436" y="13221"/>
                  <a:pt x="14436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830920" y="4589640"/>
            <a:ext cx="260280" cy="411120"/>
          </a:xfrm>
          <a:custGeom>
            <a:avLst/>
            <a:gdLst/>
            <a:ahLst/>
            <a:rect l="l" t="t" r="r" b="b"/>
            <a:pathLst>
              <a:path w="721" h="1142">
                <a:moveTo>
                  <a:pt x="16321" y="12799"/>
                </a:moveTo>
                <a:cubicBezTo>
                  <a:pt x="16329" y="12783"/>
                  <a:pt x="16338" y="12766"/>
                  <a:pt x="16346" y="12750"/>
                </a:cubicBezTo>
                <a:cubicBezTo>
                  <a:pt x="16346" y="12871"/>
                  <a:pt x="16357" y="12979"/>
                  <a:pt x="16371" y="13097"/>
                </a:cubicBezTo>
                <a:cubicBezTo>
                  <a:pt x="16378" y="13157"/>
                  <a:pt x="16370" y="13194"/>
                  <a:pt x="16396" y="13246"/>
                </a:cubicBezTo>
              </a:path>
              <a:path w="721" h="1142">
                <a:moveTo>
                  <a:pt x="16644" y="13320"/>
                </a:moveTo>
                <a:cubicBezTo>
                  <a:pt x="16629" y="13364"/>
                  <a:pt x="16573" y="13345"/>
                  <a:pt x="16520" y="13345"/>
                </a:cubicBezTo>
                <a:cubicBezTo>
                  <a:pt x="16429" y="13345"/>
                  <a:pt x="16357" y="13352"/>
                  <a:pt x="16272" y="13370"/>
                </a:cubicBezTo>
                <a:cubicBezTo>
                  <a:pt x="16239" y="13370"/>
                  <a:pt x="16222" y="13370"/>
                  <a:pt x="16197" y="13370"/>
                </a:cubicBezTo>
              </a:path>
              <a:path w="721" h="1142">
                <a:moveTo>
                  <a:pt x="16421" y="13643"/>
                </a:moveTo>
                <a:cubicBezTo>
                  <a:pt x="16405" y="13621"/>
                  <a:pt x="16365" y="13560"/>
                  <a:pt x="16421" y="13543"/>
                </a:cubicBezTo>
                <a:cubicBezTo>
                  <a:pt x="16452" y="13533"/>
                  <a:pt x="16536" y="13502"/>
                  <a:pt x="16570" y="13519"/>
                </a:cubicBezTo>
                <a:cubicBezTo>
                  <a:pt x="16649" y="13558"/>
                  <a:pt x="16604" y="13609"/>
                  <a:pt x="16594" y="13667"/>
                </a:cubicBezTo>
                <a:cubicBezTo>
                  <a:pt x="16585" y="13723"/>
                  <a:pt x="16551" y="13759"/>
                  <a:pt x="16545" y="13816"/>
                </a:cubicBezTo>
                <a:cubicBezTo>
                  <a:pt x="16545" y="13841"/>
                  <a:pt x="16545" y="13849"/>
                  <a:pt x="16545" y="13866"/>
                </a:cubicBezTo>
                <a:cubicBezTo>
                  <a:pt x="16608" y="13866"/>
                  <a:pt x="16635" y="13887"/>
                  <a:pt x="16694" y="13891"/>
                </a:cubicBezTo>
                <a:cubicBezTo>
                  <a:pt x="16766" y="13895"/>
                  <a:pt x="16802" y="13870"/>
                  <a:pt x="16867" y="13866"/>
                </a:cubicBezTo>
                <a:cubicBezTo>
                  <a:pt x="16884" y="13866"/>
                  <a:pt x="16900" y="13866"/>
                  <a:pt x="16917" y="138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59680" y="4660920"/>
            <a:ext cx="849240" cy="339840"/>
          </a:xfrm>
          <a:custGeom>
            <a:avLst/>
            <a:gdLst/>
            <a:ahLst/>
            <a:rect l="l" t="t" r="r" b="b"/>
            <a:pathLst>
              <a:path w="2358" h="944">
                <a:moveTo>
                  <a:pt x="17636" y="13221"/>
                </a:moveTo>
                <a:cubicBezTo>
                  <a:pt x="17576" y="13176"/>
                  <a:pt x="17582" y="13209"/>
                  <a:pt x="17512" y="13221"/>
                </a:cubicBezTo>
                <a:cubicBezTo>
                  <a:pt x="17465" y="13229"/>
                  <a:pt x="17387" y="13243"/>
                  <a:pt x="17413" y="13320"/>
                </a:cubicBezTo>
                <a:cubicBezTo>
                  <a:pt x="17434" y="13383"/>
                  <a:pt x="17571" y="13393"/>
                  <a:pt x="17611" y="13444"/>
                </a:cubicBezTo>
                <a:cubicBezTo>
                  <a:pt x="17611" y="13452"/>
                  <a:pt x="17611" y="13461"/>
                  <a:pt x="17611" y="13469"/>
                </a:cubicBezTo>
                <a:cubicBezTo>
                  <a:pt x="17550" y="13519"/>
                  <a:pt x="17515" y="13519"/>
                  <a:pt x="17438" y="13519"/>
                </a:cubicBezTo>
                <a:cubicBezTo>
                  <a:pt x="17421" y="13519"/>
                  <a:pt x="17405" y="13519"/>
                  <a:pt x="17388" y="13519"/>
                </a:cubicBezTo>
              </a:path>
              <a:path w="2358" h="944">
                <a:moveTo>
                  <a:pt x="17884" y="13395"/>
                </a:moveTo>
                <a:cubicBezTo>
                  <a:pt x="17892" y="13395"/>
                  <a:pt x="17901" y="13395"/>
                  <a:pt x="17909" y="13395"/>
                </a:cubicBezTo>
                <a:cubicBezTo>
                  <a:pt x="17897" y="13441"/>
                  <a:pt x="17864" y="13492"/>
                  <a:pt x="17859" y="13543"/>
                </a:cubicBezTo>
                <a:cubicBezTo>
                  <a:pt x="17852" y="13606"/>
                  <a:pt x="17829" y="13873"/>
                  <a:pt x="17884" y="13891"/>
                </a:cubicBezTo>
              </a:path>
              <a:path w="2358" h="944">
                <a:moveTo>
                  <a:pt x="17934" y="13370"/>
                </a:moveTo>
                <a:cubicBezTo>
                  <a:pt x="17922" y="13310"/>
                  <a:pt x="17897" y="13252"/>
                  <a:pt x="17983" y="13246"/>
                </a:cubicBezTo>
                <a:cubicBezTo>
                  <a:pt x="18078" y="13239"/>
                  <a:pt x="18104" y="13265"/>
                  <a:pt x="18157" y="13345"/>
                </a:cubicBezTo>
                <a:cubicBezTo>
                  <a:pt x="18180" y="13380"/>
                  <a:pt x="18210" y="13468"/>
                  <a:pt x="18157" y="13494"/>
                </a:cubicBezTo>
                <a:cubicBezTo>
                  <a:pt x="18107" y="13519"/>
                  <a:pt x="17997" y="13492"/>
                  <a:pt x="17959" y="13469"/>
                </a:cubicBezTo>
              </a:path>
              <a:path w="2358" h="944">
                <a:moveTo>
                  <a:pt x="18405" y="12948"/>
                </a:moveTo>
                <a:cubicBezTo>
                  <a:pt x="18456" y="12965"/>
                  <a:pt x="18423" y="12999"/>
                  <a:pt x="18405" y="13047"/>
                </a:cubicBezTo>
                <a:cubicBezTo>
                  <a:pt x="18362" y="13164"/>
                  <a:pt x="18305" y="13299"/>
                  <a:pt x="18281" y="13419"/>
                </a:cubicBezTo>
                <a:cubicBezTo>
                  <a:pt x="18281" y="13461"/>
                  <a:pt x="18281" y="13469"/>
                  <a:pt x="18281" y="13494"/>
                </a:cubicBezTo>
                <a:cubicBezTo>
                  <a:pt x="18348" y="13481"/>
                  <a:pt x="18379" y="13437"/>
                  <a:pt x="18430" y="13395"/>
                </a:cubicBezTo>
                <a:cubicBezTo>
                  <a:pt x="18488" y="13347"/>
                  <a:pt x="18530" y="13373"/>
                  <a:pt x="18554" y="13444"/>
                </a:cubicBezTo>
                <a:cubicBezTo>
                  <a:pt x="18568" y="13485"/>
                  <a:pt x="18579" y="13523"/>
                  <a:pt x="18579" y="13568"/>
                </a:cubicBezTo>
                <a:cubicBezTo>
                  <a:pt x="18579" y="13576"/>
                  <a:pt x="18579" y="13585"/>
                  <a:pt x="18579" y="13593"/>
                </a:cubicBezTo>
              </a:path>
              <a:path w="2358" h="944">
                <a:moveTo>
                  <a:pt x="18653" y="13519"/>
                </a:moveTo>
                <a:cubicBezTo>
                  <a:pt x="18711" y="13519"/>
                  <a:pt x="18743" y="13523"/>
                  <a:pt x="18777" y="13469"/>
                </a:cubicBezTo>
                <a:cubicBezTo>
                  <a:pt x="18813" y="13414"/>
                  <a:pt x="18814" y="13350"/>
                  <a:pt x="18777" y="13295"/>
                </a:cubicBezTo>
                <a:cubicBezTo>
                  <a:pt x="18769" y="13287"/>
                  <a:pt x="18760" y="13279"/>
                  <a:pt x="18752" y="13271"/>
                </a:cubicBezTo>
                <a:cubicBezTo>
                  <a:pt x="18701" y="13284"/>
                  <a:pt x="18665" y="13339"/>
                  <a:pt x="18653" y="13395"/>
                </a:cubicBezTo>
                <a:cubicBezTo>
                  <a:pt x="18643" y="13439"/>
                  <a:pt x="18683" y="13570"/>
                  <a:pt x="18728" y="13593"/>
                </a:cubicBezTo>
                <a:cubicBezTo>
                  <a:pt x="18778" y="13618"/>
                  <a:pt x="18889" y="13588"/>
                  <a:pt x="18926" y="13568"/>
                </a:cubicBezTo>
                <a:cubicBezTo>
                  <a:pt x="18969" y="13546"/>
                  <a:pt x="18981" y="13543"/>
                  <a:pt x="19000" y="13519"/>
                </a:cubicBezTo>
              </a:path>
              <a:path w="2358" h="944">
                <a:moveTo>
                  <a:pt x="19075" y="13494"/>
                </a:moveTo>
                <a:cubicBezTo>
                  <a:pt x="19106" y="13504"/>
                  <a:pt x="19100" y="13601"/>
                  <a:pt x="19100" y="13568"/>
                </a:cubicBezTo>
                <a:cubicBezTo>
                  <a:pt x="19100" y="13513"/>
                  <a:pt x="19069" y="13348"/>
                  <a:pt x="19124" y="13320"/>
                </a:cubicBezTo>
                <a:cubicBezTo>
                  <a:pt x="19171" y="13296"/>
                  <a:pt x="19216" y="13351"/>
                  <a:pt x="19248" y="13370"/>
                </a:cubicBezTo>
                <a:cubicBezTo>
                  <a:pt x="19315" y="13411"/>
                  <a:pt x="19396" y="13395"/>
                  <a:pt x="19472" y="13395"/>
                </a:cubicBezTo>
                <a:cubicBezTo>
                  <a:pt x="19521" y="13395"/>
                  <a:pt x="19538" y="13395"/>
                  <a:pt x="19571" y="13395"/>
                </a:cubicBezTo>
                <a:cubicBezTo>
                  <a:pt x="19571" y="13359"/>
                  <a:pt x="19566" y="13308"/>
                  <a:pt x="19521" y="13295"/>
                </a:cubicBezTo>
                <a:cubicBezTo>
                  <a:pt x="19462" y="13278"/>
                  <a:pt x="19404" y="13345"/>
                  <a:pt x="19397" y="13395"/>
                </a:cubicBezTo>
                <a:cubicBezTo>
                  <a:pt x="19388" y="13458"/>
                  <a:pt x="19471" y="13533"/>
                  <a:pt x="19521" y="13568"/>
                </a:cubicBezTo>
                <a:cubicBezTo>
                  <a:pt x="19570" y="13602"/>
                  <a:pt x="19659" y="13642"/>
                  <a:pt x="19720" y="13618"/>
                </a:cubicBezTo>
                <a:cubicBezTo>
                  <a:pt x="19728" y="13610"/>
                  <a:pt x="19737" y="13601"/>
                  <a:pt x="19745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1120" y="5037120"/>
            <a:ext cx="108000" cy="61920"/>
          </a:xfrm>
          <a:custGeom>
            <a:avLst/>
            <a:gdLst/>
            <a:ahLst/>
            <a:rect l="l" t="t" r="r" b="b"/>
            <a:pathLst>
              <a:path w="299" h="174">
                <a:moveTo>
                  <a:pt x="1439" y="13990"/>
                </a:moveTo>
                <a:cubicBezTo>
                  <a:pt x="1354" y="13990"/>
                  <a:pt x="1293" y="13995"/>
                  <a:pt x="1215" y="14015"/>
                </a:cubicBezTo>
                <a:cubicBezTo>
                  <a:pt x="1172" y="14026"/>
                  <a:pt x="1181" y="14010"/>
                  <a:pt x="1141" y="14039"/>
                </a:cubicBezTo>
              </a:path>
              <a:path w="299" h="174">
                <a:moveTo>
                  <a:pt x="1364" y="14064"/>
                </a:moveTo>
                <a:cubicBezTo>
                  <a:pt x="1387" y="14087"/>
                  <a:pt x="1395" y="14091"/>
                  <a:pt x="1389" y="14114"/>
                </a:cubicBezTo>
                <a:cubicBezTo>
                  <a:pt x="1329" y="14126"/>
                  <a:pt x="1300" y="14158"/>
                  <a:pt x="1240" y="14163"/>
                </a:cubicBezTo>
                <a:cubicBezTo>
                  <a:pt x="1232" y="14163"/>
                  <a:pt x="1223" y="14163"/>
                  <a:pt x="1215" y="141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82800" y="5072040"/>
            <a:ext cx="1000080" cy="250920"/>
          </a:xfrm>
          <a:custGeom>
            <a:avLst/>
            <a:gdLst/>
            <a:ahLst/>
            <a:rect l="l" t="t" r="r" b="b"/>
            <a:pathLst>
              <a:path w="2779" h="696">
                <a:moveTo>
                  <a:pt x="2877" y="14163"/>
                </a:moveTo>
                <a:cubicBezTo>
                  <a:pt x="2870" y="14134"/>
                  <a:pt x="2860" y="14118"/>
                  <a:pt x="2853" y="14089"/>
                </a:cubicBezTo>
                <a:cubicBezTo>
                  <a:pt x="2817" y="14149"/>
                  <a:pt x="2828" y="14213"/>
                  <a:pt x="2828" y="14288"/>
                </a:cubicBezTo>
                <a:cubicBezTo>
                  <a:pt x="2828" y="14366"/>
                  <a:pt x="2841" y="14448"/>
                  <a:pt x="2877" y="14511"/>
                </a:cubicBezTo>
              </a:path>
              <a:path w="2779" h="696">
                <a:moveTo>
                  <a:pt x="3001" y="14213"/>
                </a:moveTo>
                <a:cubicBezTo>
                  <a:pt x="3042" y="14172"/>
                  <a:pt x="3001" y="14253"/>
                  <a:pt x="3001" y="14312"/>
                </a:cubicBezTo>
                <a:cubicBezTo>
                  <a:pt x="3001" y="14385"/>
                  <a:pt x="3017" y="14505"/>
                  <a:pt x="3076" y="14560"/>
                </a:cubicBezTo>
                <a:cubicBezTo>
                  <a:pt x="3114" y="14596"/>
                  <a:pt x="3211" y="14601"/>
                  <a:pt x="3249" y="14560"/>
                </a:cubicBezTo>
                <a:cubicBezTo>
                  <a:pt x="3257" y="14544"/>
                  <a:pt x="3266" y="14527"/>
                  <a:pt x="3274" y="14511"/>
                </a:cubicBezTo>
              </a:path>
              <a:path w="2779" h="696">
                <a:moveTo>
                  <a:pt x="3175" y="14163"/>
                </a:moveTo>
                <a:cubicBezTo>
                  <a:pt x="3137" y="14109"/>
                  <a:pt x="3089" y="14155"/>
                  <a:pt x="3026" y="14163"/>
                </a:cubicBezTo>
                <a:cubicBezTo>
                  <a:pt x="2940" y="14174"/>
                  <a:pt x="2861" y="14200"/>
                  <a:pt x="2778" y="14213"/>
                </a:cubicBezTo>
                <a:cubicBezTo>
                  <a:pt x="2762" y="14213"/>
                  <a:pt x="2745" y="14213"/>
                  <a:pt x="2729" y="14213"/>
                </a:cubicBezTo>
              </a:path>
              <a:path w="2779" h="696">
                <a:moveTo>
                  <a:pt x="3671" y="14387"/>
                </a:moveTo>
                <a:cubicBezTo>
                  <a:pt x="3658" y="14405"/>
                  <a:pt x="3631" y="14479"/>
                  <a:pt x="3621" y="14486"/>
                </a:cubicBezTo>
                <a:cubicBezTo>
                  <a:pt x="3613" y="14486"/>
                  <a:pt x="3605" y="14486"/>
                  <a:pt x="3597" y="14486"/>
                </a:cubicBezTo>
              </a:path>
              <a:path w="2779" h="696">
                <a:moveTo>
                  <a:pt x="3696" y="14337"/>
                </a:moveTo>
                <a:cubicBezTo>
                  <a:pt x="3718" y="14315"/>
                  <a:pt x="3727" y="14310"/>
                  <a:pt x="3721" y="14288"/>
                </a:cubicBezTo>
                <a:cubicBezTo>
                  <a:pt x="3690" y="14328"/>
                  <a:pt x="3652" y="14344"/>
                  <a:pt x="3621" y="14387"/>
                </a:cubicBezTo>
                <a:cubicBezTo>
                  <a:pt x="3595" y="14423"/>
                  <a:pt x="3532" y="14521"/>
                  <a:pt x="3522" y="14560"/>
                </a:cubicBezTo>
                <a:cubicBezTo>
                  <a:pt x="3522" y="14577"/>
                  <a:pt x="3522" y="14593"/>
                  <a:pt x="3522" y="14610"/>
                </a:cubicBezTo>
              </a:path>
              <a:path w="2779" h="696">
                <a:moveTo>
                  <a:pt x="3721" y="14511"/>
                </a:moveTo>
                <a:cubicBezTo>
                  <a:pt x="3762" y="14511"/>
                  <a:pt x="3770" y="14511"/>
                  <a:pt x="3795" y="14511"/>
                </a:cubicBezTo>
                <a:cubicBezTo>
                  <a:pt x="3787" y="14486"/>
                  <a:pt x="3737" y="14468"/>
                  <a:pt x="3696" y="14461"/>
                </a:cubicBezTo>
                <a:cubicBezTo>
                  <a:pt x="3642" y="14452"/>
                  <a:pt x="3626" y="14444"/>
                  <a:pt x="3572" y="14436"/>
                </a:cubicBezTo>
              </a:path>
              <a:path w="2779" h="696">
                <a:moveTo>
                  <a:pt x="3969" y="14238"/>
                </a:moveTo>
                <a:cubicBezTo>
                  <a:pt x="3969" y="14200"/>
                  <a:pt x="3975" y="14172"/>
                  <a:pt x="4018" y="14163"/>
                </a:cubicBezTo>
                <a:cubicBezTo>
                  <a:pt x="4072" y="14151"/>
                  <a:pt x="4109" y="14139"/>
                  <a:pt x="4167" y="14139"/>
                </a:cubicBezTo>
                <a:cubicBezTo>
                  <a:pt x="4195" y="14139"/>
                  <a:pt x="4206" y="14141"/>
                  <a:pt x="4217" y="14163"/>
                </a:cubicBezTo>
                <a:cubicBezTo>
                  <a:pt x="4205" y="14223"/>
                  <a:pt x="4170" y="14258"/>
                  <a:pt x="4142" y="14312"/>
                </a:cubicBezTo>
                <a:cubicBezTo>
                  <a:pt x="4106" y="14382"/>
                  <a:pt x="4100" y="14419"/>
                  <a:pt x="4167" y="14461"/>
                </a:cubicBezTo>
                <a:cubicBezTo>
                  <a:pt x="4225" y="14497"/>
                  <a:pt x="4290" y="14514"/>
                  <a:pt x="4341" y="14560"/>
                </a:cubicBezTo>
                <a:cubicBezTo>
                  <a:pt x="4380" y="14595"/>
                  <a:pt x="4373" y="14625"/>
                  <a:pt x="4341" y="14660"/>
                </a:cubicBezTo>
                <a:cubicBezTo>
                  <a:pt x="4290" y="14716"/>
                  <a:pt x="4236" y="14709"/>
                  <a:pt x="4167" y="14709"/>
                </a:cubicBezTo>
                <a:cubicBezTo>
                  <a:pt x="4142" y="14709"/>
                  <a:pt x="4134" y="14709"/>
                  <a:pt x="4118" y="14709"/>
                </a:cubicBezTo>
              </a:path>
              <a:path w="2779" h="696">
                <a:moveTo>
                  <a:pt x="4614" y="14461"/>
                </a:moveTo>
                <a:cubicBezTo>
                  <a:pt x="4642" y="14461"/>
                  <a:pt x="4652" y="14458"/>
                  <a:pt x="4663" y="14436"/>
                </a:cubicBezTo>
                <a:cubicBezTo>
                  <a:pt x="4634" y="14475"/>
                  <a:pt x="4623" y="14519"/>
                  <a:pt x="4589" y="14560"/>
                </a:cubicBezTo>
                <a:cubicBezTo>
                  <a:pt x="4543" y="14616"/>
                  <a:pt x="4514" y="14636"/>
                  <a:pt x="4514" y="14709"/>
                </a:cubicBezTo>
              </a:path>
              <a:path w="2779" h="696">
                <a:moveTo>
                  <a:pt x="4688" y="14585"/>
                </a:moveTo>
                <a:cubicBezTo>
                  <a:pt x="4666" y="14563"/>
                  <a:pt x="4657" y="14558"/>
                  <a:pt x="4663" y="14536"/>
                </a:cubicBezTo>
                <a:cubicBezTo>
                  <a:pt x="4599" y="14527"/>
                  <a:pt x="4561" y="14511"/>
                  <a:pt x="4490" y="14511"/>
                </a:cubicBezTo>
              </a:path>
              <a:path w="2779" h="696">
                <a:moveTo>
                  <a:pt x="5085" y="14288"/>
                </a:moveTo>
                <a:cubicBezTo>
                  <a:pt x="5132" y="14241"/>
                  <a:pt x="5063" y="14333"/>
                  <a:pt x="5060" y="14387"/>
                </a:cubicBezTo>
                <a:cubicBezTo>
                  <a:pt x="5057" y="14443"/>
                  <a:pt x="5059" y="14500"/>
                  <a:pt x="5110" y="14536"/>
                </a:cubicBezTo>
                <a:cubicBezTo>
                  <a:pt x="5169" y="14578"/>
                  <a:pt x="5244" y="14565"/>
                  <a:pt x="5308" y="14610"/>
                </a:cubicBezTo>
                <a:cubicBezTo>
                  <a:pt x="5358" y="14645"/>
                  <a:pt x="5383" y="14676"/>
                  <a:pt x="5383" y="14734"/>
                </a:cubicBezTo>
                <a:cubicBezTo>
                  <a:pt x="5383" y="14805"/>
                  <a:pt x="5310" y="14784"/>
                  <a:pt x="5259" y="14784"/>
                </a:cubicBezTo>
                <a:cubicBezTo>
                  <a:pt x="5196" y="14784"/>
                  <a:pt x="5112" y="14799"/>
                  <a:pt x="5085" y="14759"/>
                </a:cubicBezTo>
              </a:path>
              <a:path w="2779" h="696">
                <a:moveTo>
                  <a:pt x="5507" y="14263"/>
                </a:moveTo>
                <a:cubicBezTo>
                  <a:pt x="5507" y="14221"/>
                  <a:pt x="5507" y="14213"/>
                  <a:pt x="5507" y="14188"/>
                </a:cubicBezTo>
                <a:cubicBezTo>
                  <a:pt x="5432" y="14188"/>
                  <a:pt x="5376" y="14182"/>
                  <a:pt x="5308" y="14213"/>
                </a:cubicBezTo>
                <a:cubicBezTo>
                  <a:pt x="5260" y="14237"/>
                  <a:pt x="5246" y="14246"/>
                  <a:pt x="5209" y="14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17840" y="5116680"/>
            <a:ext cx="1339920" cy="393480"/>
          </a:xfrm>
          <a:custGeom>
            <a:avLst/>
            <a:gdLst/>
            <a:ahLst/>
            <a:rect l="l" t="t" r="r" b="b"/>
            <a:pathLst>
              <a:path w="3722" h="1092">
                <a:moveTo>
                  <a:pt x="7342" y="14808"/>
                </a:moveTo>
                <a:cubicBezTo>
                  <a:pt x="7284" y="14808"/>
                  <a:pt x="7239" y="14824"/>
                  <a:pt x="7193" y="14833"/>
                </a:cubicBezTo>
                <a:cubicBezTo>
                  <a:pt x="7133" y="14845"/>
                  <a:pt x="7057" y="14833"/>
                  <a:pt x="6995" y="14833"/>
                </a:cubicBezTo>
              </a:path>
              <a:path w="3722" h="1092">
                <a:moveTo>
                  <a:pt x="7119" y="14684"/>
                </a:moveTo>
                <a:cubicBezTo>
                  <a:pt x="7119" y="14676"/>
                  <a:pt x="7119" y="14668"/>
                  <a:pt x="7119" y="14660"/>
                </a:cubicBezTo>
                <a:cubicBezTo>
                  <a:pt x="7158" y="14685"/>
                  <a:pt x="7144" y="14747"/>
                  <a:pt x="7144" y="14808"/>
                </a:cubicBezTo>
                <a:cubicBezTo>
                  <a:pt x="7144" y="14863"/>
                  <a:pt x="7162" y="14903"/>
                  <a:pt x="7169" y="14957"/>
                </a:cubicBezTo>
              </a:path>
              <a:path w="3722" h="1092">
                <a:moveTo>
                  <a:pt x="7938" y="14610"/>
                </a:moveTo>
                <a:cubicBezTo>
                  <a:pt x="7906" y="14652"/>
                  <a:pt x="7902" y="14658"/>
                  <a:pt x="7863" y="14684"/>
                </a:cubicBezTo>
                <a:cubicBezTo>
                  <a:pt x="7840" y="14707"/>
                  <a:pt x="7836" y="14715"/>
                  <a:pt x="7813" y="14709"/>
                </a:cubicBezTo>
                <a:cubicBezTo>
                  <a:pt x="7826" y="14658"/>
                  <a:pt x="7873" y="14625"/>
                  <a:pt x="7913" y="14585"/>
                </a:cubicBezTo>
                <a:cubicBezTo>
                  <a:pt x="7971" y="14527"/>
                  <a:pt x="8040" y="14480"/>
                  <a:pt x="8111" y="14536"/>
                </a:cubicBezTo>
                <a:cubicBezTo>
                  <a:pt x="8191" y="14599"/>
                  <a:pt x="8111" y="14698"/>
                  <a:pt x="8086" y="14759"/>
                </a:cubicBezTo>
                <a:cubicBezTo>
                  <a:pt x="8054" y="14835"/>
                  <a:pt x="7980" y="14900"/>
                  <a:pt x="7962" y="14982"/>
                </a:cubicBezTo>
                <a:cubicBezTo>
                  <a:pt x="7946" y="15056"/>
                  <a:pt x="8005" y="15078"/>
                  <a:pt x="8062" y="15081"/>
                </a:cubicBezTo>
                <a:cubicBezTo>
                  <a:pt x="8135" y="15085"/>
                  <a:pt x="8192" y="15095"/>
                  <a:pt x="8260" y="15106"/>
                </a:cubicBezTo>
                <a:cubicBezTo>
                  <a:pt x="8289" y="15111"/>
                  <a:pt x="8328" y="15106"/>
                  <a:pt x="8359" y="15106"/>
                </a:cubicBezTo>
              </a:path>
              <a:path w="3722" h="1092">
                <a:moveTo>
                  <a:pt x="8632" y="14833"/>
                </a:moveTo>
                <a:cubicBezTo>
                  <a:pt x="8632" y="14825"/>
                  <a:pt x="8632" y="14816"/>
                  <a:pt x="8632" y="14808"/>
                </a:cubicBezTo>
                <a:cubicBezTo>
                  <a:pt x="8621" y="14851"/>
                  <a:pt x="8592" y="14875"/>
                  <a:pt x="8558" y="14908"/>
                </a:cubicBezTo>
                <a:cubicBezTo>
                  <a:pt x="8521" y="14944"/>
                  <a:pt x="8521" y="14917"/>
                  <a:pt x="8508" y="14957"/>
                </a:cubicBezTo>
              </a:path>
              <a:path w="3722" h="1092">
                <a:moveTo>
                  <a:pt x="8632" y="14982"/>
                </a:moveTo>
                <a:cubicBezTo>
                  <a:pt x="8632" y="14974"/>
                  <a:pt x="8632" y="14965"/>
                  <a:pt x="8632" y="14957"/>
                </a:cubicBezTo>
                <a:cubicBezTo>
                  <a:pt x="8582" y="14957"/>
                  <a:pt x="8550" y="14939"/>
                  <a:pt x="8508" y="14908"/>
                </a:cubicBezTo>
                <a:cubicBezTo>
                  <a:pt x="8500" y="14900"/>
                  <a:pt x="8491" y="14891"/>
                  <a:pt x="8483" y="14883"/>
                </a:cubicBezTo>
              </a:path>
              <a:path w="3722" h="1092">
                <a:moveTo>
                  <a:pt x="8880" y="14932"/>
                </a:moveTo>
                <a:cubicBezTo>
                  <a:pt x="8880" y="14998"/>
                  <a:pt x="8880" y="15065"/>
                  <a:pt x="8880" y="15131"/>
                </a:cubicBezTo>
              </a:path>
              <a:path w="3722" h="1092">
                <a:moveTo>
                  <a:pt x="9103" y="14932"/>
                </a:moveTo>
                <a:cubicBezTo>
                  <a:pt x="9103" y="14891"/>
                  <a:pt x="9103" y="14883"/>
                  <a:pt x="9103" y="14858"/>
                </a:cubicBezTo>
                <a:cubicBezTo>
                  <a:pt x="9054" y="14908"/>
                  <a:pt x="9033" y="14935"/>
                  <a:pt x="9029" y="15007"/>
                </a:cubicBezTo>
                <a:cubicBezTo>
                  <a:pt x="9024" y="15095"/>
                  <a:pt x="9026" y="15135"/>
                  <a:pt x="9103" y="15180"/>
                </a:cubicBezTo>
                <a:cubicBezTo>
                  <a:pt x="9182" y="15226"/>
                  <a:pt x="9208" y="15195"/>
                  <a:pt x="9277" y="15156"/>
                </a:cubicBezTo>
              </a:path>
              <a:path w="3722" h="1092">
                <a:moveTo>
                  <a:pt x="9277" y="14932"/>
                </a:moveTo>
                <a:cubicBezTo>
                  <a:pt x="9208" y="14844"/>
                  <a:pt x="9230" y="14858"/>
                  <a:pt x="9128" y="14858"/>
                </a:cubicBezTo>
                <a:cubicBezTo>
                  <a:pt x="9035" y="14858"/>
                  <a:pt x="8933" y="14872"/>
                  <a:pt x="8855" y="14833"/>
                </a:cubicBezTo>
              </a:path>
              <a:path w="3722" h="1092">
                <a:moveTo>
                  <a:pt x="9649" y="14908"/>
                </a:moveTo>
                <a:cubicBezTo>
                  <a:pt x="9657" y="14908"/>
                  <a:pt x="9666" y="14908"/>
                  <a:pt x="9674" y="14908"/>
                </a:cubicBezTo>
                <a:cubicBezTo>
                  <a:pt x="9626" y="14945"/>
                  <a:pt x="9573" y="14971"/>
                  <a:pt x="9525" y="15007"/>
                </a:cubicBezTo>
                <a:cubicBezTo>
                  <a:pt x="9503" y="15029"/>
                  <a:pt x="9494" y="15034"/>
                  <a:pt x="9500" y="15056"/>
                </a:cubicBezTo>
              </a:path>
              <a:path w="3722" h="1092">
                <a:moveTo>
                  <a:pt x="9674" y="15081"/>
                </a:moveTo>
                <a:cubicBezTo>
                  <a:pt x="9712" y="15031"/>
                  <a:pt x="9688" y="15036"/>
                  <a:pt x="9674" y="14982"/>
                </a:cubicBezTo>
                <a:cubicBezTo>
                  <a:pt x="9611" y="14973"/>
                  <a:pt x="9592" y="14959"/>
                  <a:pt x="9525" y="14932"/>
                </a:cubicBezTo>
              </a:path>
              <a:path w="3722" h="1092">
                <a:moveTo>
                  <a:pt x="10046" y="14833"/>
                </a:moveTo>
                <a:cubicBezTo>
                  <a:pt x="10021" y="14833"/>
                  <a:pt x="10013" y="14833"/>
                  <a:pt x="9996" y="14833"/>
                </a:cubicBezTo>
                <a:cubicBezTo>
                  <a:pt x="10011" y="14773"/>
                  <a:pt x="10047" y="14771"/>
                  <a:pt x="10096" y="14734"/>
                </a:cubicBezTo>
                <a:cubicBezTo>
                  <a:pt x="10144" y="14698"/>
                  <a:pt x="10196" y="14695"/>
                  <a:pt x="10244" y="14734"/>
                </a:cubicBezTo>
                <a:cubicBezTo>
                  <a:pt x="10291" y="14772"/>
                  <a:pt x="10266" y="14795"/>
                  <a:pt x="10244" y="14833"/>
                </a:cubicBezTo>
                <a:cubicBezTo>
                  <a:pt x="10220" y="14876"/>
                  <a:pt x="10163" y="14916"/>
                  <a:pt x="10145" y="14957"/>
                </a:cubicBezTo>
                <a:cubicBezTo>
                  <a:pt x="10121" y="15011"/>
                  <a:pt x="10235" y="15107"/>
                  <a:pt x="10269" y="15131"/>
                </a:cubicBezTo>
                <a:cubicBezTo>
                  <a:pt x="10318" y="15166"/>
                  <a:pt x="10386" y="15190"/>
                  <a:pt x="10393" y="15255"/>
                </a:cubicBezTo>
                <a:cubicBezTo>
                  <a:pt x="10400" y="15318"/>
                  <a:pt x="10334" y="15304"/>
                  <a:pt x="10294" y="15304"/>
                </a:cubicBezTo>
                <a:cubicBezTo>
                  <a:pt x="10231" y="15304"/>
                  <a:pt x="10203" y="15301"/>
                  <a:pt x="10145" y="15280"/>
                </a:cubicBezTo>
              </a:path>
              <a:path w="3722" h="1092">
                <a:moveTo>
                  <a:pt x="10418" y="14536"/>
                </a:moveTo>
                <a:cubicBezTo>
                  <a:pt x="10425" y="14506"/>
                  <a:pt x="10448" y="14461"/>
                  <a:pt x="10492" y="14486"/>
                </a:cubicBezTo>
                <a:cubicBezTo>
                  <a:pt x="10554" y="14521"/>
                  <a:pt x="10635" y="14622"/>
                  <a:pt x="10666" y="14684"/>
                </a:cubicBezTo>
                <a:cubicBezTo>
                  <a:pt x="10723" y="14799"/>
                  <a:pt x="10725" y="14913"/>
                  <a:pt x="10691" y="15032"/>
                </a:cubicBezTo>
                <a:cubicBezTo>
                  <a:pt x="10661" y="15137"/>
                  <a:pt x="10607" y="15222"/>
                  <a:pt x="10517" y="15280"/>
                </a:cubicBezTo>
                <a:cubicBezTo>
                  <a:pt x="10501" y="15288"/>
                  <a:pt x="10484" y="15296"/>
                  <a:pt x="10468" y="15304"/>
                </a:cubicBezTo>
              </a:path>
              <a:path w="3722" h="1092">
                <a:moveTo>
                  <a:pt x="7714" y="14263"/>
                </a:moveTo>
                <a:cubicBezTo>
                  <a:pt x="7737" y="14240"/>
                  <a:pt x="7745" y="14236"/>
                  <a:pt x="7739" y="14213"/>
                </a:cubicBezTo>
                <a:cubicBezTo>
                  <a:pt x="7665" y="14231"/>
                  <a:pt x="7676" y="14272"/>
                  <a:pt x="7640" y="14337"/>
                </a:cubicBezTo>
                <a:cubicBezTo>
                  <a:pt x="7559" y="14481"/>
                  <a:pt x="7559" y="14571"/>
                  <a:pt x="7590" y="14734"/>
                </a:cubicBezTo>
                <a:cubicBezTo>
                  <a:pt x="7617" y="14872"/>
                  <a:pt x="7651" y="14981"/>
                  <a:pt x="7714" y="15106"/>
                </a:cubicBezTo>
                <a:cubicBezTo>
                  <a:pt x="7722" y="15123"/>
                  <a:pt x="7731" y="15139"/>
                  <a:pt x="7739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00680" y="5303880"/>
            <a:ext cx="125280" cy="250920"/>
          </a:xfrm>
          <a:custGeom>
            <a:avLst/>
            <a:gdLst/>
            <a:ahLst/>
            <a:rect l="l" t="t" r="r" b="b"/>
            <a:pathLst>
              <a:path w="349" h="696">
                <a:moveTo>
                  <a:pt x="11137" y="14734"/>
                </a:moveTo>
                <a:cubicBezTo>
                  <a:pt x="11129" y="14742"/>
                  <a:pt x="11120" y="14751"/>
                  <a:pt x="11112" y="14759"/>
                </a:cubicBezTo>
                <a:cubicBezTo>
                  <a:pt x="11166" y="14759"/>
                  <a:pt x="11182" y="14781"/>
                  <a:pt x="11237" y="14784"/>
                </a:cubicBezTo>
                <a:cubicBezTo>
                  <a:pt x="11300" y="14788"/>
                  <a:pt x="11348" y="14803"/>
                  <a:pt x="11410" y="14808"/>
                </a:cubicBezTo>
                <a:cubicBezTo>
                  <a:pt x="11473" y="14813"/>
                  <a:pt x="11460" y="14856"/>
                  <a:pt x="11460" y="14908"/>
                </a:cubicBezTo>
                <a:cubicBezTo>
                  <a:pt x="11460" y="15002"/>
                  <a:pt x="11414" y="15092"/>
                  <a:pt x="11385" y="15180"/>
                </a:cubicBezTo>
                <a:cubicBezTo>
                  <a:pt x="11357" y="15264"/>
                  <a:pt x="11322" y="15344"/>
                  <a:pt x="11311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02120" y="5384880"/>
            <a:ext cx="115920" cy="142920"/>
          </a:xfrm>
          <a:custGeom>
            <a:avLst/>
            <a:gdLst/>
            <a:ahLst/>
            <a:rect l="l" t="t" r="r" b="b"/>
            <a:pathLst>
              <a:path w="323" h="398">
                <a:moveTo>
                  <a:pt x="13940" y="15106"/>
                </a:moveTo>
                <a:cubicBezTo>
                  <a:pt x="13833" y="15106"/>
                  <a:pt x="13725" y="15106"/>
                  <a:pt x="13618" y="15106"/>
                </a:cubicBezTo>
              </a:path>
              <a:path w="323" h="398">
                <a:moveTo>
                  <a:pt x="13742" y="14982"/>
                </a:moveTo>
                <a:cubicBezTo>
                  <a:pt x="13764" y="14960"/>
                  <a:pt x="13769" y="14951"/>
                  <a:pt x="13791" y="14957"/>
                </a:cubicBezTo>
                <a:cubicBezTo>
                  <a:pt x="13791" y="15030"/>
                  <a:pt x="13775" y="15086"/>
                  <a:pt x="13767" y="15156"/>
                </a:cubicBezTo>
                <a:cubicBezTo>
                  <a:pt x="13760" y="15220"/>
                  <a:pt x="13767" y="15289"/>
                  <a:pt x="13767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67240" y="5375160"/>
            <a:ext cx="982800" cy="250920"/>
          </a:xfrm>
          <a:custGeom>
            <a:avLst/>
            <a:gdLst/>
            <a:ahLst/>
            <a:rect l="l" t="t" r="r" b="b"/>
            <a:pathLst>
              <a:path w="2729" h="696">
                <a:moveTo>
                  <a:pt x="14932" y="15156"/>
                </a:moveTo>
                <a:cubicBezTo>
                  <a:pt x="14923" y="15143"/>
                  <a:pt x="14883" y="15077"/>
                  <a:pt x="14908" y="15056"/>
                </a:cubicBezTo>
                <a:cubicBezTo>
                  <a:pt x="14932" y="15036"/>
                  <a:pt x="15020" y="14990"/>
                  <a:pt x="15056" y="14982"/>
                </a:cubicBezTo>
                <a:cubicBezTo>
                  <a:pt x="15085" y="14976"/>
                  <a:pt x="15192" y="14965"/>
                  <a:pt x="15205" y="15007"/>
                </a:cubicBezTo>
                <a:cubicBezTo>
                  <a:pt x="15233" y="15098"/>
                  <a:pt x="15174" y="15140"/>
                  <a:pt x="15131" y="15205"/>
                </a:cubicBezTo>
                <a:cubicBezTo>
                  <a:pt x="15099" y="15253"/>
                  <a:pt x="15022" y="15296"/>
                  <a:pt x="15007" y="15354"/>
                </a:cubicBezTo>
                <a:cubicBezTo>
                  <a:pt x="15007" y="15396"/>
                  <a:pt x="15007" y="15404"/>
                  <a:pt x="15007" y="15429"/>
                </a:cubicBezTo>
                <a:cubicBezTo>
                  <a:pt x="15127" y="15429"/>
                  <a:pt x="15240" y="15436"/>
                  <a:pt x="15354" y="15453"/>
                </a:cubicBezTo>
                <a:cubicBezTo>
                  <a:pt x="15404" y="15453"/>
                  <a:pt x="15420" y="15453"/>
                  <a:pt x="15453" y="15453"/>
                </a:cubicBezTo>
              </a:path>
              <a:path w="2729" h="696">
                <a:moveTo>
                  <a:pt x="15850" y="15280"/>
                </a:moveTo>
                <a:cubicBezTo>
                  <a:pt x="15884" y="15234"/>
                  <a:pt x="15875" y="15218"/>
                  <a:pt x="15875" y="15280"/>
                </a:cubicBezTo>
                <a:cubicBezTo>
                  <a:pt x="15875" y="15337"/>
                  <a:pt x="15850" y="15390"/>
                  <a:pt x="15850" y="15453"/>
                </a:cubicBezTo>
                <a:cubicBezTo>
                  <a:pt x="15850" y="15478"/>
                  <a:pt x="15850" y="15486"/>
                  <a:pt x="15850" y="15503"/>
                </a:cubicBezTo>
              </a:path>
              <a:path w="2729" h="696">
                <a:moveTo>
                  <a:pt x="16049" y="15230"/>
                </a:moveTo>
                <a:cubicBezTo>
                  <a:pt x="16049" y="15213"/>
                  <a:pt x="16049" y="15197"/>
                  <a:pt x="16049" y="15180"/>
                </a:cubicBezTo>
                <a:cubicBezTo>
                  <a:pt x="16049" y="15234"/>
                  <a:pt x="16027" y="15250"/>
                  <a:pt x="16024" y="15304"/>
                </a:cubicBezTo>
                <a:cubicBezTo>
                  <a:pt x="16020" y="15368"/>
                  <a:pt x="16042" y="15463"/>
                  <a:pt x="16098" y="15503"/>
                </a:cubicBezTo>
                <a:cubicBezTo>
                  <a:pt x="16180" y="15562"/>
                  <a:pt x="16226" y="15518"/>
                  <a:pt x="16272" y="15453"/>
                </a:cubicBezTo>
              </a:path>
              <a:path w="2729" h="696">
                <a:moveTo>
                  <a:pt x="16272" y="15230"/>
                </a:moveTo>
                <a:cubicBezTo>
                  <a:pt x="16259" y="15192"/>
                  <a:pt x="16197" y="15194"/>
                  <a:pt x="16148" y="15205"/>
                </a:cubicBezTo>
                <a:cubicBezTo>
                  <a:pt x="16045" y="15227"/>
                  <a:pt x="15957" y="15230"/>
                  <a:pt x="15850" y="15230"/>
                </a:cubicBezTo>
                <a:cubicBezTo>
                  <a:pt x="15834" y="15230"/>
                  <a:pt x="15817" y="15230"/>
                  <a:pt x="15801" y="15230"/>
                </a:cubicBezTo>
              </a:path>
              <a:path w="2729" h="696">
                <a:moveTo>
                  <a:pt x="16669" y="15205"/>
                </a:moveTo>
                <a:cubicBezTo>
                  <a:pt x="16627" y="15191"/>
                  <a:pt x="16638" y="15166"/>
                  <a:pt x="16669" y="15131"/>
                </a:cubicBezTo>
                <a:cubicBezTo>
                  <a:pt x="16704" y="15091"/>
                  <a:pt x="16764" y="15063"/>
                  <a:pt x="16818" y="15081"/>
                </a:cubicBezTo>
                <a:cubicBezTo>
                  <a:pt x="16905" y="15110"/>
                  <a:pt x="16892" y="15180"/>
                  <a:pt x="16892" y="15255"/>
                </a:cubicBezTo>
                <a:cubicBezTo>
                  <a:pt x="16892" y="15342"/>
                  <a:pt x="16814" y="15331"/>
                  <a:pt x="16768" y="15354"/>
                </a:cubicBezTo>
                <a:cubicBezTo>
                  <a:pt x="16735" y="15370"/>
                  <a:pt x="16725" y="15400"/>
                  <a:pt x="16718" y="15429"/>
                </a:cubicBezTo>
                <a:cubicBezTo>
                  <a:pt x="16788" y="15454"/>
                  <a:pt x="16848" y="15468"/>
                  <a:pt x="16917" y="15503"/>
                </a:cubicBezTo>
                <a:cubicBezTo>
                  <a:pt x="16961" y="15525"/>
                  <a:pt x="16982" y="15544"/>
                  <a:pt x="17016" y="15577"/>
                </a:cubicBezTo>
                <a:cubicBezTo>
                  <a:pt x="16963" y="15630"/>
                  <a:pt x="16943" y="15627"/>
                  <a:pt x="16867" y="15627"/>
                </a:cubicBezTo>
                <a:cubicBezTo>
                  <a:pt x="16812" y="15627"/>
                  <a:pt x="16772" y="15609"/>
                  <a:pt x="16718" y="15602"/>
                </a:cubicBezTo>
              </a:path>
              <a:path w="2729" h="696">
                <a:moveTo>
                  <a:pt x="17314" y="14957"/>
                </a:moveTo>
                <a:cubicBezTo>
                  <a:pt x="17336" y="14923"/>
                  <a:pt x="17362" y="14932"/>
                  <a:pt x="17413" y="14932"/>
                </a:cubicBezTo>
                <a:cubicBezTo>
                  <a:pt x="17454" y="14932"/>
                  <a:pt x="17462" y="14932"/>
                  <a:pt x="17487" y="14932"/>
                </a:cubicBezTo>
                <a:cubicBezTo>
                  <a:pt x="17487" y="14982"/>
                  <a:pt x="17496" y="15017"/>
                  <a:pt x="17462" y="15056"/>
                </a:cubicBezTo>
                <a:cubicBezTo>
                  <a:pt x="17416" y="15110"/>
                  <a:pt x="17388" y="15112"/>
                  <a:pt x="17388" y="15180"/>
                </a:cubicBezTo>
                <a:cubicBezTo>
                  <a:pt x="17388" y="15188"/>
                  <a:pt x="17388" y="15197"/>
                  <a:pt x="17388" y="15205"/>
                </a:cubicBezTo>
                <a:cubicBezTo>
                  <a:pt x="17480" y="15205"/>
                  <a:pt x="17548" y="15185"/>
                  <a:pt x="17636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71840" y="1517760"/>
            <a:ext cx="911160" cy="787320"/>
          </a:xfrm>
          <a:custGeom>
            <a:avLst/>
            <a:gdLst/>
            <a:ahLst/>
            <a:rect l="l" t="t" r="r" b="b"/>
            <a:pathLst>
              <a:path w="2531" h="2184">
                <a:moveTo>
                  <a:pt x="7863" y="4514"/>
                </a:moveTo>
                <a:cubicBezTo>
                  <a:pt x="7883" y="4474"/>
                  <a:pt x="7892" y="4468"/>
                  <a:pt x="7888" y="4440"/>
                </a:cubicBezTo>
                <a:cubicBezTo>
                  <a:pt x="7888" y="4522"/>
                  <a:pt x="7884" y="4584"/>
                  <a:pt x="7863" y="4663"/>
                </a:cubicBezTo>
                <a:cubicBezTo>
                  <a:pt x="7829" y="4794"/>
                  <a:pt x="7835" y="4928"/>
                  <a:pt x="7813" y="5060"/>
                </a:cubicBezTo>
                <a:cubicBezTo>
                  <a:pt x="7796" y="5167"/>
                  <a:pt x="7769" y="5276"/>
                  <a:pt x="7764" y="5383"/>
                </a:cubicBezTo>
                <a:cubicBezTo>
                  <a:pt x="7761" y="5464"/>
                  <a:pt x="7739" y="5524"/>
                  <a:pt x="7739" y="5606"/>
                </a:cubicBezTo>
                <a:cubicBezTo>
                  <a:pt x="7739" y="5631"/>
                  <a:pt x="7739" y="5655"/>
                  <a:pt x="7739" y="5680"/>
                </a:cubicBezTo>
                <a:cubicBezTo>
                  <a:pt x="7953" y="5680"/>
                  <a:pt x="8149" y="5710"/>
                  <a:pt x="8359" y="5730"/>
                </a:cubicBezTo>
                <a:cubicBezTo>
                  <a:pt x="8508" y="5744"/>
                  <a:pt x="8636" y="5764"/>
                  <a:pt x="8781" y="5804"/>
                </a:cubicBezTo>
                <a:cubicBezTo>
                  <a:pt x="8883" y="5832"/>
                  <a:pt x="8974" y="5829"/>
                  <a:pt x="9079" y="5829"/>
                </a:cubicBezTo>
                <a:cubicBezTo>
                  <a:pt x="9125" y="5829"/>
                  <a:pt x="9168" y="5826"/>
                  <a:pt x="9203" y="5804"/>
                </a:cubicBezTo>
                <a:cubicBezTo>
                  <a:pt x="9210" y="5800"/>
                  <a:pt x="9220" y="5762"/>
                  <a:pt x="9227" y="5755"/>
                </a:cubicBezTo>
                <a:cubicBezTo>
                  <a:pt x="9156" y="5683"/>
                  <a:pt x="9078" y="5623"/>
                  <a:pt x="9004" y="5556"/>
                </a:cubicBezTo>
                <a:cubicBezTo>
                  <a:pt x="8759" y="5335"/>
                  <a:pt x="8521" y="5089"/>
                  <a:pt x="8310" y="4837"/>
                </a:cubicBezTo>
                <a:cubicBezTo>
                  <a:pt x="8166" y="4666"/>
                  <a:pt x="8018" y="4489"/>
                  <a:pt x="7913" y="4291"/>
                </a:cubicBezTo>
                <a:cubicBezTo>
                  <a:pt x="7891" y="4248"/>
                  <a:pt x="7887" y="4236"/>
                  <a:pt x="7863" y="4217"/>
                </a:cubicBezTo>
              </a:path>
              <a:path w="2531" h="2184">
                <a:moveTo>
                  <a:pt x="8111" y="6102"/>
                </a:moveTo>
                <a:cubicBezTo>
                  <a:pt x="8076" y="6075"/>
                  <a:pt x="8081" y="6077"/>
                  <a:pt x="8037" y="6077"/>
                </a:cubicBezTo>
                <a:cubicBezTo>
                  <a:pt x="8055" y="6005"/>
                  <a:pt x="8075" y="6046"/>
                  <a:pt x="8136" y="6028"/>
                </a:cubicBezTo>
                <a:cubicBezTo>
                  <a:pt x="8202" y="6008"/>
                  <a:pt x="8275" y="5986"/>
                  <a:pt x="8334" y="6052"/>
                </a:cubicBezTo>
                <a:cubicBezTo>
                  <a:pt x="8366" y="6088"/>
                  <a:pt x="8364" y="6142"/>
                  <a:pt x="8334" y="6176"/>
                </a:cubicBezTo>
                <a:cubicBezTo>
                  <a:pt x="8300" y="6214"/>
                  <a:pt x="8272" y="6223"/>
                  <a:pt x="8235" y="6251"/>
                </a:cubicBezTo>
                <a:cubicBezTo>
                  <a:pt x="8272" y="6279"/>
                  <a:pt x="8299" y="6289"/>
                  <a:pt x="8334" y="6325"/>
                </a:cubicBezTo>
                <a:cubicBezTo>
                  <a:pt x="8364" y="6355"/>
                  <a:pt x="8359" y="6360"/>
                  <a:pt x="8359" y="6400"/>
                </a:cubicBezTo>
                <a:cubicBezTo>
                  <a:pt x="8272" y="6400"/>
                  <a:pt x="8194" y="6407"/>
                  <a:pt x="8111" y="6375"/>
                </a:cubicBezTo>
                <a:cubicBezTo>
                  <a:pt x="8095" y="6367"/>
                  <a:pt x="8078" y="6358"/>
                  <a:pt x="8062" y="6350"/>
                </a:cubicBezTo>
              </a:path>
              <a:path w="2531" h="2184">
                <a:moveTo>
                  <a:pt x="7144" y="4837"/>
                </a:moveTo>
                <a:cubicBezTo>
                  <a:pt x="7152" y="4829"/>
                  <a:pt x="7161" y="4820"/>
                  <a:pt x="7169" y="4812"/>
                </a:cubicBezTo>
                <a:cubicBezTo>
                  <a:pt x="7169" y="4870"/>
                  <a:pt x="7153" y="4915"/>
                  <a:pt x="7144" y="4961"/>
                </a:cubicBezTo>
                <a:cubicBezTo>
                  <a:pt x="7133" y="5015"/>
                  <a:pt x="7134" y="5095"/>
                  <a:pt x="7169" y="5135"/>
                </a:cubicBezTo>
                <a:cubicBezTo>
                  <a:pt x="7204" y="5174"/>
                  <a:pt x="7217" y="5184"/>
                  <a:pt x="7268" y="5184"/>
                </a:cubicBezTo>
                <a:cubicBezTo>
                  <a:pt x="7334" y="5184"/>
                  <a:pt x="7400" y="5184"/>
                  <a:pt x="7466" y="5184"/>
                </a:cubicBezTo>
              </a:path>
              <a:path w="2531" h="2184">
                <a:moveTo>
                  <a:pt x="7367" y="5110"/>
                </a:moveTo>
                <a:cubicBezTo>
                  <a:pt x="7359" y="5102"/>
                  <a:pt x="7350" y="5093"/>
                  <a:pt x="7342" y="5085"/>
                </a:cubicBezTo>
                <a:cubicBezTo>
                  <a:pt x="7342" y="5159"/>
                  <a:pt x="7342" y="5234"/>
                  <a:pt x="7342" y="5308"/>
                </a:cubicBezTo>
              </a:path>
              <a:path w="2531" h="2184">
                <a:moveTo>
                  <a:pt x="7764" y="5432"/>
                </a:moveTo>
                <a:cubicBezTo>
                  <a:pt x="7840" y="5432"/>
                  <a:pt x="7956" y="5407"/>
                  <a:pt x="8012" y="5457"/>
                </a:cubicBezTo>
                <a:cubicBezTo>
                  <a:pt x="8055" y="5495"/>
                  <a:pt x="8037" y="5578"/>
                  <a:pt x="8037" y="5631"/>
                </a:cubicBezTo>
                <a:cubicBezTo>
                  <a:pt x="8037" y="5695"/>
                  <a:pt x="8012" y="5739"/>
                  <a:pt x="8012" y="5804"/>
                </a:cubicBezTo>
              </a:path>
              <a:path w="2531" h="2184">
                <a:moveTo>
                  <a:pt x="9327" y="4614"/>
                </a:moveTo>
                <a:cubicBezTo>
                  <a:pt x="9347" y="4573"/>
                  <a:pt x="9355" y="4567"/>
                  <a:pt x="9351" y="4539"/>
                </a:cubicBezTo>
                <a:cubicBezTo>
                  <a:pt x="9338" y="4544"/>
                  <a:pt x="9285" y="4587"/>
                  <a:pt x="9277" y="4614"/>
                </a:cubicBezTo>
                <a:cubicBezTo>
                  <a:pt x="9254" y="4693"/>
                  <a:pt x="9300" y="4700"/>
                  <a:pt x="9351" y="4738"/>
                </a:cubicBezTo>
                <a:cubicBezTo>
                  <a:pt x="9407" y="4780"/>
                  <a:pt x="9466" y="4758"/>
                  <a:pt x="9525" y="4812"/>
                </a:cubicBezTo>
                <a:cubicBezTo>
                  <a:pt x="9573" y="4855"/>
                  <a:pt x="9575" y="4872"/>
                  <a:pt x="9575" y="4936"/>
                </a:cubicBezTo>
                <a:cubicBezTo>
                  <a:pt x="9479" y="4936"/>
                  <a:pt x="9390" y="4945"/>
                  <a:pt x="9302" y="4911"/>
                </a:cubicBezTo>
              </a:path>
              <a:path w="2531" h="2184">
                <a:moveTo>
                  <a:pt x="9624" y="4564"/>
                </a:moveTo>
                <a:cubicBezTo>
                  <a:pt x="9663" y="4525"/>
                  <a:pt x="9680" y="4524"/>
                  <a:pt x="9674" y="4490"/>
                </a:cubicBezTo>
                <a:cubicBezTo>
                  <a:pt x="9618" y="4503"/>
                  <a:pt x="9564" y="4530"/>
                  <a:pt x="9500" y="4539"/>
                </a:cubicBezTo>
                <a:cubicBezTo>
                  <a:pt x="9484" y="4539"/>
                  <a:pt x="9467" y="4539"/>
                  <a:pt x="9451" y="4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7040" y="5680080"/>
            <a:ext cx="115920" cy="71280"/>
          </a:xfrm>
          <a:custGeom>
            <a:avLst/>
            <a:gdLst/>
            <a:ahLst/>
            <a:rect l="l" t="t" r="r" b="b"/>
            <a:pathLst>
              <a:path w="324" h="199">
                <a:moveTo>
                  <a:pt x="1786" y="15776"/>
                </a:moveTo>
                <a:cubicBezTo>
                  <a:pt x="1709" y="15776"/>
                  <a:pt x="1659" y="15783"/>
                  <a:pt x="1588" y="15801"/>
                </a:cubicBezTo>
                <a:cubicBezTo>
                  <a:pt x="1544" y="15812"/>
                  <a:pt x="1504" y="15815"/>
                  <a:pt x="1463" y="15825"/>
                </a:cubicBezTo>
              </a:path>
              <a:path w="324" h="199">
                <a:moveTo>
                  <a:pt x="1786" y="15850"/>
                </a:moveTo>
                <a:cubicBezTo>
                  <a:pt x="1774" y="15898"/>
                  <a:pt x="1740" y="15912"/>
                  <a:pt x="1687" y="15925"/>
                </a:cubicBezTo>
                <a:cubicBezTo>
                  <a:pt x="1645" y="15936"/>
                  <a:pt x="1622" y="15946"/>
                  <a:pt x="1588" y="159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84160" y="5670720"/>
            <a:ext cx="777960" cy="231480"/>
          </a:xfrm>
          <a:custGeom>
            <a:avLst/>
            <a:gdLst/>
            <a:ahLst/>
            <a:rect l="l" t="t" r="r" b="b"/>
            <a:pathLst>
              <a:path w="2159" h="646">
                <a:moveTo>
                  <a:pt x="2480" y="15850"/>
                </a:moveTo>
                <a:cubicBezTo>
                  <a:pt x="2472" y="15850"/>
                  <a:pt x="2464" y="15850"/>
                  <a:pt x="2456" y="15850"/>
                </a:cubicBezTo>
                <a:cubicBezTo>
                  <a:pt x="2466" y="15820"/>
                  <a:pt x="2498" y="15808"/>
                  <a:pt x="2530" y="15776"/>
                </a:cubicBezTo>
                <a:cubicBezTo>
                  <a:pt x="2556" y="15750"/>
                  <a:pt x="2616" y="15732"/>
                  <a:pt x="2654" y="15751"/>
                </a:cubicBezTo>
                <a:cubicBezTo>
                  <a:pt x="2708" y="15778"/>
                  <a:pt x="2716" y="15876"/>
                  <a:pt x="2704" y="15925"/>
                </a:cubicBezTo>
                <a:cubicBezTo>
                  <a:pt x="2687" y="15992"/>
                  <a:pt x="2644" y="16056"/>
                  <a:pt x="2629" y="16123"/>
                </a:cubicBezTo>
                <a:cubicBezTo>
                  <a:pt x="2623" y="16150"/>
                  <a:pt x="2629" y="16193"/>
                  <a:pt x="2629" y="16222"/>
                </a:cubicBezTo>
                <a:cubicBezTo>
                  <a:pt x="2678" y="16222"/>
                  <a:pt x="2716" y="16204"/>
                  <a:pt x="2753" y="16197"/>
                </a:cubicBezTo>
                <a:cubicBezTo>
                  <a:pt x="2806" y="16186"/>
                  <a:pt x="2872" y="16197"/>
                  <a:pt x="2927" y="16197"/>
                </a:cubicBezTo>
              </a:path>
              <a:path w="2159" h="646">
                <a:moveTo>
                  <a:pt x="3001" y="15801"/>
                </a:moveTo>
                <a:cubicBezTo>
                  <a:pt x="2993" y="15793"/>
                  <a:pt x="2985" y="15784"/>
                  <a:pt x="2977" y="15776"/>
                </a:cubicBezTo>
                <a:cubicBezTo>
                  <a:pt x="3026" y="15776"/>
                  <a:pt x="3173" y="15749"/>
                  <a:pt x="3200" y="15801"/>
                </a:cubicBezTo>
                <a:cubicBezTo>
                  <a:pt x="3221" y="15843"/>
                  <a:pt x="3174" y="15876"/>
                  <a:pt x="3150" y="15900"/>
                </a:cubicBezTo>
                <a:cubicBezTo>
                  <a:pt x="3109" y="15941"/>
                  <a:pt x="3087" y="15967"/>
                  <a:pt x="3076" y="16024"/>
                </a:cubicBezTo>
                <a:cubicBezTo>
                  <a:pt x="3128" y="16054"/>
                  <a:pt x="3175" y="16092"/>
                  <a:pt x="3225" y="16123"/>
                </a:cubicBezTo>
                <a:cubicBezTo>
                  <a:pt x="3279" y="16156"/>
                  <a:pt x="3284" y="16189"/>
                  <a:pt x="3299" y="16247"/>
                </a:cubicBezTo>
                <a:cubicBezTo>
                  <a:pt x="3244" y="16280"/>
                  <a:pt x="3193" y="16272"/>
                  <a:pt x="3125" y="16272"/>
                </a:cubicBezTo>
                <a:cubicBezTo>
                  <a:pt x="3117" y="16272"/>
                  <a:pt x="3109" y="16272"/>
                  <a:pt x="3101" y="16272"/>
                </a:cubicBezTo>
              </a:path>
              <a:path w="2159" h="646">
                <a:moveTo>
                  <a:pt x="3547" y="15875"/>
                </a:moveTo>
                <a:cubicBezTo>
                  <a:pt x="3601" y="15821"/>
                  <a:pt x="3535" y="15917"/>
                  <a:pt x="3522" y="15949"/>
                </a:cubicBezTo>
                <a:cubicBezTo>
                  <a:pt x="3498" y="16009"/>
                  <a:pt x="3481" y="16051"/>
                  <a:pt x="3547" y="16098"/>
                </a:cubicBezTo>
                <a:cubicBezTo>
                  <a:pt x="3599" y="16135"/>
                  <a:pt x="3669" y="16124"/>
                  <a:pt x="3721" y="16148"/>
                </a:cubicBezTo>
                <a:cubicBezTo>
                  <a:pt x="3750" y="16161"/>
                  <a:pt x="3779" y="16222"/>
                  <a:pt x="3770" y="16247"/>
                </a:cubicBezTo>
                <a:cubicBezTo>
                  <a:pt x="3757" y="16284"/>
                  <a:pt x="3675" y="16295"/>
                  <a:pt x="3646" y="16297"/>
                </a:cubicBezTo>
                <a:cubicBezTo>
                  <a:pt x="3597" y="16300"/>
                  <a:pt x="3567" y="16281"/>
                  <a:pt x="3522" y="16272"/>
                </a:cubicBezTo>
              </a:path>
              <a:path w="2159" h="646">
                <a:moveTo>
                  <a:pt x="3845" y="15850"/>
                </a:moveTo>
                <a:cubicBezTo>
                  <a:pt x="3845" y="15842"/>
                  <a:pt x="3845" y="15833"/>
                  <a:pt x="3845" y="15825"/>
                </a:cubicBezTo>
                <a:cubicBezTo>
                  <a:pt x="3792" y="15825"/>
                  <a:pt x="3771" y="15841"/>
                  <a:pt x="3721" y="15850"/>
                </a:cubicBezTo>
                <a:cubicBezTo>
                  <a:pt x="3669" y="15850"/>
                  <a:pt x="3651" y="15851"/>
                  <a:pt x="3621" y="15875"/>
                </a:cubicBezTo>
              </a:path>
              <a:path w="2159" h="646">
                <a:moveTo>
                  <a:pt x="4043" y="16321"/>
                </a:moveTo>
                <a:cubicBezTo>
                  <a:pt x="4051" y="16329"/>
                  <a:pt x="4060" y="16338"/>
                  <a:pt x="4068" y="16346"/>
                </a:cubicBezTo>
              </a:path>
              <a:path w="2159" h="646">
                <a:moveTo>
                  <a:pt x="4316" y="15900"/>
                </a:moveTo>
                <a:cubicBezTo>
                  <a:pt x="4248" y="15900"/>
                  <a:pt x="4383" y="15879"/>
                  <a:pt x="4390" y="15875"/>
                </a:cubicBezTo>
                <a:cubicBezTo>
                  <a:pt x="4436" y="15852"/>
                  <a:pt x="4496" y="15872"/>
                  <a:pt x="4539" y="15850"/>
                </a:cubicBezTo>
                <a:cubicBezTo>
                  <a:pt x="4562" y="15827"/>
                  <a:pt x="4566" y="15819"/>
                  <a:pt x="4589" y="15825"/>
                </a:cubicBezTo>
                <a:cubicBezTo>
                  <a:pt x="4634" y="15884"/>
                  <a:pt x="4589" y="15928"/>
                  <a:pt x="4564" y="15999"/>
                </a:cubicBezTo>
                <a:cubicBezTo>
                  <a:pt x="4527" y="16103"/>
                  <a:pt x="4485" y="16198"/>
                  <a:pt x="4440" y="16297"/>
                </a:cubicBezTo>
                <a:cubicBezTo>
                  <a:pt x="4415" y="16346"/>
                  <a:pt x="4406" y="16363"/>
                  <a:pt x="4390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95320" y="5786280"/>
            <a:ext cx="455760" cy="196920"/>
          </a:xfrm>
          <a:custGeom>
            <a:avLst/>
            <a:gdLst/>
            <a:ahLst/>
            <a:rect l="l" t="t" r="r" b="b"/>
            <a:pathLst>
              <a:path w="1266" h="547">
                <a:moveTo>
                  <a:pt x="5184" y="16272"/>
                </a:moveTo>
                <a:cubicBezTo>
                  <a:pt x="5184" y="16247"/>
                  <a:pt x="5184" y="16239"/>
                  <a:pt x="5184" y="16222"/>
                </a:cubicBezTo>
                <a:cubicBezTo>
                  <a:pt x="5132" y="16222"/>
                  <a:pt x="5073" y="16228"/>
                  <a:pt x="5035" y="16272"/>
                </a:cubicBezTo>
                <a:cubicBezTo>
                  <a:pt x="4985" y="16330"/>
                  <a:pt x="4986" y="16400"/>
                  <a:pt x="4986" y="16470"/>
                </a:cubicBezTo>
                <a:cubicBezTo>
                  <a:pt x="4986" y="16551"/>
                  <a:pt x="5034" y="16583"/>
                  <a:pt x="5110" y="16594"/>
                </a:cubicBezTo>
                <a:cubicBezTo>
                  <a:pt x="5157" y="16601"/>
                  <a:pt x="5211" y="16594"/>
                  <a:pt x="5259" y="16594"/>
                </a:cubicBezTo>
              </a:path>
              <a:path w="1266" h="547">
                <a:moveTo>
                  <a:pt x="5407" y="16371"/>
                </a:moveTo>
                <a:cubicBezTo>
                  <a:pt x="5407" y="16308"/>
                  <a:pt x="5385" y="16448"/>
                  <a:pt x="5383" y="16470"/>
                </a:cubicBezTo>
                <a:cubicBezTo>
                  <a:pt x="5381" y="16503"/>
                  <a:pt x="5383" y="16537"/>
                  <a:pt x="5383" y="16570"/>
                </a:cubicBezTo>
                <a:cubicBezTo>
                  <a:pt x="5406" y="16538"/>
                  <a:pt x="5447" y="16487"/>
                  <a:pt x="5457" y="16446"/>
                </a:cubicBezTo>
                <a:cubicBezTo>
                  <a:pt x="5457" y="16401"/>
                  <a:pt x="5454" y="16388"/>
                  <a:pt x="5482" y="16371"/>
                </a:cubicBezTo>
                <a:cubicBezTo>
                  <a:pt x="5540" y="16400"/>
                  <a:pt x="5517" y="16446"/>
                  <a:pt x="5556" y="16495"/>
                </a:cubicBezTo>
                <a:cubicBezTo>
                  <a:pt x="5564" y="16503"/>
                  <a:pt x="5573" y="16512"/>
                  <a:pt x="5581" y="16520"/>
                </a:cubicBezTo>
                <a:cubicBezTo>
                  <a:pt x="5622" y="16479"/>
                  <a:pt x="5667" y="16430"/>
                  <a:pt x="5680" y="16371"/>
                </a:cubicBezTo>
                <a:cubicBezTo>
                  <a:pt x="5680" y="16326"/>
                  <a:pt x="5676" y="16313"/>
                  <a:pt x="5705" y="16297"/>
                </a:cubicBezTo>
                <a:cubicBezTo>
                  <a:pt x="5779" y="16333"/>
                  <a:pt x="5761" y="16394"/>
                  <a:pt x="5779" y="16470"/>
                </a:cubicBezTo>
                <a:cubicBezTo>
                  <a:pt x="5793" y="16531"/>
                  <a:pt x="5804" y="16558"/>
                  <a:pt x="5804" y="16619"/>
                </a:cubicBezTo>
              </a:path>
              <a:path w="1266" h="547">
                <a:moveTo>
                  <a:pt x="6028" y="16197"/>
                </a:moveTo>
                <a:cubicBezTo>
                  <a:pt x="5987" y="16197"/>
                  <a:pt x="5970" y="16206"/>
                  <a:pt x="5978" y="16173"/>
                </a:cubicBezTo>
                <a:cubicBezTo>
                  <a:pt x="5989" y="16130"/>
                  <a:pt x="6033" y="16091"/>
                  <a:pt x="6077" y="16073"/>
                </a:cubicBezTo>
                <a:cubicBezTo>
                  <a:pt x="6102" y="16073"/>
                  <a:pt x="6110" y="16073"/>
                  <a:pt x="6127" y="16073"/>
                </a:cubicBezTo>
                <a:cubicBezTo>
                  <a:pt x="6127" y="16131"/>
                  <a:pt x="6115" y="16168"/>
                  <a:pt x="6102" y="16222"/>
                </a:cubicBezTo>
                <a:cubicBezTo>
                  <a:pt x="6095" y="16252"/>
                  <a:pt x="6102" y="16290"/>
                  <a:pt x="6102" y="16321"/>
                </a:cubicBezTo>
                <a:cubicBezTo>
                  <a:pt x="6165" y="16321"/>
                  <a:pt x="6193" y="16321"/>
                  <a:pt x="6251" y="162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9560" t="59506" r="8087" b="14143"/>
          <a:stretch/>
        </p:blipFill>
        <p:spPr>
          <a:xfrm>
            <a:off x="0" y="0"/>
            <a:ext cx="6400800" cy="28195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rcRect l="22450" t="6101" r="27554" b="65412"/>
          <a:stretch/>
        </p:blipFill>
        <p:spPr>
          <a:xfrm>
            <a:off x="6324480" y="0"/>
            <a:ext cx="2590920" cy="2031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66840" y="2911320"/>
            <a:ext cx="222120" cy="276480"/>
          </a:xfrm>
          <a:custGeom>
            <a:avLst/>
            <a:gdLst/>
            <a:ahLst/>
            <a:rect l="l" t="t" r="r" b="b"/>
            <a:pathLst>
              <a:path w="621" h="770">
                <a:moveTo>
                  <a:pt x="1240" y="8434"/>
                </a:moveTo>
                <a:cubicBezTo>
                  <a:pt x="1240" y="8372"/>
                  <a:pt x="1216" y="8492"/>
                  <a:pt x="1215" y="8508"/>
                </a:cubicBezTo>
                <a:cubicBezTo>
                  <a:pt x="1213" y="8549"/>
                  <a:pt x="1215" y="8591"/>
                  <a:pt x="1215" y="8632"/>
                </a:cubicBezTo>
              </a:path>
              <a:path w="621" h="770">
                <a:moveTo>
                  <a:pt x="1116" y="8186"/>
                </a:moveTo>
                <a:cubicBezTo>
                  <a:pt x="1108" y="8169"/>
                  <a:pt x="1099" y="8153"/>
                  <a:pt x="1091" y="8136"/>
                </a:cubicBezTo>
              </a:path>
              <a:path w="621" h="770">
                <a:moveTo>
                  <a:pt x="1116" y="8186"/>
                </a:moveTo>
                <a:cubicBezTo>
                  <a:pt x="1297" y="8077"/>
                  <a:pt x="1278" y="8056"/>
                  <a:pt x="1439" y="8161"/>
                </a:cubicBezTo>
                <a:cubicBezTo>
                  <a:pt x="1542" y="8228"/>
                  <a:pt x="1619" y="8333"/>
                  <a:pt x="1637" y="8458"/>
                </a:cubicBezTo>
                <a:cubicBezTo>
                  <a:pt x="1652" y="8563"/>
                  <a:pt x="1617" y="8728"/>
                  <a:pt x="1538" y="8806"/>
                </a:cubicBezTo>
                <a:cubicBezTo>
                  <a:pt x="1513" y="8822"/>
                  <a:pt x="1488" y="8839"/>
                  <a:pt x="1463" y="8855"/>
                </a:cubicBezTo>
              </a:path>
              <a:path w="621" h="770">
                <a:moveTo>
                  <a:pt x="1067" y="8186"/>
                </a:moveTo>
                <a:cubicBezTo>
                  <a:pt x="1067" y="8133"/>
                  <a:pt x="1055" y="8204"/>
                  <a:pt x="1042" y="8210"/>
                </a:cubicBezTo>
                <a:cubicBezTo>
                  <a:pt x="1003" y="8229"/>
                  <a:pt x="1017" y="8179"/>
                  <a:pt x="1017" y="8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55800" y="3017880"/>
            <a:ext cx="544320" cy="144360"/>
          </a:xfrm>
          <a:custGeom>
            <a:avLst/>
            <a:gdLst/>
            <a:ahLst/>
            <a:rect l="l" t="t" r="r" b="b"/>
            <a:pathLst>
              <a:path w="1514" h="398">
                <a:moveTo>
                  <a:pt x="2853" y="8508"/>
                </a:moveTo>
                <a:cubicBezTo>
                  <a:pt x="2858" y="8478"/>
                  <a:pt x="2893" y="8439"/>
                  <a:pt x="2877" y="8409"/>
                </a:cubicBezTo>
                <a:cubicBezTo>
                  <a:pt x="2841" y="8342"/>
                  <a:pt x="2764" y="8402"/>
                  <a:pt x="2729" y="8434"/>
                </a:cubicBezTo>
                <a:cubicBezTo>
                  <a:pt x="2672" y="8487"/>
                  <a:pt x="2631" y="8550"/>
                  <a:pt x="2654" y="8632"/>
                </a:cubicBezTo>
                <a:cubicBezTo>
                  <a:pt x="2674" y="8704"/>
                  <a:pt x="2743" y="8722"/>
                  <a:pt x="2803" y="8731"/>
                </a:cubicBezTo>
              </a:path>
              <a:path w="1514" h="398">
                <a:moveTo>
                  <a:pt x="3076" y="8582"/>
                </a:moveTo>
                <a:cubicBezTo>
                  <a:pt x="3082" y="8565"/>
                  <a:pt x="3120" y="8521"/>
                  <a:pt x="3150" y="8508"/>
                </a:cubicBezTo>
                <a:cubicBezTo>
                  <a:pt x="3191" y="8490"/>
                  <a:pt x="3251" y="8527"/>
                  <a:pt x="3274" y="8558"/>
                </a:cubicBezTo>
                <a:cubicBezTo>
                  <a:pt x="3311" y="8609"/>
                  <a:pt x="3312" y="8663"/>
                  <a:pt x="3274" y="8706"/>
                </a:cubicBezTo>
                <a:cubicBezTo>
                  <a:pt x="3245" y="8739"/>
                  <a:pt x="3168" y="8746"/>
                  <a:pt x="3125" y="8731"/>
                </a:cubicBezTo>
                <a:cubicBezTo>
                  <a:pt x="3109" y="8723"/>
                  <a:pt x="3092" y="8714"/>
                  <a:pt x="3076" y="8706"/>
                </a:cubicBezTo>
              </a:path>
              <a:path w="1514" h="398">
                <a:moveTo>
                  <a:pt x="3324" y="8483"/>
                </a:moveTo>
                <a:cubicBezTo>
                  <a:pt x="3392" y="8483"/>
                  <a:pt x="3409" y="8480"/>
                  <a:pt x="3423" y="8558"/>
                </a:cubicBezTo>
                <a:cubicBezTo>
                  <a:pt x="3435" y="8625"/>
                  <a:pt x="3408" y="8679"/>
                  <a:pt x="3398" y="8731"/>
                </a:cubicBezTo>
                <a:cubicBezTo>
                  <a:pt x="3398" y="8773"/>
                  <a:pt x="3398" y="8798"/>
                  <a:pt x="3398" y="8756"/>
                </a:cubicBezTo>
                <a:cubicBezTo>
                  <a:pt x="3406" y="8689"/>
                  <a:pt x="3429" y="8615"/>
                  <a:pt x="3473" y="8558"/>
                </a:cubicBezTo>
                <a:cubicBezTo>
                  <a:pt x="3526" y="8489"/>
                  <a:pt x="3541" y="8500"/>
                  <a:pt x="3597" y="8533"/>
                </a:cubicBezTo>
                <a:cubicBezTo>
                  <a:pt x="3658" y="8569"/>
                  <a:pt x="3667" y="8632"/>
                  <a:pt x="3671" y="8706"/>
                </a:cubicBezTo>
                <a:cubicBezTo>
                  <a:pt x="3671" y="8748"/>
                  <a:pt x="3671" y="8756"/>
                  <a:pt x="3671" y="8781"/>
                </a:cubicBezTo>
              </a:path>
              <a:path w="1514" h="398">
                <a:moveTo>
                  <a:pt x="3721" y="8632"/>
                </a:moveTo>
                <a:cubicBezTo>
                  <a:pt x="3770" y="8632"/>
                  <a:pt x="3860" y="8650"/>
                  <a:pt x="3894" y="8607"/>
                </a:cubicBezTo>
                <a:cubicBezTo>
                  <a:pt x="3927" y="8564"/>
                  <a:pt x="3974" y="8481"/>
                  <a:pt x="3919" y="8434"/>
                </a:cubicBezTo>
                <a:cubicBezTo>
                  <a:pt x="3911" y="8434"/>
                  <a:pt x="3902" y="8434"/>
                  <a:pt x="3894" y="8434"/>
                </a:cubicBezTo>
                <a:cubicBezTo>
                  <a:pt x="3871" y="8450"/>
                  <a:pt x="3850" y="8535"/>
                  <a:pt x="3870" y="8582"/>
                </a:cubicBezTo>
                <a:cubicBezTo>
                  <a:pt x="3901" y="8653"/>
                  <a:pt x="3959" y="8741"/>
                  <a:pt x="4043" y="8756"/>
                </a:cubicBezTo>
                <a:cubicBezTo>
                  <a:pt x="4109" y="8756"/>
                  <a:pt x="4126" y="8756"/>
                  <a:pt x="4167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41760" y="3000240"/>
            <a:ext cx="125280" cy="108000"/>
          </a:xfrm>
          <a:custGeom>
            <a:avLst/>
            <a:gdLst/>
            <a:ahLst/>
            <a:rect l="l" t="t" r="r" b="b"/>
            <a:pathLst>
              <a:path w="348" h="299">
                <a:moveTo>
                  <a:pt x="7888" y="8458"/>
                </a:moveTo>
                <a:cubicBezTo>
                  <a:pt x="7967" y="8492"/>
                  <a:pt x="7976" y="8483"/>
                  <a:pt x="7888" y="8483"/>
                </a:cubicBezTo>
                <a:cubicBezTo>
                  <a:pt x="7805" y="8483"/>
                  <a:pt x="7741" y="8495"/>
                  <a:pt x="7665" y="8508"/>
                </a:cubicBezTo>
                <a:cubicBezTo>
                  <a:pt x="7648" y="8508"/>
                  <a:pt x="7632" y="8508"/>
                  <a:pt x="7615" y="8508"/>
                </a:cubicBezTo>
              </a:path>
              <a:path w="348" h="299">
                <a:moveTo>
                  <a:pt x="7689" y="8359"/>
                </a:moveTo>
                <a:cubicBezTo>
                  <a:pt x="7706" y="8351"/>
                  <a:pt x="7722" y="8342"/>
                  <a:pt x="7739" y="8334"/>
                </a:cubicBezTo>
                <a:cubicBezTo>
                  <a:pt x="7770" y="8417"/>
                  <a:pt x="7764" y="8491"/>
                  <a:pt x="7764" y="8582"/>
                </a:cubicBezTo>
                <a:cubicBezTo>
                  <a:pt x="7764" y="8599"/>
                  <a:pt x="7764" y="8615"/>
                  <a:pt x="7764" y="8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5080" y="2894040"/>
            <a:ext cx="965160" cy="312840"/>
          </a:xfrm>
          <a:custGeom>
            <a:avLst/>
            <a:gdLst/>
            <a:ahLst/>
            <a:rect l="l" t="t" r="r" b="b"/>
            <a:pathLst>
              <a:path w="2680" h="869">
                <a:moveTo>
                  <a:pt x="9079" y="8310"/>
                </a:moveTo>
                <a:cubicBezTo>
                  <a:pt x="9005" y="8324"/>
                  <a:pt x="8968" y="8345"/>
                  <a:pt x="8930" y="8409"/>
                </a:cubicBezTo>
                <a:cubicBezTo>
                  <a:pt x="8893" y="8472"/>
                  <a:pt x="8887" y="8559"/>
                  <a:pt x="8954" y="8607"/>
                </a:cubicBezTo>
                <a:cubicBezTo>
                  <a:pt x="9006" y="8645"/>
                  <a:pt x="9067" y="8632"/>
                  <a:pt x="9128" y="8632"/>
                </a:cubicBezTo>
              </a:path>
              <a:path w="2680" h="869">
                <a:moveTo>
                  <a:pt x="9302" y="8409"/>
                </a:moveTo>
                <a:cubicBezTo>
                  <a:pt x="9302" y="8384"/>
                  <a:pt x="9302" y="8376"/>
                  <a:pt x="9327" y="8384"/>
                </a:cubicBezTo>
                <a:cubicBezTo>
                  <a:pt x="9327" y="8427"/>
                  <a:pt x="9313" y="8499"/>
                  <a:pt x="9351" y="8533"/>
                </a:cubicBezTo>
                <a:cubicBezTo>
                  <a:pt x="9401" y="8577"/>
                  <a:pt x="9505" y="8520"/>
                  <a:pt x="9575" y="8582"/>
                </a:cubicBezTo>
                <a:cubicBezTo>
                  <a:pt x="9647" y="8646"/>
                  <a:pt x="9682" y="8717"/>
                  <a:pt x="9649" y="8806"/>
                </a:cubicBezTo>
                <a:cubicBezTo>
                  <a:pt x="9612" y="8906"/>
                  <a:pt x="9465" y="8902"/>
                  <a:pt x="9376" y="8905"/>
                </a:cubicBezTo>
                <a:cubicBezTo>
                  <a:pt x="9300" y="8905"/>
                  <a:pt x="9274" y="8904"/>
                  <a:pt x="9227" y="8880"/>
                </a:cubicBezTo>
              </a:path>
              <a:path w="2680" h="869">
                <a:moveTo>
                  <a:pt x="9872" y="8186"/>
                </a:moveTo>
                <a:cubicBezTo>
                  <a:pt x="9888" y="8148"/>
                  <a:pt x="9902" y="8092"/>
                  <a:pt x="9922" y="8062"/>
                </a:cubicBezTo>
                <a:cubicBezTo>
                  <a:pt x="9930" y="8054"/>
                  <a:pt x="9939" y="8045"/>
                  <a:pt x="9947" y="8037"/>
                </a:cubicBezTo>
                <a:cubicBezTo>
                  <a:pt x="9947" y="8133"/>
                  <a:pt x="9925" y="8214"/>
                  <a:pt x="9922" y="8310"/>
                </a:cubicBezTo>
                <a:cubicBezTo>
                  <a:pt x="9919" y="8400"/>
                  <a:pt x="9922" y="8491"/>
                  <a:pt x="9922" y="8582"/>
                </a:cubicBezTo>
              </a:path>
              <a:path w="2680" h="869">
                <a:moveTo>
                  <a:pt x="10071" y="8409"/>
                </a:moveTo>
                <a:cubicBezTo>
                  <a:pt x="10087" y="8392"/>
                  <a:pt x="10104" y="8376"/>
                  <a:pt x="10120" y="8359"/>
                </a:cubicBezTo>
                <a:cubicBezTo>
                  <a:pt x="10133" y="8412"/>
                  <a:pt x="10145" y="8444"/>
                  <a:pt x="10145" y="8508"/>
                </a:cubicBezTo>
                <a:cubicBezTo>
                  <a:pt x="10145" y="8549"/>
                  <a:pt x="10145" y="8557"/>
                  <a:pt x="10145" y="8582"/>
                </a:cubicBezTo>
              </a:path>
              <a:path w="2680" h="869">
                <a:moveTo>
                  <a:pt x="10170" y="8359"/>
                </a:moveTo>
                <a:cubicBezTo>
                  <a:pt x="10177" y="8263"/>
                  <a:pt x="10196" y="8235"/>
                  <a:pt x="10220" y="8186"/>
                </a:cubicBezTo>
                <a:cubicBezTo>
                  <a:pt x="10220" y="8178"/>
                  <a:pt x="10220" y="8169"/>
                  <a:pt x="10220" y="8161"/>
                </a:cubicBezTo>
              </a:path>
              <a:path w="2680" h="869">
                <a:moveTo>
                  <a:pt x="10244" y="8359"/>
                </a:moveTo>
                <a:cubicBezTo>
                  <a:pt x="10261" y="8420"/>
                  <a:pt x="10250" y="8577"/>
                  <a:pt x="10294" y="8533"/>
                </a:cubicBezTo>
                <a:cubicBezTo>
                  <a:pt x="10320" y="8507"/>
                  <a:pt x="10327" y="8438"/>
                  <a:pt x="10368" y="8409"/>
                </a:cubicBezTo>
                <a:cubicBezTo>
                  <a:pt x="10422" y="8370"/>
                  <a:pt x="10457" y="8380"/>
                  <a:pt x="10492" y="8434"/>
                </a:cubicBezTo>
                <a:cubicBezTo>
                  <a:pt x="10523" y="8482"/>
                  <a:pt x="10542" y="8526"/>
                  <a:pt x="10542" y="8582"/>
                </a:cubicBezTo>
              </a:path>
              <a:path w="2680" h="869">
                <a:moveTo>
                  <a:pt x="10616" y="8533"/>
                </a:moveTo>
                <a:cubicBezTo>
                  <a:pt x="10636" y="8472"/>
                  <a:pt x="10634" y="8457"/>
                  <a:pt x="10666" y="8434"/>
                </a:cubicBezTo>
                <a:cubicBezTo>
                  <a:pt x="10666" y="8472"/>
                  <a:pt x="10648" y="8537"/>
                  <a:pt x="10691" y="8558"/>
                </a:cubicBezTo>
                <a:cubicBezTo>
                  <a:pt x="10751" y="8588"/>
                  <a:pt x="10782" y="8412"/>
                  <a:pt x="10790" y="8384"/>
                </a:cubicBezTo>
                <a:cubicBezTo>
                  <a:pt x="10815" y="8295"/>
                  <a:pt x="10825" y="8201"/>
                  <a:pt x="10840" y="8111"/>
                </a:cubicBezTo>
                <a:cubicBezTo>
                  <a:pt x="10813" y="8192"/>
                  <a:pt x="10798" y="8295"/>
                  <a:pt x="10815" y="8384"/>
                </a:cubicBezTo>
                <a:cubicBezTo>
                  <a:pt x="10831" y="8471"/>
                  <a:pt x="10855" y="8526"/>
                  <a:pt x="10939" y="8533"/>
                </a:cubicBezTo>
                <a:cubicBezTo>
                  <a:pt x="11010" y="8539"/>
                  <a:pt x="11024" y="8477"/>
                  <a:pt x="11063" y="8434"/>
                </a:cubicBezTo>
                <a:cubicBezTo>
                  <a:pt x="11071" y="8426"/>
                  <a:pt x="11080" y="8417"/>
                  <a:pt x="11088" y="8409"/>
                </a:cubicBezTo>
                <a:cubicBezTo>
                  <a:pt x="11072" y="8393"/>
                  <a:pt x="11047" y="8455"/>
                  <a:pt x="11038" y="8508"/>
                </a:cubicBezTo>
                <a:cubicBezTo>
                  <a:pt x="11030" y="8551"/>
                  <a:pt x="11062" y="8643"/>
                  <a:pt x="11112" y="8657"/>
                </a:cubicBezTo>
                <a:cubicBezTo>
                  <a:pt x="11162" y="8657"/>
                  <a:pt x="11179" y="8657"/>
                  <a:pt x="11212" y="8657"/>
                </a:cubicBezTo>
              </a:path>
              <a:path w="2680" h="869">
                <a:moveTo>
                  <a:pt x="11311" y="8607"/>
                </a:moveTo>
                <a:cubicBezTo>
                  <a:pt x="11366" y="8599"/>
                  <a:pt x="11391" y="8598"/>
                  <a:pt x="11410" y="8558"/>
                </a:cubicBezTo>
                <a:cubicBezTo>
                  <a:pt x="11433" y="8509"/>
                  <a:pt x="11444" y="8423"/>
                  <a:pt x="11485" y="8384"/>
                </a:cubicBezTo>
                <a:cubicBezTo>
                  <a:pt x="11533" y="8360"/>
                  <a:pt x="11547" y="8351"/>
                  <a:pt x="11584" y="83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49880" y="2990880"/>
            <a:ext cx="117360" cy="98280"/>
          </a:xfrm>
          <a:custGeom>
            <a:avLst/>
            <a:gdLst/>
            <a:ahLst/>
            <a:rect l="l" t="t" r="r" b="b"/>
            <a:pathLst>
              <a:path w="324" h="273">
                <a:moveTo>
                  <a:pt x="14833" y="8458"/>
                </a:moveTo>
                <a:cubicBezTo>
                  <a:pt x="14844" y="8458"/>
                  <a:pt x="14950" y="8458"/>
                  <a:pt x="14883" y="8458"/>
                </a:cubicBezTo>
                <a:cubicBezTo>
                  <a:pt x="14825" y="8458"/>
                  <a:pt x="14772" y="8434"/>
                  <a:pt x="14709" y="8434"/>
                </a:cubicBezTo>
                <a:cubicBezTo>
                  <a:pt x="14643" y="8434"/>
                  <a:pt x="14626" y="8434"/>
                  <a:pt x="14585" y="8434"/>
                </a:cubicBezTo>
              </a:path>
              <a:path w="324" h="273">
                <a:moveTo>
                  <a:pt x="14610" y="8359"/>
                </a:moveTo>
                <a:cubicBezTo>
                  <a:pt x="14666" y="8322"/>
                  <a:pt x="14670" y="8305"/>
                  <a:pt x="14709" y="8310"/>
                </a:cubicBezTo>
                <a:cubicBezTo>
                  <a:pt x="14709" y="8406"/>
                  <a:pt x="14714" y="8492"/>
                  <a:pt x="14684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37200" y="2857680"/>
            <a:ext cx="177840" cy="330120"/>
          </a:xfrm>
          <a:custGeom>
            <a:avLst/>
            <a:gdLst/>
            <a:ahLst/>
            <a:rect l="l" t="t" r="r" b="b"/>
            <a:pathLst>
              <a:path w="497" h="918">
                <a:moveTo>
                  <a:pt x="17016" y="7987"/>
                </a:moveTo>
                <a:cubicBezTo>
                  <a:pt x="17024" y="7971"/>
                  <a:pt x="17033" y="7954"/>
                  <a:pt x="17041" y="7938"/>
                </a:cubicBezTo>
                <a:cubicBezTo>
                  <a:pt x="17029" y="7984"/>
                  <a:pt x="16998" y="8034"/>
                  <a:pt x="16991" y="8086"/>
                </a:cubicBezTo>
                <a:cubicBezTo>
                  <a:pt x="16981" y="8159"/>
                  <a:pt x="17001" y="8178"/>
                  <a:pt x="16966" y="8235"/>
                </a:cubicBezTo>
              </a:path>
              <a:path w="497" h="918">
                <a:moveTo>
                  <a:pt x="17190" y="8310"/>
                </a:moveTo>
                <a:cubicBezTo>
                  <a:pt x="17212" y="8332"/>
                  <a:pt x="17220" y="8337"/>
                  <a:pt x="17214" y="8359"/>
                </a:cubicBezTo>
                <a:cubicBezTo>
                  <a:pt x="17151" y="8359"/>
                  <a:pt x="17102" y="8341"/>
                  <a:pt x="17041" y="8334"/>
                </a:cubicBezTo>
                <a:cubicBezTo>
                  <a:pt x="16953" y="8324"/>
                  <a:pt x="16857" y="8334"/>
                  <a:pt x="16768" y="8334"/>
                </a:cubicBezTo>
              </a:path>
              <a:path w="497" h="918">
                <a:moveTo>
                  <a:pt x="16818" y="8533"/>
                </a:moveTo>
                <a:cubicBezTo>
                  <a:pt x="16818" y="8549"/>
                  <a:pt x="16818" y="8566"/>
                  <a:pt x="16818" y="8582"/>
                </a:cubicBezTo>
                <a:cubicBezTo>
                  <a:pt x="16863" y="8571"/>
                  <a:pt x="16920" y="8548"/>
                  <a:pt x="16966" y="8533"/>
                </a:cubicBezTo>
                <a:cubicBezTo>
                  <a:pt x="17008" y="8519"/>
                  <a:pt x="17069" y="8484"/>
                  <a:pt x="17090" y="8558"/>
                </a:cubicBezTo>
                <a:cubicBezTo>
                  <a:pt x="17108" y="8622"/>
                  <a:pt x="17078" y="8682"/>
                  <a:pt x="17041" y="8731"/>
                </a:cubicBezTo>
                <a:cubicBezTo>
                  <a:pt x="17010" y="8772"/>
                  <a:pt x="17016" y="8804"/>
                  <a:pt x="17016" y="8855"/>
                </a:cubicBezTo>
                <a:cubicBezTo>
                  <a:pt x="17073" y="8855"/>
                  <a:pt x="17093" y="8834"/>
                  <a:pt x="17140" y="8806"/>
                </a:cubicBezTo>
                <a:cubicBezTo>
                  <a:pt x="17180" y="8782"/>
                  <a:pt x="17221" y="8774"/>
                  <a:pt x="17264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84960" y="2990880"/>
            <a:ext cx="295200" cy="216000"/>
          </a:xfrm>
          <a:custGeom>
            <a:avLst/>
            <a:gdLst/>
            <a:ahLst/>
            <a:rect l="l" t="t" r="r" b="b"/>
            <a:pathLst>
              <a:path w="820" h="596">
                <a:moveTo>
                  <a:pt x="17909" y="8334"/>
                </a:moveTo>
                <a:cubicBezTo>
                  <a:pt x="17956" y="8314"/>
                  <a:pt x="18007" y="8285"/>
                  <a:pt x="17934" y="8310"/>
                </a:cubicBezTo>
                <a:cubicBezTo>
                  <a:pt x="17896" y="8323"/>
                  <a:pt x="17781" y="8341"/>
                  <a:pt x="17760" y="8384"/>
                </a:cubicBezTo>
                <a:cubicBezTo>
                  <a:pt x="17728" y="8448"/>
                  <a:pt x="17793" y="8483"/>
                  <a:pt x="17835" y="8508"/>
                </a:cubicBezTo>
                <a:cubicBezTo>
                  <a:pt x="17887" y="8540"/>
                  <a:pt x="17951" y="8513"/>
                  <a:pt x="17959" y="8582"/>
                </a:cubicBezTo>
                <a:cubicBezTo>
                  <a:pt x="17959" y="8590"/>
                  <a:pt x="17959" y="8599"/>
                  <a:pt x="17959" y="8607"/>
                </a:cubicBezTo>
                <a:cubicBezTo>
                  <a:pt x="17882" y="8607"/>
                  <a:pt x="17824" y="8601"/>
                  <a:pt x="17760" y="8582"/>
                </a:cubicBezTo>
                <a:cubicBezTo>
                  <a:pt x="17752" y="8582"/>
                  <a:pt x="17743" y="8582"/>
                  <a:pt x="17735" y="8582"/>
                </a:cubicBezTo>
              </a:path>
              <a:path w="820" h="596">
                <a:moveTo>
                  <a:pt x="18132" y="8508"/>
                </a:moveTo>
                <a:cubicBezTo>
                  <a:pt x="18193" y="8489"/>
                  <a:pt x="18203" y="8483"/>
                  <a:pt x="18256" y="8483"/>
                </a:cubicBezTo>
                <a:cubicBezTo>
                  <a:pt x="18241" y="8557"/>
                  <a:pt x="18193" y="8629"/>
                  <a:pt x="18182" y="8706"/>
                </a:cubicBezTo>
                <a:cubicBezTo>
                  <a:pt x="18171" y="8782"/>
                  <a:pt x="18181" y="8832"/>
                  <a:pt x="18157" y="8905"/>
                </a:cubicBezTo>
              </a:path>
              <a:path w="820" h="596">
                <a:moveTo>
                  <a:pt x="18207" y="8533"/>
                </a:moveTo>
                <a:cubicBezTo>
                  <a:pt x="18259" y="8461"/>
                  <a:pt x="18310" y="8380"/>
                  <a:pt x="18405" y="8359"/>
                </a:cubicBezTo>
                <a:cubicBezTo>
                  <a:pt x="18484" y="8341"/>
                  <a:pt x="18538" y="8413"/>
                  <a:pt x="18554" y="8483"/>
                </a:cubicBezTo>
                <a:cubicBezTo>
                  <a:pt x="18575" y="8576"/>
                  <a:pt x="18498" y="8615"/>
                  <a:pt x="18430" y="8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31000" y="2874960"/>
            <a:ext cx="536760" cy="241200"/>
          </a:xfrm>
          <a:custGeom>
            <a:avLst/>
            <a:gdLst/>
            <a:ahLst/>
            <a:rect l="l" t="t" r="r" b="b"/>
            <a:pathLst>
              <a:path w="1489" h="671">
                <a:moveTo>
                  <a:pt x="19025" y="8111"/>
                </a:moveTo>
                <a:cubicBezTo>
                  <a:pt x="19054" y="8073"/>
                  <a:pt x="19041" y="7953"/>
                  <a:pt x="19075" y="7987"/>
                </a:cubicBezTo>
                <a:cubicBezTo>
                  <a:pt x="19086" y="7998"/>
                  <a:pt x="19029" y="8172"/>
                  <a:pt x="19025" y="8186"/>
                </a:cubicBezTo>
                <a:cubicBezTo>
                  <a:pt x="19004" y="8252"/>
                  <a:pt x="18976" y="8453"/>
                  <a:pt x="18976" y="8384"/>
                </a:cubicBezTo>
                <a:cubicBezTo>
                  <a:pt x="18976" y="8360"/>
                  <a:pt x="19074" y="8278"/>
                  <a:pt x="19100" y="8260"/>
                </a:cubicBezTo>
                <a:cubicBezTo>
                  <a:pt x="19141" y="8231"/>
                  <a:pt x="19215" y="8212"/>
                  <a:pt x="19248" y="8260"/>
                </a:cubicBezTo>
                <a:cubicBezTo>
                  <a:pt x="19285" y="8314"/>
                  <a:pt x="19273" y="8372"/>
                  <a:pt x="19273" y="8434"/>
                </a:cubicBezTo>
                <a:cubicBezTo>
                  <a:pt x="19273" y="8462"/>
                  <a:pt x="19270" y="8472"/>
                  <a:pt x="19248" y="8483"/>
                </a:cubicBezTo>
              </a:path>
              <a:path w="1489" h="671">
                <a:moveTo>
                  <a:pt x="19323" y="8434"/>
                </a:moveTo>
                <a:cubicBezTo>
                  <a:pt x="19403" y="8404"/>
                  <a:pt x="19433" y="8455"/>
                  <a:pt x="19496" y="8434"/>
                </a:cubicBezTo>
                <a:cubicBezTo>
                  <a:pt x="19541" y="8419"/>
                  <a:pt x="19546" y="8372"/>
                  <a:pt x="19546" y="8334"/>
                </a:cubicBezTo>
                <a:cubicBezTo>
                  <a:pt x="19546" y="8326"/>
                  <a:pt x="19546" y="8318"/>
                  <a:pt x="19546" y="8310"/>
                </a:cubicBezTo>
                <a:cubicBezTo>
                  <a:pt x="19496" y="8320"/>
                  <a:pt x="19420" y="8354"/>
                  <a:pt x="19397" y="8409"/>
                </a:cubicBezTo>
                <a:cubicBezTo>
                  <a:pt x="19380" y="8450"/>
                  <a:pt x="19381" y="8554"/>
                  <a:pt x="19422" y="8582"/>
                </a:cubicBezTo>
                <a:cubicBezTo>
                  <a:pt x="19502" y="8637"/>
                  <a:pt x="19517" y="8575"/>
                  <a:pt x="19596" y="8558"/>
                </a:cubicBezTo>
                <a:cubicBezTo>
                  <a:pt x="19647" y="8558"/>
                  <a:pt x="19666" y="8557"/>
                  <a:pt x="19695" y="8533"/>
                </a:cubicBezTo>
              </a:path>
              <a:path w="1489" h="671">
                <a:moveTo>
                  <a:pt x="19844" y="8483"/>
                </a:moveTo>
                <a:cubicBezTo>
                  <a:pt x="19844" y="8516"/>
                  <a:pt x="19844" y="8549"/>
                  <a:pt x="19844" y="8582"/>
                </a:cubicBezTo>
                <a:cubicBezTo>
                  <a:pt x="19844" y="8633"/>
                  <a:pt x="19855" y="8535"/>
                  <a:pt x="19869" y="8508"/>
                </a:cubicBezTo>
                <a:cubicBezTo>
                  <a:pt x="19899" y="8451"/>
                  <a:pt x="19897" y="8430"/>
                  <a:pt x="19943" y="8384"/>
                </a:cubicBezTo>
                <a:cubicBezTo>
                  <a:pt x="19972" y="8355"/>
                  <a:pt x="20024" y="8345"/>
                  <a:pt x="20067" y="8359"/>
                </a:cubicBezTo>
                <a:cubicBezTo>
                  <a:pt x="20136" y="8382"/>
                  <a:pt x="20166" y="8409"/>
                  <a:pt x="20241" y="8409"/>
                </a:cubicBezTo>
                <a:cubicBezTo>
                  <a:pt x="20269" y="8409"/>
                  <a:pt x="20279" y="8406"/>
                  <a:pt x="20290" y="8384"/>
                </a:cubicBezTo>
                <a:cubicBezTo>
                  <a:pt x="20275" y="8326"/>
                  <a:pt x="20252" y="8313"/>
                  <a:pt x="20191" y="8310"/>
                </a:cubicBezTo>
                <a:cubicBezTo>
                  <a:pt x="20109" y="8305"/>
                  <a:pt x="20072" y="8332"/>
                  <a:pt x="20067" y="8409"/>
                </a:cubicBezTo>
                <a:cubicBezTo>
                  <a:pt x="20063" y="8483"/>
                  <a:pt x="20157" y="8564"/>
                  <a:pt x="20216" y="8607"/>
                </a:cubicBezTo>
                <a:cubicBezTo>
                  <a:pt x="20292" y="8662"/>
                  <a:pt x="20376" y="8657"/>
                  <a:pt x="20464" y="86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6040" y="3537000"/>
            <a:ext cx="98640" cy="792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1463" y="9922"/>
                </a:moveTo>
                <a:cubicBezTo>
                  <a:pt x="1488" y="9922"/>
                  <a:pt x="1496" y="9922"/>
                  <a:pt x="1513" y="9922"/>
                </a:cubicBezTo>
                <a:cubicBezTo>
                  <a:pt x="1472" y="9912"/>
                  <a:pt x="1457" y="9877"/>
                  <a:pt x="1414" y="9872"/>
                </a:cubicBezTo>
                <a:cubicBezTo>
                  <a:pt x="1365" y="9866"/>
                  <a:pt x="1332" y="9852"/>
                  <a:pt x="1290" y="9847"/>
                </a:cubicBezTo>
                <a:cubicBezTo>
                  <a:pt x="1247" y="9842"/>
                  <a:pt x="1280" y="9836"/>
                  <a:pt x="1240" y="9823"/>
                </a:cubicBezTo>
              </a:path>
              <a:path w="274" h="224">
                <a:moveTo>
                  <a:pt x="1488" y="10046"/>
                </a:moveTo>
                <a:cubicBezTo>
                  <a:pt x="1496" y="10046"/>
                  <a:pt x="1505" y="10046"/>
                  <a:pt x="1513" y="10046"/>
                </a:cubicBezTo>
                <a:cubicBezTo>
                  <a:pt x="1430" y="10046"/>
                  <a:pt x="1348" y="10046"/>
                  <a:pt x="1265" y="10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12880" y="3394080"/>
            <a:ext cx="465120" cy="365040"/>
          </a:xfrm>
          <a:custGeom>
            <a:avLst/>
            <a:gdLst/>
            <a:ahLst/>
            <a:rect l="l" t="t" r="r" b="b"/>
            <a:pathLst>
              <a:path w="1291" h="1018">
                <a:moveTo>
                  <a:pt x="2505" y="9451"/>
                </a:moveTo>
                <a:cubicBezTo>
                  <a:pt x="2505" y="9443"/>
                  <a:pt x="2505" y="9434"/>
                  <a:pt x="2505" y="9426"/>
                </a:cubicBezTo>
                <a:cubicBezTo>
                  <a:pt x="2505" y="9486"/>
                  <a:pt x="2515" y="9525"/>
                  <a:pt x="2530" y="9575"/>
                </a:cubicBezTo>
                <a:cubicBezTo>
                  <a:pt x="2536" y="9595"/>
                  <a:pt x="2530" y="9628"/>
                  <a:pt x="2530" y="9649"/>
                </a:cubicBezTo>
              </a:path>
              <a:path w="1291" h="1018">
                <a:moveTo>
                  <a:pt x="2778" y="9798"/>
                </a:moveTo>
                <a:cubicBezTo>
                  <a:pt x="2734" y="9765"/>
                  <a:pt x="2712" y="9773"/>
                  <a:pt x="2654" y="9773"/>
                </a:cubicBezTo>
                <a:cubicBezTo>
                  <a:pt x="2522" y="9773"/>
                  <a:pt x="2389" y="9773"/>
                  <a:pt x="2257" y="9773"/>
                </a:cubicBezTo>
              </a:path>
              <a:path w="1291" h="1018">
                <a:moveTo>
                  <a:pt x="2381" y="9971"/>
                </a:moveTo>
                <a:cubicBezTo>
                  <a:pt x="2344" y="9999"/>
                  <a:pt x="2339" y="10010"/>
                  <a:pt x="2307" y="10021"/>
                </a:cubicBezTo>
                <a:cubicBezTo>
                  <a:pt x="2312" y="10007"/>
                  <a:pt x="2352" y="9955"/>
                  <a:pt x="2381" y="9947"/>
                </a:cubicBezTo>
                <a:cubicBezTo>
                  <a:pt x="2429" y="9934"/>
                  <a:pt x="2495" y="9940"/>
                  <a:pt x="2530" y="9971"/>
                </a:cubicBezTo>
                <a:cubicBezTo>
                  <a:pt x="2583" y="10017"/>
                  <a:pt x="2594" y="10062"/>
                  <a:pt x="2555" y="10120"/>
                </a:cubicBezTo>
                <a:cubicBezTo>
                  <a:pt x="2529" y="10158"/>
                  <a:pt x="2482" y="10200"/>
                  <a:pt x="2456" y="10220"/>
                </a:cubicBezTo>
                <a:cubicBezTo>
                  <a:pt x="2433" y="10242"/>
                  <a:pt x="2425" y="10247"/>
                  <a:pt x="2431" y="10269"/>
                </a:cubicBezTo>
                <a:cubicBezTo>
                  <a:pt x="2486" y="10269"/>
                  <a:pt x="2525" y="10291"/>
                  <a:pt x="2580" y="10294"/>
                </a:cubicBezTo>
                <a:cubicBezTo>
                  <a:pt x="2631" y="10297"/>
                  <a:pt x="2675" y="10309"/>
                  <a:pt x="2679" y="10368"/>
                </a:cubicBezTo>
                <a:cubicBezTo>
                  <a:pt x="2684" y="10433"/>
                  <a:pt x="2641" y="10439"/>
                  <a:pt x="2580" y="10443"/>
                </a:cubicBezTo>
                <a:cubicBezTo>
                  <a:pt x="2527" y="10446"/>
                  <a:pt x="2508" y="10426"/>
                  <a:pt x="2456" y="10418"/>
                </a:cubicBezTo>
              </a:path>
              <a:path w="1291" h="1018">
                <a:moveTo>
                  <a:pt x="3200" y="9872"/>
                </a:moveTo>
                <a:cubicBezTo>
                  <a:pt x="3200" y="9847"/>
                  <a:pt x="3200" y="9839"/>
                  <a:pt x="3200" y="9823"/>
                </a:cubicBezTo>
                <a:cubicBezTo>
                  <a:pt x="3155" y="9837"/>
                  <a:pt x="3175" y="9894"/>
                  <a:pt x="3175" y="9947"/>
                </a:cubicBezTo>
                <a:cubicBezTo>
                  <a:pt x="3175" y="10034"/>
                  <a:pt x="3150" y="10108"/>
                  <a:pt x="3150" y="10195"/>
                </a:cubicBezTo>
                <a:cubicBezTo>
                  <a:pt x="3150" y="10203"/>
                  <a:pt x="3150" y="10212"/>
                  <a:pt x="3150" y="10220"/>
                </a:cubicBezTo>
              </a:path>
              <a:path w="1291" h="1018">
                <a:moveTo>
                  <a:pt x="3299" y="9872"/>
                </a:moveTo>
                <a:cubicBezTo>
                  <a:pt x="3316" y="9864"/>
                  <a:pt x="3332" y="9855"/>
                  <a:pt x="3349" y="9847"/>
                </a:cubicBezTo>
                <a:cubicBezTo>
                  <a:pt x="3349" y="9902"/>
                  <a:pt x="3327" y="9941"/>
                  <a:pt x="3324" y="9996"/>
                </a:cubicBezTo>
                <a:cubicBezTo>
                  <a:pt x="3321" y="10052"/>
                  <a:pt x="3313" y="10137"/>
                  <a:pt x="3373" y="10170"/>
                </a:cubicBezTo>
                <a:cubicBezTo>
                  <a:pt x="3409" y="10190"/>
                  <a:pt x="3472" y="10165"/>
                  <a:pt x="3497" y="10145"/>
                </a:cubicBezTo>
                <a:cubicBezTo>
                  <a:pt x="3528" y="10120"/>
                  <a:pt x="3538" y="10105"/>
                  <a:pt x="3547" y="10071"/>
                </a:cubicBezTo>
              </a:path>
              <a:path w="1291" h="1018">
                <a:moveTo>
                  <a:pt x="3522" y="9823"/>
                </a:moveTo>
                <a:cubicBezTo>
                  <a:pt x="3507" y="9762"/>
                  <a:pt x="3484" y="9773"/>
                  <a:pt x="3423" y="9773"/>
                </a:cubicBezTo>
                <a:cubicBezTo>
                  <a:pt x="3310" y="9773"/>
                  <a:pt x="3207" y="9781"/>
                  <a:pt x="3101" y="9798"/>
                </a:cubicBezTo>
                <a:cubicBezTo>
                  <a:pt x="3059" y="9798"/>
                  <a:pt x="3051" y="9798"/>
                  <a:pt x="3026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82840" y="3446640"/>
            <a:ext cx="339480" cy="223560"/>
          </a:xfrm>
          <a:custGeom>
            <a:avLst/>
            <a:gdLst/>
            <a:ahLst/>
            <a:rect l="l" t="t" r="r" b="b"/>
            <a:pathLst>
              <a:path w="943" h="621">
                <a:moveTo>
                  <a:pt x="4142" y="9922"/>
                </a:moveTo>
                <a:cubicBezTo>
                  <a:pt x="4142" y="9947"/>
                  <a:pt x="4142" y="9955"/>
                  <a:pt x="4142" y="9971"/>
                </a:cubicBezTo>
                <a:cubicBezTo>
                  <a:pt x="4106" y="9959"/>
                  <a:pt x="4118" y="9941"/>
                  <a:pt x="4118" y="9897"/>
                </a:cubicBezTo>
                <a:cubicBezTo>
                  <a:pt x="4118" y="9844"/>
                  <a:pt x="4196" y="9808"/>
                  <a:pt x="4242" y="9798"/>
                </a:cubicBezTo>
                <a:cubicBezTo>
                  <a:pt x="4325" y="9780"/>
                  <a:pt x="4386" y="9856"/>
                  <a:pt x="4415" y="9922"/>
                </a:cubicBezTo>
                <a:cubicBezTo>
                  <a:pt x="4452" y="10007"/>
                  <a:pt x="4480" y="10064"/>
                  <a:pt x="4440" y="10145"/>
                </a:cubicBezTo>
                <a:cubicBezTo>
                  <a:pt x="4415" y="10196"/>
                  <a:pt x="4379" y="10214"/>
                  <a:pt x="4316" y="10195"/>
                </a:cubicBezTo>
                <a:cubicBezTo>
                  <a:pt x="4299" y="10187"/>
                  <a:pt x="4283" y="10178"/>
                  <a:pt x="4266" y="10170"/>
                </a:cubicBezTo>
              </a:path>
              <a:path w="943" h="621">
                <a:moveTo>
                  <a:pt x="4490" y="9823"/>
                </a:moveTo>
                <a:cubicBezTo>
                  <a:pt x="4498" y="9806"/>
                  <a:pt x="4506" y="9790"/>
                  <a:pt x="4514" y="9773"/>
                </a:cubicBezTo>
                <a:cubicBezTo>
                  <a:pt x="4470" y="9818"/>
                  <a:pt x="4439" y="9862"/>
                  <a:pt x="4415" y="9922"/>
                </a:cubicBezTo>
                <a:cubicBezTo>
                  <a:pt x="4386" y="9994"/>
                  <a:pt x="4368" y="10088"/>
                  <a:pt x="4440" y="10145"/>
                </a:cubicBezTo>
                <a:cubicBezTo>
                  <a:pt x="4507" y="10198"/>
                  <a:pt x="4532" y="10154"/>
                  <a:pt x="4589" y="10120"/>
                </a:cubicBezTo>
                <a:cubicBezTo>
                  <a:pt x="4632" y="10099"/>
                  <a:pt x="4644" y="10095"/>
                  <a:pt x="4663" y="10071"/>
                </a:cubicBezTo>
              </a:path>
              <a:path w="943" h="621">
                <a:moveTo>
                  <a:pt x="4812" y="9649"/>
                </a:moveTo>
                <a:cubicBezTo>
                  <a:pt x="4827" y="9587"/>
                  <a:pt x="4839" y="9616"/>
                  <a:pt x="4887" y="9599"/>
                </a:cubicBezTo>
                <a:cubicBezTo>
                  <a:pt x="4937" y="9582"/>
                  <a:pt x="4978" y="9550"/>
                  <a:pt x="4986" y="9624"/>
                </a:cubicBezTo>
                <a:cubicBezTo>
                  <a:pt x="4993" y="9685"/>
                  <a:pt x="4957" y="9676"/>
                  <a:pt x="4936" y="9723"/>
                </a:cubicBezTo>
                <a:cubicBezTo>
                  <a:pt x="4919" y="9761"/>
                  <a:pt x="4956" y="9788"/>
                  <a:pt x="4986" y="9798"/>
                </a:cubicBezTo>
                <a:cubicBezTo>
                  <a:pt x="5025" y="9811"/>
                  <a:pt x="5049" y="9814"/>
                  <a:pt x="5060" y="9847"/>
                </a:cubicBezTo>
                <a:cubicBezTo>
                  <a:pt x="5046" y="9889"/>
                  <a:pt x="5013" y="9889"/>
                  <a:pt x="4961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14760" y="3500280"/>
            <a:ext cx="125280" cy="135000"/>
          </a:xfrm>
          <a:custGeom>
            <a:avLst/>
            <a:gdLst/>
            <a:ahLst/>
            <a:rect l="l" t="t" r="r" b="b"/>
            <a:pathLst>
              <a:path w="348" h="374">
                <a:moveTo>
                  <a:pt x="7888" y="9897"/>
                </a:moveTo>
                <a:cubicBezTo>
                  <a:pt x="7772" y="9897"/>
                  <a:pt x="7657" y="9897"/>
                  <a:pt x="7541" y="9897"/>
                </a:cubicBezTo>
              </a:path>
              <a:path w="348" h="374">
                <a:moveTo>
                  <a:pt x="7665" y="9773"/>
                </a:moveTo>
                <a:cubicBezTo>
                  <a:pt x="7685" y="9732"/>
                  <a:pt x="7682" y="9715"/>
                  <a:pt x="7714" y="9723"/>
                </a:cubicBezTo>
                <a:cubicBezTo>
                  <a:pt x="7714" y="9852"/>
                  <a:pt x="7708" y="9972"/>
                  <a:pt x="7739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52880" y="3473280"/>
            <a:ext cx="177840" cy="169920"/>
          </a:xfrm>
          <a:custGeom>
            <a:avLst/>
            <a:gdLst/>
            <a:ahLst/>
            <a:rect l="l" t="t" r="r" b="b"/>
            <a:pathLst>
              <a:path w="497" h="472">
                <a:moveTo>
                  <a:pt x="8806" y="9773"/>
                </a:moveTo>
                <a:cubicBezTo>
                  <a:pt x="8806" y="9748"/>
                  <a:pt x="8806" y="9740"/>
                  <a:pt x="8806" y="9723"/>
                </a:cubicBezTo>
                <a:cubicBezTo>
                  <a:pt x="8806" y="9662"/>
                  <a:pt x="8781" y="9894"/>
                  <a:pt x="8781" y="9897"/>
                </a:cubicBezTo>
                <a:cubicBezTo>
                  <a:pt x="8773" y="9970"/>
                  <a:pt x="8781" y="10047"/>
                  <a:pt x="8781" y="10120"/>
                </a:cubicBezTo>
              </a:path>
              <a:path w="497" h="472">
                <a:moveTo>
                  <a:pt x="8979" y="9723"/>
                </a:moveTo>
                <a:cubicBezTo>
                  <a:pt x="8987" y="9715"/>
                  <a:pt x="8996" y="9707"/>
                  <a:pt x="9004" y="9699"/>
                </a:cubicBezTo>
                <a:cubicBezTo>
                  <a:pt x="8991" y="9761"/>
                  <a:pt x="8957" y="9806"/>
                  <a:pt x="8954" y="9872"/>
                </a:cubicBezTo>
                <a:cubicBezTo>
                  <a:pt x="8951" y="9952"/>
                  <a:pt x="8978" y="10035"/>
                  <a:pt x="9029" y="10096"/>
                </a:cubicBezTo>
                <a:cubicBezTo>
                  <a:pt x="9077" y="10154"/>
                  <a:pt x="9130" y="10098"/>
                  <a:pt x="9178" y="10071"/>
                </a:cubicBezTo>
              </a:path>
              <a:path w="497" h="472">
                <a:moveTo>
                  <a:pt x="9252" y="9699"/>
                </a:moveTo>
                <a:cubicBezTo>
                  <a:pt x="9239" y="9659"/>
                  <a:pt x="9204" y="9674"/>
                  <a:pt x="9153" y="9674"/>
                </a:cubicBezTo>
                <a:cubicBezTo>
                  <a:pt x="9040" y="9674"/>
                  <a:pt x="8938" y="9661"/>
                  <a:pt x="8830" y="9649"/>
                </a:cubicBezTo>
                <a:cubicBezTo>
                  <a:pt x="8805" y="9649"/>
                  <a:pt x="8781" y="9649"/>
                  <a:pt x="8756" y="9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27280" y="3463920"/>
            <a:ext cx="179640" cy="144360"/>
          </a:xfrm>
          <a:custGeom>
            <a:avLst/>
            <a:gdLst/>
            <a:ahLst/>
            <a:rect l="l" t="t" r="r" b="b"/>
            <a:pathLst>
              <a:path w="497" h="398">
                <a:moveTo>
                  <a:pt x="9823" y="9748"/>
                </a:moveTo>
                <a:cubicBezTo>
                  <a:pt x="9810" y="9709"/>
                  <a:pt x="9811" y="9738"/>
                  <a:pt x="9798" y="9699"/>
                </a:cubicBezTo>
                <a:cubicBezTo>
                  <a:pt x="9840" y="9665"/>
                  <a:pt x="9887" y="9629"/>
                  <a:pt x="9947" y="9649"/>
                </a:cubicBezTo>
                <a:cubicBezTo>
                  <a:pt x="10032" y="9678"/>
                  <a:pt x="10080" y="9763"/>
                  <a:pt x="10096" y="9847"/>
                </a:cubicBezTo>
                <a:cubicBezTo>
                  <a:pt x="10110" y="9920"/>
                  <a:pt x="10072" y="10003"/>
                  <a:pt x="9996" y="10021"/>
                </a:cubicBezTo>
                <a:cubicBezTo>
                  <a:pt x="9932" y="10036"/>
                  <a:pt x="9849" y="10021"/>
                  <a:pt x="9798" y="9996"/>
                </a:cubicBezTo>
              </a:path>
              <a:path w="497" h="398">
                <a:moveTo>
                  <a:pt x="10170" y="9699"/>
                </a:moveTo>
                <a:cubicBezTo>
                  <a:pt x="10216" y="9660"/>
                  <a:pt x="10233" y="9659"/>
                  <a:pt x="10244" y="9624"/>
                </a:cubicBezTo>
                <a:cubicBezTo>
                  <a:pt x="10196" y="9636"/>
                  <a:pt x="10137" y="9667"/>
                  <a:pt x="10120" y="9723"/>
                </a:cubicBezTo>
                <a:cubicBezTo>
                  <a:pt x="10105" y="9772"/>
                  <a:pt x="10108" y="9891"/>
                  <a:pt x="10145" y="9922"/>
                </a:cubicBezTo>
                <a:cubicBezTo>
                  <a:pt x="10196" y="9965"/>
                  <a:pt x="10248" y="9950"/>
                  <a:pt x="10294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57760" y="3330720"/>
            <a:ext cx="98280" cy="134640"/>
          </a:xfrm>
          <a:custGeom>
            <a:avLst/>
            <a:gdLst/>
            <a:ahLst/>
            <a:rect l="l" t="t" r="r" b="b"/>
            <a:pathLst>
              <a:path w="273" h="373">
                <a:moveTo>
                  <a:pt x="10740" y="9401"/>
                </a:moveTo>
                <a:cubicBezTo>
                  <a:pt x="10720" y="9374"/>
                  <a:pt x="10691" y="9327"/>
                  <a:pt x="10740" y="9302"/>
                </a:cubicBezTo>
                <a:cubicBezTo>
                  <a:pt x="10782" y="9281"/>
                  <a:pt x="10811" y="9252"/>
                  <a:pt x="10864" y="9252"/>
                </a:cubicBezTo>
                <a:cubicBezTo>
                  <a:pt x="10872" y="9252"/>
                  <a:pt x="10881" y="9252"/>
                  <a:pt x="10889" y="9252"/>
                </a:cubicBezTo>
                <a:cubicBezTo>
                  <a:pt x="10889" y="9306"/>
                  <a:pt x="10877" y="9335"/>
                  <a:pt x="10840" y="9376"/>
                </a:cubicBezTo>
                <a:cubicBezTo>
                  <a:pt x="10825" y="9393"/>
                  <a:pt x="10779" y="9452"/>
                  <a:pt x="10790" y="9475"/>
                </a:cubicBezTo>
                <a:cubicBezTo>
                  <a:pt x="10809" y="9518"/>
                  <a:pt x="10905" y="9540"/>
                  <a:pt x="10939" y="9550"/>
                </a:cubicBezTo>
                <a:cubicBezTo>
                  <a:pt x="10964" y="9550"/>
                  <a:pt x="10972" y="9550"/>
                  <a:pt x="10988" y="9550"/>
                </a:cubicBezTo>
                <a:cubicBezTo>
                  <a:pt x="10972" y="9617"/>
                  <a:pt x="10928" y="9616"/>
                  <a:pt x="10864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29120" y="3483000"/>
            <a:ext cx="98640" cy="106200"/>
          </a:xfrm>
          <a:custGeom>
            <a:avLst/>
            <a:gdLst/>
            <a:ahLst/>
            <a:rect l="l" t="t" r="r" b="b"/>
            <a:pathLst>
              <a:path w="274" h="298">
                <a:moveTo>
                  <a:pt x="13915" y="9922"/>
                </a:moveTo>
                <a:cubicBezTo>
                  <a:pt x="13932" y="9914"/>
                  <a:pt x="13948" y="9905"/>
                  <a:pt x="13965" y="9897"/>
                </a:cubicBezTo>
                <a:cubicBezTo>
                  <a:pt x="13917" y="9885"/>
                  <a:pt x="13869" y="9856"/>
                  <a:pt x="13816" y="9847"/>
                </a:cubicBezTo>
                <a:cubicBezTo>
                  <a:pt x="13764" y="9838"/>
                  <a:pt x="13738" y="9834"/>
                  <a:pt x="13692" y="9823"/>
                </a:cubicBezTo>
              </a:path>
              <a:path w="274" h="298">
                <a:moveTo>
                  <a:pt x="13791" y="9723"/>
                </a:moveTo>
                <a:cubicBezTo>
                  <a:pt x="13830" y="9685"/>
                  <a:pt x="13832" y="9668"/>
                  <a:pt x="13866" y="9674"/>
                </a:cubicBezTo>
                <a:cubicBezTo>
                  <a:pt x="13866" y="9773"/>
                  <a:pt x="13866" y="9872"/>
                  <a:pt x="13866" y="9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43720" y="3348000"/>
            <a:ext cx="206280" cy="403200"/>
          </a:xfrm>
          <a:custGeom>
            <a:avLst/>
            <a:gdLst/>
            <a:ahLst/>
            <a:rect l="l" t="t" r="r" b="b"/>
            <a:pathLst>
              <a:path w="571" h="1117">
                <a:moveTo>
                  <a:pt x="15776" y="9451"/>
                </a:moveTo>
                <a:cubicBezTo>
                  <a:pt x="15751" y="9451"/>
                  <a:pt x="15743" y="9451"/>
                  <a:pt x="15726" y="9451"/>
                </a:cubicBezTo>
                <a:cubicBezTo>
                  <a:pt x="15726" y="9405"/>
                  <a:pt x="15733" y="9378"/>
                  <a:pt x="15776" y="9351"/>
                </a:cubicBezTo>
                <a:cubicBezTo>
                  <a:pt x="15822" y="9321"/>
                  <a:pt x="15899" y="9271"/>
                  <a:pt x="15949" y="9327"/>
                </a:cubicBezTo>
                <a:cubicBezTo>
                  <a:pt x="15993" y="9377"/>
                  <a:pt x="15918" y="9448"/>
                  <a:pt x="15900" y="9475"/>
                </a:cubicBezTo>
                <a:cubicBezTo>
                  <a:pt x="15869" y="9524"/>
                  <a:pt x="15799" y="9547"/>
                  <a:pt x="15776" y="9599"/>
                </a:cubicBezTo>
                <a:cubicBezTo>
                  <a:pt x="15776" y="9607"/>
                  <a:pt x="15776" y="9616"/>
                  <a:pt x="15776" y="9624"/>
                </a:cubicBezTo>
                <a:cubicBezTo>
                  <a:pt x="15815" y="9653"/>
                  <a:pt x="15873" y="9664"/>
                  <a:pt x="15925" y="9649"/>
                </a:cubicBezTo>
                <a:cubicBezTo>
                  <a:pt x="15989" y="9631"/>
                  <a:pt x="15983" y="9608"/>
                  <a:pt x="16049" y="9599"/>
                </a:cubicBezTo>
              </a:path>
              <a:path w="571" h="1117">
                <a:moveTo>
                  <a:pt x="16197" y="9872"/>
                </a:moveTo>
                <a:cubicBezTo>
                  <a:pt x="16214" y="9880"/>
                  <a:pt x="16230" y="9889"/>
                  <a:pt x="16247" y="9897"/>
                </a:cubicBezTo>
                <a:cubicBezTo>
                  <a:pt x="16157" y="9886"/>
                  <a:pt x="16066" y="9871"/>
                  <a:pt x="15974" y="9847"/>
                </a:cubicBezTo>
                <a:cubicBezTo>
                  <a:pt x="15902" y="9828"/>
                  <a:pt x="15777" y="9795"/>
                  <a:pt x="15701" y="9823"/>
                </a:cubicBezTo>
                <a:cubicBezTo>
                  <a:pt x="15693" y="9831"/>
                  <a:pt x="15685" y="9839"/>
                  <a:pt x="15677" y="9847"/>
                </a:cubicBezTo>
              </a:path>
              <a:path w="571" h="1117">
                <a:moveTo>
                  <a:pt x="15776" y="9996"/>
                </a:moveTo>
                <a:cubicBezTo>
                  <a:pt x="15721" y="9996"/>
                  <a:pt x="15805" y="9977"/>
                  <a:pt x="15825" y="9971"/>
                </a:cubicBezTo>
                <a:cubicBezTo>
                  <a:pt x="15910" y="9945"/>
                  <a:pt x="15965" y="9896"/>
                  <a:pt x="16049" y="9947"/>
                </a:cubicBezTo>
                <a:cubicBezTo>
                  <a:pt x="16119" y="9990"/>
                  <a:pt x="16055" y="10062"/>
                  <a:pt x="16024" y="10096"/>
                </a:cubicBezTo>
                <a:cubicBezTo>
                  <a:pt x="15994" y="10128"/>
                  <a:pt x="15858" y="10157"/>
                  <a:pt x="15900" y="10220"/>
                </a:cubicBezTo>
                <a:cubicBezTo>
                  <a:pt x="15925" y="10257"/>
                  <a:pt x="16014" y="10287"/>
                  <a:pt x="16049" y="10319"/>
                </a:cubicBezTo>
                <a:cubicBezTo>
                  <a:pt x="16090" y="10357"/>
                  <a:pt x="16085" y="10403"/>
                  <a:pt x="16024" y="10418"/>
                </a:cubicBezTo>
                <a:cubicBezTo>
                  <a:pt x="15977" y="10430"/>
                  <a:pt x="15897" y="10418"/>
                  <a:pt x="15850" y="104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62760" y="3438360"/>
            <a:ext cx="474480" cy="196920"/>
          </a:xfrm>
          <a:custGeom>
            <a:avLst/>
            <a:gdLst/>
            <a:ahLst/>
            <a:rect l="l" t="t" r="r" b="b"/>
            <a:pathLst>
              <a:path w="1316" h="547">
                <a:moveTo>
                  <a:pt x="16842" y="9699"/>
                </a:moveTo>
                <a:cubicBezTo>
                  <a:pt x="16865" y="9676"/>
                  <a:pt x="16869" y="9668"/>
                  <a:pt x="16892" y="9674"/>
                </a:cubicBezTo>
                <a:cubicBezTo>
                  <a:pt x="16892" y="9762"/>
                  <a:pt x="16880" y="9840"/>
                  <a:pt x="16867" y="9922"/>
                </a:cubicBezTo>
                <a:cubicBezTo>
                  <a:pt x="16867" y="9971"/>
                  <a:pt x="16867" y="9988"/>
                  <a:pt x="16867" y="10021"/>
                </a:cubicBezTo>
              </a:path>
              <a:path w="1316" h="547">
                <a:moveTo>
                  <a:pt x="17066" y="9723"/>
                </a:moveTo>
                <a:cubicBezTo>
                  <a:pt x="17118" y="9662"/>
                  <a:pt x="17130" y="9628"/>
                  <a:pt x="17090" y="9699"/>
                </a:cubicBezTo>
                <a:cubicBezTo>
                  <a:pt x="17053" y="9764"/>
                  <a:pt x="17044" y="9849"/>
                  <a:pt x="17041" y="9922"/>
                </a:cubicBezTo>
                <a:cubicBezTo>
                  <a:pt x="17037" y="10005"/>
                  <a:pt x="17064" y="10040"/>
                  <a:pt x="17140" y="10046"/>
                </a:cubicBezTo>
                <a:cubicBezTo>
                  <a:pt x="17175" y="10046"/>
                  <a:pt x="17192" y="10041"/>
                  <a:pt x="17214" y="10021"/>
                </a:cubicBezTo>
              </a:path>
              <a:path w="1316" h="547">
                <a:moveTo>
                  <a:pt x="17363" y="9674"/>
                </a:moveTo>
                <a:cubicBezTo>
                  <a:pt x="17338" y="9640"/>
                  <a:pt x="17338" y="9602"/>
                  <a:pt x="17289" y="9599"/>
                </a:cubicBezTo>
                <a:cubicBezTo>
                  <a:pt x="17171" y="9593"/>
                  <a:pt x="17059" y="9561"/>
                  <a:pt x="16942" y="9550"/>
                </a:cubicBezTo>
                <a:cubicBezTo>
                  <a:pt x="16917" y="9550"/>
                  <a:pt x="16892" y="9550"/>
                  <a:pt x="16867" y="9550"/>
                </a:cubicBezTo>
              </a:path>
              <a:path w="1316" h="547">
                <a:moveTo>
                  <a:pt x="17711" y="9823"/>
                </a:moveTo>
                <a:cubicBezTo>
                  <a:pt x="17703" y="9815"/>
                  <a:pt x="17694" y="9806"/>
                  <a:pt x="17686" y="9798"/>
                </a:cubicBezTo>
                <a:cubicBezTo>
                  <a:pt x="17693" y="9776"/>
                  <a:pt x="17728" y="9743"/>
                  <a:pt x="17760" y="9723"/>
                </a:cubicBezTo>
                <a:cubicBezTo>
                  <a:pt x="17818" y="9687"/>
                  <a:pt x="17908" y="9692"/>
                  <a:pt x="17934" y="9773"/>
                </a:cubicBezTo>
                <a:cubicBezTo>
                  <a:pt x="17963" y="9864"/>
                  <a:pt x="17930" y="9987"/>
                  <a:pt x="17859" y="10046"/>
                </a:cubicBezTo>
                <a:cubicBezTo>
                  <a:pt x="17804" y="10091"/>
                  <a:pt x="17751" y="10090"/>
                  <a:pt x="17686" y="10096"/>
                </a:cubicBezTo>
              </a:path>
              <a:path w="1316" h="547">
                <a:moveTo>
                  <a:pt x="17983" y="9699"/>
                </a:moveTo>
                <a:cubicBezTo>
                  <a:pt x="18016" y="9699"/>
                  <a:pt x="18050" y="9699"/>
                  <a:pt x="18083" y="9699"/>
                </a:cubicBezTo>
                <a:cubicBezTo>
                  <a:pt x="18070" y="9749"/>
                  <a:pt x="18020" y="9792"/>
                  <a:pt x="18008" y="9847"/>
                </a:cubicBezTo>
                <a:cubicBezTo>
                  <a:pt x="17998" y="9893"/>
                  <a:pt x="18001" y="10001"/>
                  <a:pt x="18058" y="10021"/>
                </a:cubicBezTo>
                <a:cubicBezTo>
                  <a:pt x="18114" y="10021"/>
                  <a:pt x="18136" y="10016"/>
                  <a:pt x="18157" y="9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742080" y="3357720"/>
            <a:ext cx="108000" cy="142560"/>
          </a:xfrm>
          <a:custGeom>
            <a:avLst/>
            <a:gdLst/>
            <a:ahLst/>
            <a:rect l="l" t="t" r="r" b="b"/>
            <a:pathLst>
              <a:path w="298" h="397">
                <a:moveTo>
                  <a:pt x="18752" y="9451"/>
                </a:moveTo>
                <a:cubicBezTo>
                  <a:pt x="18744" y="9451"/>
                  <a:pt x="18736" y="9451"/>
                  <a:pt x="18728" y="9451"/>
                </a:cubicBezTo>
                <a:cubicBezTo>
                  <a:pt x="18728" y="9421"/>
                  <a:pt x="18735" y="9384"/>
                  <a:pt x="18752" y="9376"/>
                </a:cubicBezTo>
                <a:cubicBezTo>
                  <a:pt x="18782" y="9361"/>
                  <a:pt x="18864" y="9315"/>
                  <a:pt x="18901" y="9327"/>
                </a:cubicBezTo>
                <a:cubicBezTo>
                  <a:pt x="18923" y="9334"/>
                  <a:pt x="18987" y="9400"/>
                  <a:pt x="18976" y="9426"/>
                </a:cubicBezTo>
                <a:cubicBezTo>
                  <a:pt x="18960" y="9463"/>
                  <a:pt x="18914" y="9481"/>
                  <a:pt x="18901" y="9500"/>
                </a:cubicBezTo>
                <a:cubicBezTo>
                  <a:pt x="18867" y="9550"/>
                  <a:pt x="18928" y="9580"/>
                  <a:pt x="18951" y="9599"/>
                </a:cubicBezTo>
                <a:cubicBezTo>
                  <a:pt x="18981" y="9623"/>
                  <a:pt x="19022" y="9648"/>
                  <a:pt x="19025" y="9674"/>
                </a:cubicBezTo>
                <a:cubicBezTo>
                  <a:pt x="19034" y="9744"/>
                  <a:pt x="18944" y="9723"/>
                  <a:pt x="18901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1120" y="4017960"/>
            <a:ext cx="88920" cy="73080"/>
          </a:xfrm>
          <a:custGeom>
            <a:avLst/>
            <a:gdLst/>
            <a:ahLst/>
            <a:rect l="l" t="t" r="r" b="b"/>
            <a:pathLst>
              <a:path w="249" h="200">
                <a:moveTo>
                  <a:pt x="1389" y="11162"/>
                </a:moveTo>
                <a:cubicBezTo>
                  <a:pt x="1315" y="11162"/>
                  <a:pt x="1275" y="11167"/>
                  <a:pt x="1215" y="11187"/>
                </a:cubicBezTo>
                <a:cubicBezTo>
                  <a:pt x="1196" y="11193"/>
                  <a:pt x="1161" y="11187"/>
                  <a:pt x="1141" y="11187"/>
                </a:cubicBezTo>
              </a:path>
              <a:path w="249" h="200">
                <a:moveTo>
                  <a:pt x="1389" y="11311"/>
                </a:moveTo>
                <a:cubicBezTo>
                  <a:pt x="1389" y="11319"/>
                  <a:pt x="1389" y="11328"/>
                  <a:pt x="1389" y="11336"/>
                </a:cubicBezTo>
                <a:cubicBezTo>
                  <a:pt x="1330" y="11336"/>
                  <a:pt x="1289" y="11332"/>
                  <a:pt x="1240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47800" y="3946680"/>
            <a:ext cx="822240" cy="295200"/>
          </a:xfrm>
          <a:custGeom>
            <a:avLst/>
            <a:gdLst/>
            <a:ahLst/>
            <a:rect l="l" t="t" r="r" b="b"/>
            <a:pathLst>
              <a:path w="2283" h="819">
                <a:moveTo>
                  <a:pt x="2356" y="11088"/>
                </a:moveTo>
                <a:cubicBezTo>
                  <a:pt x="2367" y="11043"/>
                  <a:pt x="2403" y="11001"/>
                  <a:pt x="2456" y="10988"/>
                </a:cubicBezTo>
                <a:cubicBezTo>
                  <a:pt x="2525" y="10972"/>
                  <a:pt x="2587" y="10988"/>
                  <a:pt x="2604" y="11063"/>
                </a:cubicBezTo>
                <a:cubicBezTo>
                  <a:pt x="2623" y="11145"/>
                  <a:pt x="2597" y="11240"/>
                  <a:pt x="2555" y="11311"/>
                </a:cubicBezTo>
                <a:cubicBezTo>
                  <a:pt x="2510" y="11388"/>
                  <a:pt x="2444" y="11451"/>
                  <a:pt x="2431" y="11534"/>
                </a:cubicBezTo>
                <a:cubicBezTo>
                  <a:pt x="2422" y="11593"/>
                  <a:pt x="2490" y="11607"/>
                  <a:pt x="2530" y="11609"/>
                </a:cubicBezTo>
                <a:cubicBezTo>
                  <a:pt x="2598" y="11613"/>
                  <a:pt x="2657" y="11584"/>
                  <a:pt x="2729" y="11584"/>
                </a:cubicBezTo>
                <a:cubicBezTo>
                  <a:pt x="2762" y="11584"/>
                  <a:pt x="2778" y="11584"/>
                  <a:pt x="2803" y="11584"/>
                </a:cubicBezTo>
              </a:path>
              <a:path w="2283" h="819">
                <a:moveTo>
                  <a:pt x="3076" y="11460"/>
                </a:moveTo>
                <a:cubicBezTo>
                  <a:pt x="3076" y="11402"/>
                  <a:pt x="3068" y="11380"/>
                  <a:pt x="3101" y="11336"/>
                </a:cubicBezTo>
                <a:cubicBezTo>
                  <a:pt x="3092" y="11400"/>
                  <a:pt x="3076" y="11438"/>
                  <a:pt x="3076" y="11509"/>
                </a:cubicBezTo>
                <a:cubicBezTo>
                  <a:pt x="3076" y="11526"/>
                  <a:pt x="3076" y="11542"/>
                  <a:pt x="3076" y="11559"/>
                </a:cubicBezTo>
              </a:path>
              <a:path w="2283" h="819">
                <a:moveTo>
                  <a:pt x="3225" y="11336"/>
                </a:moveTo>
                <a:cubicBezTo>
                  <a:pt x="3225" y="11291"/>
                  <a:pt x="3221" y="11278"/>
                  <a:pt x="3249" y="11261"/>
                </a:cubicBezTo>
                <a:cubicBezTo>
                  <a:pt x="3236" y="11315"/>
                  <a:pt x="3203" y="11347"/>
                  <a:pt x="3200" y="11410"/>
                </a:cubicBezTo>
                <a:cubicBezTo>
                  <a:pt x="3195" y="11522"/>
                  <a:pt x="3187" y="11646"/>
                  <a:pt x="3274" y="11733"/>
                </a:cubicBezTo>
                <a:cubicBezTo>
                  <a:pt x="3312" y="11771"/>
                  <a:pt x="3375" y="11776"/>
                  <a:pt x="3423" y="11782"/>
                </a:cubicBezTo>
              </a:path>
              <a:path w="2283" h="819">
                <a:moveTo>
                  <a:pt x="3473" y="11385"/>
                </a:moveTo>
                <a:cubicBezTo>
                  <a:pt x="3424" y="11316"/>
                  <a:pt x="3408" y="11265"/>
                  <a:pt x="3324" y="11261"/>
                </a:cubicBezTo>
                <a:cubicBezTo>
                  <a:pt x="3225" y="11256"/>
                  <a:pt x="3125" y="11261"/>
                  <a:pt x="3026" y="11261"/>
                </a:cubicBezTo>
              </a:path>
              <a:path w="2283" h="819">
                <a:moveTo>
                  <a:pt x="3597" y="11509"/>
                </a:moveTo>
                <a:cubicBezTo>
                  <a:pt x="3597" y="11461"/>
                  <a:pt x="3592" y="11429"/>
                  <a:pt x="3621" y="11385"/>
                </a:cubicBezTo>
                <a:cubicBezTo>
                  <a:pt x="3658" y="11329"/>
                  <a:pt x="3717" y="11371"/>
                  <a:pt x="3746" y="11410"/>
                </a:cubicBezTo>
                <a:cubicBezTo>
                  <a:pt x="3787" y="11465"/>
                  <a:pt x="3770" y="11545"/>
                  <a:pt x="3770" y="11609"/>
                </a:cubicBezTo>
                <a:cubicBezTo>
                  <a:pt x="3770" y="11671"/>
                  <a:pt x="3718" y="11658"/>
                  <a:pt x="3671" y="11658"/>
                </a:cubicBezTo>
              </a:path>
              <a:path w="2283" h="819">
                <a:moveTo>
                  <a:pt x="3845" y="11435"/>
                </a:moveTo>
                <a:cubicBezTo>
                  <a:pt x="3886" y="11394"/>
                  <a:pt x="3928" y="11352"/>
                  <a:pt x="3969" y="11311"/>
                </a:cubicBezTo>
                <a:cubicBezTo>
                  <a:pt x="3896" y="11353"/>
                  <a:pt x="3859" y="11395"/>
                  <a:pt x="3845" y="11485"/>
                </a:cubicBezTo>
                <a:cubicBezTo>
                  <a:pt x="3831" y="11578"/>
                  <a:pt x="3886" y="11670"/>
                  <a:pt x="3969" y="11708"/>
                </a:cubicBezTo>
                <a:cubicBezTo>
                  <a:pt x="4010" y="11727"/>
                  <a:pt x="4058" y="11696"/>
                  <a:pt x="4093" y="11683"/>
                </a:cubicBezTo>
              </a:path>
              <a:path w="2283" h="819">
                <a:moveTo>
                  <a:pt x="4465" y="11088"/>
                </a:moveTo>
                <a:cubicBezTo>
                  <a:pt x="4430" y="11062"/>
                  <a:pt x="4434" y="11063"/>
                  <a:pt x="4390" y="11063"/>
                </a:cubicBezTo>
                <a:cubicBezTo>
                  <a:pt x="4390" y="11008"/>
                  <a:pt x="4393" y="11007"/>
                  <a:pt x="4440" y="10988"/>
                </a:cubicBezTo>
                <a:cubicBezTo>
                  <a:pt x="4497" y="10964"/>
                  <a:pt x="4539" y="10955"/>
                  <a:pt x="4589" y="10988"/>
                </a:cubicBezTo>
                <a:cubicBezTo>
                  <a:pt x="4633" y="11017"/>
                  <a:pt x="4617" y="11057"/>
                  <a:pt x="4589" y="11088"/>
                </a:cubicBezTo>
                <a:cubicBezTo>
                  <a:pt x="4567" y="11113"/>
                  <a:pt x="4515" y="11145"/>
                  <a:pt x="4539" y="11187"/>
                </a:cubicBezTo>
                <a:cubicBezTo>
                  <a:pt x="4565" y="11234"/>
                  <a:pt x="4593" y="11230"/>
                  <a:pt x="4638" y="11237"/>
                </a:cubicBezTo>
                <a:cubicBezTo>
                  <a:pt x="4638" y="11303"/>
                  <a:pt x="4623" y="11302"/>
                  <a:pt x="4564" y="113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2200" y="4402080"/>
            <a:ext cx="249480" cy="295200"/>
          </a:xfrm>
          <a:custGeom>
            <a:avLst/>
            <a:gdLst/>
            <a:ahLst/>
            <a:rect l="l" t="t" r="r" b="b"/>
            <a:pathLst>
              <a:path w="696" h="819">
                <a:moveTo>
                  <a:pt x="1017" y="12626"/>
                </a:moveTo>
                <a:cubicBezTo>
                  <a:pt x="1017" y="12707"/>
                  <a:pt x="1005" y="12774"/>
                  <a:pt x="992" y="12849"/>
                </a:cubicBezTo>
                <a:cubicBezTo>
                  <a:pt x="984" y="12895"/>
                  <a:pt x="992" y="12951"/>
                  <a:pt x="992" y="12998"/>
                </a:cubicBezTo>
              </a:path>
              <a:path w="696" h="819">
                <a:moveTo>
                  <a:pt x="1191" y="12626"/>
                </a:moveTo>
                <a:cubicBezTo>
                  <a:pt x="1258" y="12643"/>
                  <a:pt x="1240" y="12686"/>
                  <a:pt x="1240" y="12750"/>
                </a:cubicBezTo>
                <a:cubicBezTo>
                  <a:pt x="1240" y="12808"/>
                  <a:pt x="1240" y="12865"/>
                  <a:pt x="1240" y="12923"/>
                </a:cubicBezTo>
              </a:path>
              <a:path w="696" h="819">
                <a:moveTo>
                  <a:pt x="1141" y="12452"/>
                </a:moveTo>
                <a:cubicBezTo>
                  <a:pt x="1101" y="12432"/>
                  <a:pt x="1094" y="12423"/>
                  <a:pt x="1067" y="12427"/>
                </a:cubicBezTo>
              </a:path>
              <a:path w="696" h="819">
                <a:moveTo>
                  <a:pt x="918" y="12353"/>
                </a:moveTo>
                <a:cubicBezTo>
                  <a:pt x="895" y="12330"/>
                  <a:pt x="887" y="12319"/>
                  <a:pt x="893" y="12353"/>
                </a:cubicBezTo>
              </a:path>
              <a:path w="696" h="819">
                <a:moveTo>
                  <a:pt x="1166" y="12278"/>
                </a:moveTo>
                <a:cubicBezTo>
                  <a:pt x="1166" y="12254"/>
                  <a:pt x="1166" y="12245"/>
                  <a:pt x="1166" y="12229"/>
                </a:cubicBezTo>
                <a:cubicBezTo>
                  <a:pt x="1217" y="12229"/>
                  <a:pt x="1242" y="12247"/>
                  <a:pt x="1290" y="12254"/>
                </a:cubicBezTo>
                <a:cubicBezTo>
                  <a:pt x="1384" y="12267"/>
                  <a:pt x="1480" y="12284"/>
                  <a:pt x="1538" y="12378"/>
                </a:cubicBezTo>
                <a:cubicBezTo>
                  <a:pt x="1584" y="12453"/>
                  <a:pt x="1608" y="12589"/>
                  <a:pt x="1588" y="12675"/>
                </a:cubicBezTo>
                <a:cubicBezTo>
                  <a:pt x="1567" y="12765"/>
                  <a:pt x="1457" y="12868"/>
                  <a:pt x="1389" y="12923"/>
                </a:cubicBezTo>
                <a:cubicBezTo>
                  <a:pt x="1324" y="12976"/>
                  <a:pt x="1256" y="12997"/>
                  <a:pt x="1191" y="130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28800" y="4429080"/>
            <a:ext cx="581040" cy="295200"/>
          </a:xfrm>
          <a:custGeom>
            <a:avLst/>
            <a:gdLst/>
            <a:ahLst/>
            <a:rect l="l" t="t" r="r" b="b"/>
            <a:pathLst>
              <a:path w="1613" h="820">
                <a:moveTo>
                  <a:pt x="2679" y="12551"/>
                </a:moveTo>
                <a:cubicBezTo>
                  <a:pt x="2672" y="12529"/>
                  <a:pt x="2640" y="12506"/>
                  <a:pt x="2604" y="12526"/>
                </a:cubicBezTo>
                <a:cubicBezTo>
                  <a:pt x="2596" y="12534"/>
                  <a:pt x="2588" y="12543"/>
                  <a:pt x="2580" y="12551"/>
                </a:cubicBezTo>
                <a:cubicBezTo>
                  <a:pt x="2580" y="12497"/>
                  <a:pt x="2599" y="12423"/>
                  <a:pt x="2629" y="12378"/>
                </a:cubicBezTo>
                <a:cubicBezTo>
                  <a:pt x="2684" y="12295"/>
                  <a:pt x="2764" y="12275"/>
                  <a:pt x="2828" y="12353"/>
                </a:cubicBezTo>
                <a:cubicBezTo>
                  <a:pt x="2893" y="12432"/>
                  <a:pt x="2892" y="12582"/>
                  <a:pt x="2877" y="12675"/>
                </a:cubicBezTo>
                <a:cubicBezTo>
                  <a:pt x="2860" y="12787"/>
                  <a:pt x="2808" y="12884"/>
                  <a:pt x="2803" y="12998"/>
                </a:cubicBezTo>
                <a:cubicBezTo>
                  <a:pt x="2800" y="13057"/>
                  <a:pt x="2818" y="13079"/>
                  <a:pt x="2853" y="13122"/>
                </a:cubicBezTo>
                <a:cubicBezTo>
                  <a:pt x="2931" y="13102"/>
                  <a:pt x="2987" y="13057"/>
                  <a:pt x="3051" y="12998"/>
                </a:cubicBezTo>
                <a:cubicBezTo>
                  <a:pt x="3089" y="12963"/>
                  <a:pt x="3125" y="12973"/>
                  <a:pt x="3175" y="12973"/>
                </a:cubicBezTo>
              </a:path>
              <a:path w="1613" h="820">
                <a:moveTo>
                  <a:pt x="3299" y="12700"/>
                </a:moveTo>
                <a:cubicBezTo>
                  <a:pt x="3307" y="12692"/>
                  <a:pt x="3316" y="12683"/>
                  <a:pt x="3324" y="12675"/>
                </a:cubicBezTo>
                <a:cubicBezTo>
                  <a:pt x="3363" y="12727"/>
                  <a:pt x="3349" y="12782"/>
                  <a:pt x="3349" y="12849"/>
                </a:cubicBezTo>
                <a:cubicBezTo>
                  <a:pt x="3349" y="12941"/>
                  <a:pt x="3387" y="13011"/>
                  <a:pt x="3398" y="13097"/>
                </a:cubicBezTo>
              </a:path>
              <a:path w="1613" h="820">
                <a:moveTo>
                  <a:pt x="3522" y="12725"/>
                </a:moveTo>
                <a:cubicBezTo>
                  <a:pt x="3560" y="12668"/>
                  <a:pt x="3555" y="12643"/>
                  <a:pt x="3597" y="12650"/>
                </a:cubicBezTo>
                <a:cubicBezTo>
                  <a:pt x="3584" y="12715"/>
                  <a:pt x="3555" y="12781"/>
                  <a:pt x="3547" y="12849"/>
                </a:cubicBezTo>
                <a:cubicBezTo>
                  <a:pt x="3538" y="12927"/>
                  <a:pt x="3560" y="13047"/>
                  <a:pt x="3646" y="13072"/>
                </a:cubicBezTo>
                <a:cubicBezTo>
                  <a:pt x="3688" y="13072"/>
                  <a:pt x="3696" y="13072"/>
                  <a:pt x="3721" y="13072"/>
                </a:cubicBezTo>
              </a:path>
              <a:path w="1613" h="820">
                <a:moveTo>
                  <a:pt x="3845" y="12750"/>
                </a:moveTo>
                <a:cubicBezTo>
                  <a:pt x="3760" y="12628"/>
                  <a:pt x="3783" y="12646"/>
                  <a:pt x="3671" y="12700"/>
                </a:cubicBezTo>
                <a:cubicBezTo>
                  <a:pt x="3598" y="12725"/>
                  <a:pt x="3574" y="12733"/>
                  <a:pt x="3522" y="12725"/>
                </a:cubicBezTo>
              </a:path>
              <a:path w="1613" h="820">
                <a:moveTo>
                  <a:pt x="4142" y="12750"/>
                </a:moveTo>
                <a:cubicBezTo>
                  <a:pt x="4174" y="12739"/>
                  <a:pt x="4181" y="12732"/>
                  <a:pt x="4192" y="12700"/>
                </a:cubicBezTo>
                <a:cubicBezTo>
                  <a:pt x="4139" y="12753"/>
                  <a:pt x="4135" y="12790"/>
                  <a:pt x="4093" y="12849"/>
                </a:cubicBezTo>
                <a:cubicBezTo>
                  <a:pt x="4047" y="12914"/>
                  <a:pt x="4019" y="12985"/>
                  <a:pt x="3969" y="13047"/>
                </a:cubicBezTo>
              </a:path>
              <a:path w="1613" h="820">
                <a:moveTo>
                  <a:pt x="4142" y="12898"/>
                </a:moveTo>
                <a:cubicBezTo>
                  <a:pt x="4165" y="12876"/>
                  <a:pt x="4173" y="12871"/>
                  <a:pt x="4167" y="12849"/>
                </a:cubicBezTo>
                <a:cubicBezTo>
                  <a:pt x="4126" y="12849"/>
                  <a:pt x="4084" y="12849"/>
                  <a:pt x="4043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85960" y="4419720"/>
            <a:ext cx="446040" cy="260280"/>
          </a:xfrm>
          <a:custGeom>
            <a:avLst/>
            <a:gdLst/>
            <a:ahLst/>
            <a:rect l="l" t="t" r="r" b="b"/>
            <a:pathLst>
              <a:path w="1241" h="721">
                <a:moveTo>
                  <a:pt x="4961" y="12526"/>
                </a:moveTo>
                <a:cubicBezTo>
                  <a:pt x="4961" y="12459"/>
                  <a:pt x="4961" y="12658"/>
                  <a:pt x="4961" y="12675"/>
                </a:cubicBezTo>
                <a:cubicBezTo>
                  <a:pt x="4961" y="12758"/>
                  <a:pt x="4961" y="12840"/>
                  <a:pt x="4961" y="12923"/>
                </a:cubicBezTo>
              </a:path>
              <a:path w="1241" h="721">
                <a:moveTo>
                  <a:pt x="5035" y="12675"/>
                </a:moveTo>
                <a:cubicBezTo>
                  <a:pt x="5069" y="12641"/>
                  <a:pt x="5097" y="12623"/>
                  <a:pt x="5135" y="12601"/>
                </a:cubicBezTo>
                <a:cubicBezTo>
                  <a:pt x="5197" y="12565"/>
                  <a:pt x="5248" y="12527"/>
                  <a:pt x="5308" y="12576"/>
                </a:cubicBezTo>
                <a:cubicBezTo>
                  <a:pt x="5373" y="12628"/>
                  <a:pt x="5363" y="12683"/>
                  <a:pt x="5333" y="12750"/>
                </a:cubicBezTo>
                <a:cubicBezTo>
                  <a:pt x="5300" y="12824"/>
                  <a:pt x="5250" y="12894"/>
                  <a:pt x="5234" y="12973"/>
                </a:cubicBezTo>
                <a:cubicBezTo>
                  <a:pt x="5284" y="13011"/>
                  <a:pt x="5298" y="13001"/>
                  <a:pt x="5358" y="12973"/>
                </a:cubicBezTo>
                <a:cubicBezTo>
                  <a:pt x="5417" y="12945"/>
                  <a:pt x="5461" y="12919"/>
                  <a:pt x="5507" y="12874"/>
                </a:cubicBezTo>
              </a:path>
              <a:path w="1241" h="721">
                <a:moveTo>
                  <a:pt x="5779" y="12502"/>
                </a:moveTo>
                <a:cubicBezTo>
                  <a:pt x="5797" y="12456"/>
                  <a:pt x="5818" y="12419"/>
                  <a:pt x="5829" y="12378"/>
                </a:cubicBezTo>
                <a:cubicBezTo>
                  <a:pt x="5789" y="12398"/>
                  <a:pt x="5742" y="12471"/>
                  <a:pt x="5730" y="12526"/>
                </a:cubicBezTo>
                <a:cubicBezTo>
                  <a:pt x="5715" y="12595"/>
                  <a:pt x="5728" y="12678"/>
                  <a:pt x="5804" y="12700"/>
                </a:cubicBezTo>
                <a:cubicBezTo>
                  <a:pt x="5889" y="12725"/>
                  <a:pt x="5977" y="12670"/>
                  <a:pt x="6052" y="12725"/>
                </a:cubicBezTo>
                <a:cubicBezTo>
                  <a:pt x="6109" y="12767"/>
                  <a:pt x="6106" y="12828"/>
                  <a:pt x="6052" y="12874"/>
                </a:cubicBezTo>
                <a:cubicBezTo>
                  <a:pt x="5987" y="12929"/>
                  <a:pt x="5907" y="12923"/>
                  <a:pt x="5829" y="12923"/>
                </a:cubicBezTo>
              </a:path>
              <a:path w="1241" h="721">
                <a:moveTo>
                  <a:pt x="6077" y="12303"/>
                </a:moveTo>
                <a:cubicBezTo>
                  <a:pt x="6154" y="12283"/>
                  <a:pt x="6172" y="12259"/>
                  <a:pt x="6201" y="12303"/>
                </a:cubicBezTo>
                <a:cubicBezTo>
                  <a:pt x="6183" y="12374"/>
                  <a:pt x="6140" y="12362"/>
                  <a:pt x="6077" y="12378"/>
                </a:cubicBezTo>
                <a:cubicBezTo>
                  <a:pt x="6052" y="12386"/>
                  <a:pt x="6028" y="12394"/>
                  <a:pt x="6003" y="12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55920" y="4491000"/>
            <a:ext cx="98280" cy="46080"/>
          </a:xfrm>
          <a:custGeom>
            <a:avLst/>
            <a:gdLst/>
            <a:ahLst/>
            <a:rect l="l" t="t" r="r" b="b"/>
            <a:pathLst>
              <a:path w="274" h="125">
                <a:moveTo>
                  <a:pt x="6970" y="12502"/>
                </a:moveTo>
                <a:cubicBezTo>
                  <a:pt x="6970" y="12494"/>
                  <a:pt x="6970" y="12485"/>
                  <a:pt x="6970" y="12477"/>
                </a:cubicBezTo>
                <a:cubicBezTo>
                  <a:pt x="6929" y="12477"/>
                  <a:pt x="6906" y="12488"/>
                  <a:pt x="6871" y="12502"/>
                </a:cubicBezTo>
                <a:cubicBezTo>
                  <a:pt x="6854" y="12510"/>
                  <a:pt x="6838" y="12518"/>
                  <a:pt x="6821" y="12526"/>
                </a:cubicBezTo>
              </a:path>
              <a:path w="274" h="125">
                <a:moveTo>
                  <a:pt x="7020" y="12601"/>
                </a:moveTo>
                <a:cubicBezTo>
                  <a:pt x="7086" y="12601"/>
                  <a:pt x="7119" y="12601"/>
                  <a:pt x="7045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67040" y="4384800"/>
            <a:ext cx="150840" cy="22356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7962" y="12179"/>
                </a:moveTo>
                <a:cubicBezTo>
                  <a:pt x="7962" y="12212"/>
                  <a:pt x="7962" y="12245"/>
                  <a:pt x="7962" y="12278"/>
                </a:cubicBezTo>
                <a:cubicBezTo>
                  <a:pt x="8021" y="12278"/>
                  <a:pt x="8051" y="12263"/>
                  <a:pt x="8111" y="12254"/>
                </a:cubicBezTo>
                <a:cubicBezTo>
                  <a:pt x="8179" y="12244"/>
                  <a:pt x="8274" y="12241"/>
                  <a:pt x="8334" y="12278"/>
                </a:cubicBezTo>
                <a:cubicBezTo>
                  <a:pt x="8387" y="12310"/>
                  <a:pt x="8397" y="12369"/>
                  <a:pt x="8384" y="12427"/>
                </a:cubicBezTo>
                <a:cubicBezTo>
                  <a:pt x="8367" y="12506"/>
                  <a:pt x="8335" y="12601"/>
                  <a:pt x="8310" y="12675"/>
                </a:cubicBezTo>
                <a:cubicBezTo>
                  <a:pt x="8293" y="12726"/>
                  <a:pt x="8285" y="12745"/>
                  <a:pt x="8285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70160" y="4429080"/>
            <a:ext cx="446040" cy="196920"/>
          </a:xfrm>
          <a:custGeom>
            <a:avLst/>
            <a:gdLst/>
            <a:ahLst/>
            <a:rect l="l" t="t" r="r" b="b"/>
            <a:pathLst>
              <a:path w="1241" h="547">
                <a:moveTo>
                  <a:pt x="9004" y="12353"/>
                </a:moveTo>
                <a:cubicBezTo>
                  <a:pt x="9042" y="12325"/>
                  <a:pt x="9067" y="12339"/>
                  <a:pt x="9079" y="12303"/>
                </a:cubicBezTo>
                <a:cubicBezTo>
                  <a:pt x="9005" y="12303"/>
                  <a:pt x="8972" y="12319"/>
                  <a:pt x="8905" y="12353"/>
                </a:cubicBezTo>
                <a:cubicBezTo>
                  <a:pt x="8826" y="12393"/>
                  <a:pt x="8806" y="12387"/>
                  <a:pt x="8806" y="12477"/>
                </a:cubicBezTo>
                <a:cubicBezTo>
                  <a:pt x="8806" y="12528"/>
                  <a:pt x="8818" y="12540"/>
                  <a:pt x="8880" y="12551"/>
                </a:cubicBezTo>
                <a:cubicBezTo>
                  <a:pt x="8941" y="12562"/>
                  <a:pt x="8991" y="12567"/>
                  <a:pt x="9029" y="12626"/>
                </a:cubicBezTo>
                <a:cubicBezTo>
                  <a:pt x="9064" y="12680"/>
                  <a:pt x="9060" y="12715"/>
                  <a:pt x="9004" y="12750"/>
                </a:cubicBezTo>
                <a:cubicBezTo>
                  <a:pt x="8950" y="12784"/>
                  <a:pt x="8873" y="12780"/>
                  <a:pt x="8830" y="12725"/>
                </a:cubicBezTo>
                <a:cubicBezTo>
                  <a:pt x="8807" y="12696"/>
                  <a:pt x="8837" y="12621"/>
                  <a:pt x="8855" y="12601"/>
                </a:cubicBezTo>
                <a:cubicBezTo>
                  <a:pt x="8915" y="12532"/>
                  <a:pt x="8984" y="12481"/>
                  <a:pt x="9054" y="12427"/>
                </a:cubicBezTo>
                <a:cubicBezTo>
                  <a:pt x="9091" y="12399"/>
                  <a:pt x="9106" y="12402"/>
                  <a:pt x="9153" y="12402"/>
                </a:cubicBezTo>
              </a:path>
              <a:path w="1241" h="547">
                <a:moveTo>
                  <a:pt x="9550" y="12402"/>
                </a:moveTo>
                <a:cubicBezTo>
                  <a:pt x="9558" y="12394"/>
                  <a:pt x="9567" y="12386"/>
                  <a:pt x="9575" y="12378"/>
                </a:cubicBezTo>
                <a:cubicBezTo>
                  <a:pt x="9535" y="12388"/>
                  <a:pt x="9487" y="12434"/>
                  <a:pt x="9475" y="12477"/>
                </a:cubicBezTo>
                <a:cubicBezTo>
                  <a:pt x="9465" y="12515"/>
                  <a:pt x="9465" y="12604"/>
                  <a:pt x="9500" y="12626"/>
                </a:cubicBezTo>
                <a:cubicBezTo>
                  <a:pt x="9536" y="12649"/>
                  <a:pt x="9585" y="12654"/>
                  <a:pt x="9624" y="12675"/>
                </a:cubicBezTo>
                <a:cubicBezTo>
                  <a:pt x="9655" y="12691"/>
                  <a:pt x="9729" y="12721"/>
                  <a:pt x="9699" y="12774"/>
                </a:cubicBezTo>
                <a:cubicBezTo>
                  <a:pt x="9680" y="12807"/>
                  <a:pt x="9607" y="12809"/>
                  <a:pt x="9575" y="12799"/>
                </a:cubicBezTo>
                <a:cubicBezTo>
                  <a:pt x="9525" y="12774"/>
                  <a:pt x="9509" y="12766"/>
                  <a:pt x="9475" y="12750"/>
                </a:cubicBezTo>
              </a:path>
              <a:path w="1241" h="547">
                <a:moveTo>
                  <a:pt x="9823" y="12402"/>
                </a:moveTo>
                <a:cubicBezTo>
                  <a:pt x="9848" y="12386"/>
                  <a:pt x="9872" y="12369"/>
                  <a:pt x="9897" y="12353"/>
                </a:cubicBezTo>
                <a:cubicBezTo>
                  <a:pt x="9832" y="12366"/>
                  <a:pt x="9764" y="12392"/>
                  <a:pt x="9699" y="12402"/>
                </a:cubicBezTo>
                <a:cubicBezTo>
                  <a:pt x="9682" y="12402"/>
                  <a:pt x="9666" y="12402"/>
                  <a:pt x="9649" y="12402"/>
                </a:cubicBezTo>
              </a:path>
              <a:path w="1241" h="547">
                <a:moveTo>
                  <a:pt x="10046" y="12799"/>
                </a:moveTo>
                <a:cubicBezTo>
                  <a:pt x="10046" y="12824"/>
                  <a:pt x="10046" y="12832"/>
                  <a:pt x="10046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51200" y="4419720"/>
            <a:ext cx="115920" cy="206280"/>
          </a:xfrm>
          <a:custGeom>
            <a:avLst/>
            <a:gdLst/>
            <a:ahLst/>
            <a:rect l="l" t="t" r="r" b="b"/>
            <a:pathLst>
              <a:path w="323" h="572">
                <a:moveTo>
                  <a:pt x="10468" y="12452"/>
                </a:moveTo>
                <a:cubicBezTo>
                  <a:pt x="10432" y="12425"/>
                  <a:pt x="10429" y="12435"/>
                  <a:pt x="10418" y="12402"/>
                </a:cubicBezTo>
                <a:cubicBezTo>
                  <a:pt x="10464" y="12391"/>
                  <a:pt x="10496" y="12352"/>
                  <a:pt x="10542" y="12328"/>
                </a:cubicBezTo>
                <a:cubicBezTo>
                  <a:pt x="10608" y="12293"/>
                  <a:pt x="10647" y="12256"/>
                  <a:pt x="10716" y="12303"/>
                </a:cubicBezTo>
                <a:cubicBezTo>
                  <a:pt x="10767" y="12338"/>
                  <a:pt x="10735" y="12409"/>
                  <a:pt x="10716" y="12452"/>
                </a:cubicBezTo>
                <a:cubicBezTo>
                  <a:pt x="10684" y="12525"/>
                  <a:pt x="10603" y="12554"/>
                  <a:pt x="10542" y="12601"/>
                </a:cubicBezTo>
                <a:cubicBezTo>
                  <a:pt x="10476" y="12652"/>
                  <a:pt x="10530" y="12696"/>
                  <a:pt x="10592" y="12700"/>
                </a:cubicBezTo>
                <a:cubicBezTo>
                  <a:pt x="10649" y="12704"/>
                  <a:pt x="10709" y="12709"/>
                  <a:pt x="10716" y="12774"/>
                </a:cubicBezTo>
                <a:cubicBezTo>
                  <a:pt x="10723" y="12834"/>
                  <a:pt x="10659" y="12846"/>
                  <a:pt x="10616" y="12849"/>
                </a:cubicBezTo>
                <a:cubicBezTo>
                  <a:pt x="10600" y="12849"/>
                  <a:pt x="10583" y="12849"/>
                  <a:pt x="10567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000680" y="4402080"/>
            <a:ext cx="142560" cy="214200"/>
          </a:xfrm>
          <a:custGeom>
            <a:avLst/>
            <a:gdLst/>
            <a:ahLst/>
            <a:rect l="l" t="t" r="r" b="b"/>
            <a:pathLst>
              <a:path w="398" h="596">
                <a:moveTo>
                  <a:pt x="11361" y="12328"/>
                </a:moveTo>
                <a:cubicBezTo>
                  <a:pt x="11397" y="12300"/>
                  <a:pt x="11399" y="12311"/>
                  <a:pt x="11410" y="12278"/>
                </a:cubicBezTo>
                <a:cubicBezTo>
                  <a:pt x="11398" y="12245"/>
                  <a:pt x="11336" y="12218"/>
                  <a:pt x="11286" y="12229"/>
                </a:cubicBezTo>
                <a:cubicBezTo>
                  <a:pt x="11216" y="12245"/>
                  <a:pt x="11132" y="12307"/>
                  <a:pt x="11112" y="12378"/>
                </a:cubicBezTo>
                <a:cubicBezTo>
                  <a:pt x="11090" y="12458"/>
                  <a:pt x="11112" y="12498"/>
                  <a:pt x="11187" y="12502"/>
                </a:cubicBezTo>
                <a:cubicBezTo>
                  <a:pt x="11274" y="12507"/>
                  <a:pt x="11288" y="12436"/>
                  <a:pt x="11336" y="12378"/>
                </a:cubicBezTo>
                <a:cubicBezTo>
                  <a:pt x="11374" y="12339"/>
                  <a:pt x="11376" y="12322"/>
                  <a:pt x="11410" y="12328"/>
                </a:cubicBezTo>
                <a:cubicBezTo>
                  <a:pt x="11460" y="12440"/>
                  <a:pt x="11466" y="12532"/>
                  <a:pt x="11485" y="12650"/>
                </a:cubicBezTo>
                <a:cubicBezTo>
                  <a:pt x="11507" y="12741"/>
                  <a:pt x="11515" y="12764"/>
                  <a:pt x="11509" y="128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25760" y="4946760"/>
            <a:ext cx="446040" cy="98280"/>
          </a:xfrm>
          <a:custGeom>
            <a:avLst/>
            <a:gdLst/>
            <a:ahLst/>
            <a:rect l="l" t="t" r="r" b="b"/>
            <a:pathLst>
              <a:path w="1242" h="274">
                <a:moveTo>
                  <a:pt x="4589" y="13841"/>
                </a:moveTo>
                <a:cubicBezTo>
                  <a:pt x="4626" y="13803"/>
                  <a:pt x="4638" y="13794"/>
                  <a:pt x="4638" y="13742"/>
                </a:cubicBezTo>
                <a:cubicBezTo>
                  <a:pt x="4567" y="13742"/>
                  <a:pt x="4585" y="13735"/>
                  <a:pt x="4539" y="13791"/>
                </a:cubicBezTo>
                <a:cubicBezTo>
                  <a:pt x="4517" y="13817"/>
                  <a:pt x="4488" y="13931"/>
                  <a:pt x="4514" y="13965"/>
                </a:cubicBezTo>
                <a:cubicBezTo>
                  <a:pt x="4545" y="14005"/>
                  <a:pt x="4640" y="14034"/>
                  <a:pt x="4688" y="14015"/>
                </a:cubicBezTo>
                <a:cubicBezTo>
                  <a:pt x="4696" y="14007"/>
                  <a:pt x="4705" y="13998"/>
                  <a:pt x="4713" y="13990"/>
                </a:cubicBezTo>
              </a:path>
              <a:path w="1242" h="274">
                <a:moveTo>
                  <a:pt x="4762" y="13915"/>
                </a:moveTo>
                <a:cubicBezTo>
                  <a:pt x="4775" y="13885"/>
                  <a:pt x="4798" y="13823"/>
                  <a:pt x="4812" y="13816"/>
                </a:cubicBezTo>
                <a:cubicBezTo>
                  <a:pt x="4849" y="13797"/>
                  <a:pt x="4918" y="13834"/>
                  <a:pt x="4936" y="13866"/>
                </a:cubicBezTo>
                <a:cubicBezTo>
                  <a:pt x="4950" y="13891"/>
                  <a:pt x="4955" y="13935"/>
                  <a:pt x="4961" y="13965"/>
                </a:cubicBezTo>
                <a:cubicBezTo>
                  <a:pt x="4916" y="13999"/>
                  <a:pt x="4885" y="14003"/>
                  <a:pt x="4837" y="13965"/>
                </a:cubicBezTo>
                <a:cubicBezTo>
                  <a:pt x="4806" y="13940"/>
                  <a:pt x="4794" y="13939"/>
                  <a:pt x="4762" y="13915"/>
                </a:cubicBezTo>
              </a:path>
              <a:path w="1242" h="274">
                <a:moveTo>
                  <a:pt x="4986" y="13791"/>
                </a:moveTo>
                <a:cubicBezTo>
                  <a:pt x="5036" y="13800"/>
                  <a:pt x="5053" y="13806"/>
                  <a:pt x="5060" y="13866"/>
                </a:cubicBezTo>
                <a:cubicBezTo>
                  <a:pt x="5063" y="13897"/>
                  <a:pt x="5060" y="13934"/>
                  <a:pt x="5060" y="13965"/>
                </a:cubicBezTo>
                <a:cubicBezTo>
                  <a:pt x="5090" y="13925"/>
                  <a:pt x="5103" y="13885"/>
                  <a:pt x="5135" y="13841"/>
                </a:cubicBezTo>
                <a:cubicBezTo>
                  <a:pt x="5152" y="13818"/>
                  <a:pt x="5205" y="13800"/>
                  <a:pt x="5234" y="13816"/>
                </a:cubicBezTo>
                <a:cubicBezTo>
                  <a:pt x="5282" y="13843"/>
                  <a:pt x="5326" y="13902"/>
                  <a:pt x="5383" y="13915"/>
                </a:cubicBezTo>
                <a:cubicBezTo>
                  <a:pt x="5436" y="13927"/>
                  <a:pt x="5491" y="13920"/>
                  <a:pt x="5531" y="13891"/>
                </a:cubicBezTo>
                <a:cubicBezTo>
                  <a:pt x="5521" y="13851"/>
                  <a:pt x="5504" y="13819"/>
                  <a:pt x="5457" y="13816"/>
                </a:cubicBezTo>
                <a:cubicBezTo>
                  <a:pt x="5440" y="13816"/>
                  <a:pt x="5424" y="13816"/>
                  <a:pt x="5407" y="13816"/>
                </a:cubicBezTo>
                <a:cubicBezTo>
                  <a:pt x="5407" y="13899"/>
                  <a:pt x="5397" y="13900"/>
                  <a:pt x="5457" y="13965"/>
                </a:cubicBezTo>
                <a:cubicBezTo>
                  <a:pt x="5516" y="14029"/>
                  <a:pt x="5602" y="14015"/>
                  <a:pt x="5680" y="14015"/>
                </a:cubicBezTo>
                <a:cubicBezTo>
                  <a:pt x="5705" y="14015"/>
                  <a:pt x="5730" y="14015"/>
                  <a:pt x="5755" y="140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14800" y="4786200"/>
            <a:ext cx="750600" cy="223920"/>
          </a:xfrm>
          <a:custGeom>
            <a:avLst/>
            <a:gdLst/>
            <a:ahLst/>
            <a:rect l="l" t="t" r="r" b="b"/>
            <a:pathLst>
              <a:path w="2084" h="621">
                <a:moveTo>
                  <a:pt x="9004" y="13469"/>
                </a:moveTo>
                <a:cubicBezTo>
                  <a:pt x="9004" y="13461"/>
                  <a:pt x="9004" y="13452"/>
                  <a:pt x="9004" y="13444"/>
                </a:cubicBezTo>
                <a:cubicBezTo>
                  <a:pt x="8946" y="13458"/>
                  <a:pt x="8933" y="13482"/>
                  <a:pt x="8930" y="13543"/>
                </a:cubicBezTo>
                <a:cubicBezTo>
                  <a:pt x="8927" y="13588"/>
                  <a:pt x="8952" y="13699"/>
                  <a:pt x="9004" y="13717"/>
                </a:cubicBezTo>
                <a:cubicBezTo>
                  <a:pt x="9054" y="13717"/>
                  <a:pt x="9070" y="13717"/>
                  <a:pt x="9103" y="13717"/>
                </a:cubicBezTo>
              </a:path>
              <a:path w="2084" h="621">
                <a:moveTo>
                  <a:pt x="9302" y="13543"/>
                </a:moveTo>
                <a:cubicBezTo>
                  <a:pt x="9302" y="13594"/>
                  <a:pt x="9295" y="13626"/>
                  <a:pt x="9327" y="13667"/>
                </a:cubicBezTo>
                <a:cubicBezTo>
                  <a:pt x="9367" y="13718"/>
                  <a:pt x="9409" y="13668"/>
                  <a:pt x="9451" y="13692"/>
                </a:cubicBezTo>
                <a:cubicBezTo>
                  <a:pt x="9513" y="13727"/>
                  <a:pt x="9538" y="13770"/>
                  <a:pt x="9550" y="13841"/>
                </a:cubicBezTo>
                <a:cubicBezTo>
                  <a:pt x="9560" y="13903"/>
                  <a:pt x="9512" y="13940"/>
                  <a:pt x="9451" y="13915"/>
                </a:cubicBezTo>
                <a:cubicBezTo>
                  <a:pt x="9426" y="13891"/>
                  <a:pt x="9417" y="13883"/>
                  <a:pt x="9401" y="13866"/>
                </a:cubicBezTo>
              </a:path>
              <a:path w="2084" h="621">
                <a:moveTo>
                  <a:pt x="9699" y="13419"/>
                </a:moveTo>
                <a:cubicBezTo>
                  <a:pt x="9715" y="13419"/>
                  <a:pt x="9732" y="13419"/>
                  <a:pt x="9748" y="13419"/>
                </a:cubicBezTo>
                <a:cubicBezTo>
                  <a:pt x="9748" y="13526"/>
                  <a:pt x="9720" y="13679"/>
                  <a:pt x="9773" y="13767"/>
                </a:cubicBezTo>
              </a:path>
              <a:path w="2084" h="621">
                <a:moveTo>
                  <a:pt x="9922" y="13643"/>
                </a:moveTo>
                <a:cubicBezTo>
                  <a:pt x="9922" y="13575"/>
                  <a:pt x="9947" y="13672"/>
                  <a:pt x="9947" y="13692"/>
                </a:cubicBezTo>
              </a:path>
              <a:path w="2084" h="621">
                <a:moveTo>
                  <a:pt x="9922" y="13469"/>
                </a:moveTo>
                <a:cubicBezTo>
                  <a:pt x="9922" y="13404"/>
                  <a:pt x="9919" y="13419"/>
                  <a:pt x="9971" y="13419"/>
                </a:cubicBezTo>
              </a:path>
              <a:path w="2084" h="621">
                <a:moveTo>
                  <a:pt x="10071" y="13593"/>
                </a:moveTo>
                <a:cubicBezTo>
                  <a:pt x="10078" y="13644"/>
                  <a:pt x="10079" y="13678"/>
                  <a:pt x="10120" y="13692"/>
                </a:cubicBezTo>
                <a:cubicBezTo>
                  <a:pt x="10147" y="13656"/>
                  <a:pt x="10135" y="13599"/>
                  <a:pt x="10170" y="13568"/>
                </a:cubicBezTo>
                <a:cubicBezTo>
                  <a:pt x="10199" y="13543"/>
                  <a:pt x="10259" y="13595"/>
                  <a:pt x="10269" y="13618"/>
                </a:cubicBezTo>
                <a:cubicBezTo>
                  <a:pt x="10276" y="13635"/>
                  <a:pt x="10307" y="13709"/>
                  <a:pt x="10319" y="13717"/>
                </a:cubicBezTo>
                <a:cubicBezTo>
                  <a:pt x="10327" y="13717"/>
                  <a:pt x="10336" y="13717"/>
                  <a:pt x="10344" y="13717"/>
                </a:cubicBezTo>
              </a:path>
              <a:path w="2084" h="621">
                <a:moveTo>
                  <a:pt x="10344" y="13717"/>
                </a:moveTo>
                <a:cubicBezTo>
                  <a:pt x="10350" y="13709"/>
                  <a:pt x="10414" y="13596"/>
                  <a:pt x="10418" y="13593"/>
                </a:cubicBezTo>
                <a:cubicBezTo>
                  <a:pt x="10426" y="13593"/>
                  <a:pt x="10435" y="13593"/>
                  <a:pt x="10443" y="13593"/>
                </a:cubicBezTo>
                <a:cubicBezTo>
                  <a:pt x="10470" y="13602"/>
                  <a:pt x="10474" y="13634"/>
                  <a:pt x="10517" y="13618"/>
                </a:cubicBezTo>
                <a:cubicBezTo>
                  <a:pt x="10589" y="13592"/>
                  <a:pt x="10629" y="13517"/>
                  <a:pt x="10641" y="13444"/>
                </a:cubicBezTo>
                <a:cubicBezTo>
                  <a:pt x="10649" y="13399"/>
                  <a:pt x="10641" y="13342"/>
                  <a:pt x="10641" y="13295"/>
                </a:cubicBezTo>
                <a:cubicBezTo>
                  <a:pt x="10591" y="13312"/>
                  <a:pt x="10595" y="13385"/>
                  <a:pt x="10592" y="13444"/>
                </a:cubicBezTo>
                <a:cubicBezTo>
                  <a:pt x="10588" y="13525"/>
                  <a:pt x="10591" y="13593"/>
                  <a:pt x="10666" y="13643"/>
                </a:cubicBezTo>
                <a:cubicBezTo>
                  <a:pt x="10698" y="13665"/>
                  <a:pt x="10753" y="13619"/>
                  <a:pt x="10765" y="13593"/>
                </a:cubicBezTo>
                <a:cubicBezTo>
                  <a:pt x="10786" y="13545"/>
                  <a:pt x="10783" y="13565"/>
                  <a:pt x="10790" y="13568"/>
                </a:cubicBezTo>
                <a:cubicBezTo>
                  <a:pt x="10818" y="13579"/>
                  <a:pt x="10852" y="13493"/>
                  <a:pt x="10864" y="13469"/>
                </a:cubicBezTo>
                <a:cubicBezTo>
                  <a:pt x="10902" y="13396"/>
                  <a:pt x="10940" y="13382"/>
                  <a:pt x="11013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76840" y="4626000"/>
            <a:ext cx="679320" cy="276120"/>
          </a:xfrm>
          <a:custGeom>
            <a:avLst/>
            <a:gdLst/>
            <a:ahLst/>
            <a:rect l="l" t="t" r="r" b="b"/>
            <a:pathLst>
              <a:path w="1886" h="770">
                <a:moveTo>
                  <a:pt x="13395" y="13097"/>
                </a:moveTo>
                <a:cubicBezTo>
                  <a:pt x="13438" y="13097"/>
                  <a:pt x="13371" y="13100"/>
                  <a:pt x="13345" y="13122"/>
                </a:cubicBezTo>
                <a:cubicBezTo>
                  <a:pt x="13324" y="13140"/>
                  <a:pt x="13257" y="13187"/>
                  <a:pt x="13271" y="13221"/>
                </a:cubicBezTo>
                <a:cubicBezTo>
                  <a:pt x="13287" y="13259"/>
                  <a:pt x="13384" y="13299"/>
                  <a:pt x="13419" y="13320"/>
                </a:cubicBezTo>
                <a:cubicBezTo>
                  <a:pt x="13436" y="13328"/>
                  <a:pt x="13452" y="13337"/>
                  <a:pt x="13469" y="13345"/>
                </a:cubicBezTo>
                <a:cubicBezTo>
                  <a:pt x="13457" y="13394"/>
                  <a:pt x="13445" y="13395"/>
                  <a:pt x="13395" y="13395"/>
                </a:cubicBezTo>
                <a:cubicBezTo>
                  <a:pt x="13362" y="13395"/>
                  <a:pt x="13328" y="13395"/>
                  <a:pt x="13295" y="13395"/>
                </a:cubicBezTo>
              </a:path>
              <a:path w="1886" h="770">
                <a:moveTo>
                  <a:pt x="13717" y="13295"/>
                </a:moveTo>
                <a:cubicBezTo>
                  <a:pt x="13761" y="13310"/>
                  <a:pt x="13742" y="13366"/>
                  <a:pt x="13742" y="13419"/>
                </a:cubicBezTo>
                <a:cubicBezTo>
                  <a:pt x="13742" y="13485"/>
                  <a:pt x="13742" y="13552"/>
                  <a:pt x="13742" y="13618"/>
                </a:cubicBezTo>
              </a:path>
              <a:path w="1886" h="770">
                <a:moveTo>
                  <a:pt x="13717" y="13246"/>
                </a:moveTo>
                <a:cubicBezTo>
                  <a:pt x="13721" y="13215"/>
                  <a:pt x="13731" y="13129"/>
                  <a:pt x="13791" y="13146"/>
                </a:cubicBezTo>
                <a:cubicBezTo>
                  <a:pt x="13844" y="13161"/>
                  <a:pt x="13908" y="13219"/>
                  <a:pt x="13915" y="13271"/>
                </a:cubicBezTo>
                <a:cubicBezTo>
                  <a:pt x="13920" y="13311"/>
                  <a:pt x="13915" y="13355"/>
                  <a:pt x="13915" y="13395"/>
                </a:cubicBezTo>
                <a:cubicBezTo>
                  <a:pt x="13874" y="13395"/>
                  <a:pt x="13832" y="13395"/>
                  <a:pt x="13791" y="13395"/>
                </a:cubicBezTo>
              </a:path>
              <a:path w="1886" h="770">
                <a:moveTo>
                  <a:pt x="14015" y="12849"/>
                </a:moveTo>
                <a:cubicBezTo>
                  <a:pt x="14067" y="12849"/>
                  <a:pt x="14067" y="12845"/>
                  <a:pt x="14089" y="12874"/>
                </a:cubicBezTo>
                <a:cubicBezTo>
                  <a:pt x="14132" y="12930"/>
                  <a:pt x="14106" y="13005"/>
                  <a:pt x="14089" y="13072"/>
                </a:cubicBezTo>
                <a:cubicBezTo>
                  <a:pt x="14065" y="13165"/>
                  <a:pt x="14045" y="13250"/>
                  <a:pt x="14039" y="13345"/>
                </a:cubicBezTo>
                <a:cubicBezTo>
                  <a:pt x="14037" y="13383"/>
                  <a:pt x="14019" y="13423"/>
                  <a:pt x="14039" y="13395"/>
                </a:cubicBezTo>
                <a:cubicBezTo>
                  <a:pt x="14063" y="13362"/>
                  <a:pt x="14106" y="13289"/>
                  <a:pt x="14139" y="13271"/>
                </a:cubicBezTo>
                <a:cubicBezTo>
                  <a:pt x="14163" y="13271"/>
                  <a:pt x="14172" y="13271"/>
                  <a:pt x="14188" y="13271"/>
                </a:cubicBezTo>
                <a:cubicBezTo>
                  <a:pt x="14188" y="13311"/>
                  <a:pt x="14194" y="13364"/>
                  <a:pt x="14213" y="13395"/>
                </a:cubicBezTo>
                <a:cubicBezTo>
                  <a:pt x="14226" y="13416"/>
                  <a:pt x="14285" y="13481"/>
                  <a:pt x="14312" y="13469"/>
                </a:cubicBezTo>
                <a:cubicBezTo>
                  <a:pt x="14345" y="13454"/>
                  <a:pt x="14383" y="13402"/>
                  <a:pt x="14387" y="13370"/>
                </a:cubicBezTo>
                <a:cubicBezTo>
                  <a:pt x="14387" y="13362"/>
                  <a:pt x="14387" y="13353"/>
                  <a:pt x="14387" y="13345"/>
                </a:cubicBezTo>
                <a:cubicBezTo>
                  <a:pt x="14362" y="13361"/>
                  <a:pt x="14348" y="13420"/>
                  <a:pt x="14362" y="13469"/>
                </a:cubicBezTo>
                <a:cubicBezTo>
                  <a:pt x="14384" y="13545"/>
                  <a:pt x="14419" y="13543"/>
                  <a:pt x="14486" y="13543"/>
                </a:cubicBezTo>
                <a:cubicBezTo>
                  <a:pt x="14503" y="13543"/>
                  <a:pt x="14519" y="13543"/>
                  <a:pt x="14536" y="13543"/>
                </a:cubicBezTo>
              </a:path>
              <a:path w="1886" h="770">
                <a:moveTo>
                  <a:pt x="14610" y="13444"/>
                </a:moveTo>
                <a:cubicBezTo>
                  <a:pt x="14610" y="13406"/>
                  <a:pt x="14594" y="13340"/>
                  <a:pt x="14635" y="13320"/>
                </a:cubicBezTo>
                <a:cubicBezTo>
                  <a:pt x="14700" y="13287"/>
                  <a:pt x="14868" y="13373"/>
                  <a:pt x="14908" y="13295"/>
                </a:cubicBezTo>
                <a:cubicBezTo>
                  <a:pt x="14908" y="13287"/>
                  <a:pt x="14908" y="13279"/>
                  <a:pt x="14908" y="13271"/>
                </a:cubicBezTo>
                <a:cubicBezTo>
                  <a:pt x="14864" y="13271"/>
                  <a:pt x="14837" y="13268"/>
                  <a:pt x="14833" y="13320"/>
                </a:cubicBezTo>
                <a:cubicBezTo>
                  <a:pt x="14827" y="13398"/>
                  <a:pt x="14880" y="13472"/>
                  <a:pt x="14957" y="13494"/>
                </a:cubicBezTo>
                <a:cubicBezTo>
                  <a:pt x="15021" y="13512"/>
                  <a:pt x="15099" y="13491"/>
                  <a:pt x="15156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85920" y="5010120"/>
            <a:ext cx="214200" cy="517680"/>
          </a:xfrm>
          <a:custGeom>
            <a:avLst/>
            <a:gdLst/>
            <a:ahLst/>
            <a:rect l="l" t="t" r="r" b="b"/>
            <a:pathLst>
              <a:path w="596" h="1440">
                <a:moveTo>
                  <a:pt x="3721" y="14015"/>
                </a:moveTo>
                <a:cubicBezTo>
                  <a:pt x="3721" y="13982"/>
                  <a:pt x="3721" y="13948"/>
                  <a:pt x="3721" y="13915"/>
                </a:cubicBezTo>
                <a:cubicBezTo>
                  <a:pt x="3721" y="13978"/>
                  <a:pt x="3743" y="14023"/>
                  <a:pt x="3746" y="14089"/>
                </a:cubicBezTo>
                <a:cubicBezTo>
                  <a:pt x="3749" y="14177"/>
                  <a:pt x="3764" y="14257"/>
                  <a:pt x="3795" y="14337"/>
                </a:cubicBezTo>
              </a:path>
              <a:path w="596" h="1440">
                <a:moveTo>
                  <a:pt x="4167" y="14486"/>
                </a:moveTo>
                <a:cubicBezTo>
                  <a:pt x="4154" y="14526"/>
                  <a:pt x="4119" y="14511"/>
                  <a:pt x="4068" y="14511"/>
                </a:cubicBezTo>
                <a:cubicBezTo>
                  <a:pt x="3954" y="14511"/>
                  <a:pt x="3856" y="14521"/>
                  <a:pt x="3746" y="14536"/>
                </a:cubicBezTo>
                <a:cubicBezTo>
                  <a:pt x="3684" y="14545"/>
                  <a:pt x="3647" y="14565"/>
                  <a:pt x="3597" y="14610"/>
                </a:cubicBezTo>
                <a:cubicBezTo>
                  <a:pt x="3589" y="14618"/>
                  <a:pt x="3580" y="14627"/>
                  <a:pt x="3572" y="14635"/>
                </a:cubicBezTo>
              </a:path>
              <a:path w="596" h="1440">
                <a:moveTo>
                  <a:pt x="3870" y="14908"/>
                </a:moveTo>
                <a:cubicBezTo>
                  <a:pt x="3835" y="14882"/>
                  <a:pt x="3839" y="14883"/>
                  <a:pt x="3795" y="14883"/>
                </a:cubicBezTo>
                <a:cubicBezTo>
                  <a:pt x="3795" y="14811"/>
                  <a:pt x="3788" y="14830"/>
                  <a:pt x="3845" y="14784"/>
                </a:cubicBezTo>
                <a:cubicBezTo>
                  <a:pt x="3900" y="14739"/>
                  <a:pt x="3924" y="14734"/>
                  <a:pt x="3994" y="14734"/>
                </a:cubicBezTo>
                <a:cubicBezTo>
                  <a:pt x="3994" y="14787"/>
                  <a:pt x="3993" y="14814"/>
                  <a:pt x="3969" y="14858"/>
                </a:cubicBezTo>
                <a:cubicBezTo>
                  <a:pt x="3951" y="14892"/>
                  <a:pt x="3879" y="14948"/>
                  <a:pt x="3870" y="14982"/>
                </a:cubicBezTo>
                <a:cubicBezTo>
                  <a:pt x="3844" y="15075"/>
                  <a:pt x="3913" y="15062"/>
                  <a:pt x="3969" y="15106"/>
                </a:cubicBezTo>
                <a:cubicBezTo>
                  <a:pt x="4026" y="15151"/>
                  <a:pt x="4115" y="15188"/>
                  <a:pt x="4142" y="15255"/>
                </a:cubicBezTo>
                <a:cubicBezTo>
                  <a:pt x="4165" y="15312"/>
                  <a:pt x="4085" y="15344"/>
                  <a:pt x="4043" y="15354"/>
                </a:cubicBezTo>
                <a:cubicBezTo>
                  <a:pt x="3975" y="15369"/>
                  <a:pt x="3859" y="15347"/>
                  <a:pt x="3795" y="15329"/>
                </a:cubicBezTo>
                <a:cubicBezTo>
                  <a:pt x="3747" y="15305"/>
                  <a:pt x="3733" y="15296"/>
                  <a:pt x="3696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68320" y="5803920"/>
            <a:ext cx="9720" cy="233280"/>
          </a:xfrm>
          <a:custGeom>
            <a:avLst/>
            <a:gdLst/>
            <a:ahLst/>
            <a:rect l="l" t="t" r="r" b="b"/>
            <a:pathLst>
              <a:path w="26" h="646">
                <a:moveTo>
                  <a:pt x="4936" y="16173"/>
                </a:moveTo>
                <a:cubicBezTo>
                  <a:pt x="4936" y="16036"/>
                  <a:pt x="4912" y="16284"/>
                  <a:pt x="4911" y="16297"/>
                </a:cubicBezTo>
                <a:cubicBezTo>
                  <a:pt x="4896" y="16450"/>
                  <a:pt x="4902" y="16621"/>
                  <a:pt x="4936" y="167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54200" y="5249880"/>
            <a:ext cx="44640" cy="233280"/>
          </a:xfrm>
          <a:custGeom>
            <a:avLst/>
            <a:gdLst/>
            <a:ahLst/>
            <a:rect l="l" t="t" r="r" b="b"/>
            <a:pathLst>
              <a:path w="125" h="646">
                <a:moveTo>
                  <a:pt x="7144" y="14684"/>
                </a:moveTo>
                <a:cubicBezTo>
                  <a:pt x="7144" y="14636"/>
                  <a:pt x="7141" y="14623"/>
                  <a:pt x="7169" y="14585"/>
                </a:cubicBezTo>
                <a:cubicBezTo>
                  <a:pt x="7197" y="14595"/>
                  <a:pt x="7213" y="14620"/>
                  <a:pt x="7218" y="14660"/>
                </a:cubicBezTo>
                <a:cubicBezTo>
                  <a:pt x="7222" y="14698"/>
                  <a:pt x="7230" y="14729"/>
                  <a:pt x="7193" y="14734"/>
                </a:cubicBezTo>
                <a:cubicBezTo>
                  <a:pt x="7185" y="14734"/>
                  <a:pt x="7177" y="14734"/>
                  <a:pt x="7169" y="14734"/>
                </a:cubicBezTo>
              </a:path>
              <a:path w="125" h="646">
                <a:moveTo>
                  <a:pt x="7094" y="15131"/>
                </a:moveTo>
                <a:cubicBezTo>
                  <a:pt x="7094" y="15106"/>
                  <a:pt x="7094" y="15098"/>
                  <a:pt x="7094" y="15081"/>
                </a:cubicBezTo>
                <a:cubicBezTo>
                  <a:pt x="7144" y="15093"/>
                  <a:pt x="7144" y="15105"/>
                  <a:pt x="7144" y="15156"/>
                </a:cubicBezTo>
                <a:cubicBezTo>
                  <a:pt x="7144" y="15187"/>
                  <a:pt x="7136" y="15222"/>
                  <a:pt x="7119" y="15230"/>
                </a:cubicBezTo>
                <a:cubicBezTo>
                  <a:pt x="7078" y="15250"/>
                  <a:pt x="7094" y="15176"/>
                  <a:pt x="7094" y="15156"/>
                </a:cubicBezTo>
                <a:cubicBezTo>
                  <a:pt x="7094" y="15180"/>
                  <a:pt x="7094" y="15189"/>
                  <a:pt x="7094" y="152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86080" y="5072040"/>
            <a:ext cx="250920" cy="777960"/>
          </a:xfrm>
          <a:custGeom>
            <a:avLst/>
            <a:gdLst/>
            <a:ahLst/>
            <a:rect l="l" t="t" r="r" b="b"/>
            <a:pathLst>
              <a:path w="696" h="2159">
                <a:moveTo>
                  <a:pt x="9624" y="14089"/>
                </a:moveTo>
                <a:cubicBezTo>
                  <a:pt x="9682" y="14108"/>
                  <a:pt x="9632" y="14124"/>
                  <a:pt x="9624" y="14163"/>
                </a:cubicBezTo>
                <a:cubicBezTo>
                  <a:pt x="9586" y="14340"/>
                  <a:pt x="9632" y="14560"/>
                  <a:pt x="9649" y="14734"/>
                </a:cubicBezTo>
                <a:cubicBezTo>
                  <a:pt x="9660" y="14847"/>
                  <a:pt x="9649" y="14967"/>
                  <a:pt x="9649" y="15081"/>
                </a:cubicBezTo>
              </a:path>
              <a:path w="696" h="2159">
                <a:moveTo>
                  <a:pt x="9128" y="15701"/>
                </a:moveTo>
                <a:cubicBezTo>
                  <a:pt x="9128" y="15677"/>
                  <a:pt x="9128" y="15668"/>
                  <a:pt x="9128" y="15652"/>
                </a:cubicBezTo>
                <a:cubicBezTo>
                  <a:pt x="9206" y="15642"/>
                  <a:pt x="9277" y="15608"/>
                  <a:pt x="9351" y="15577"/>
                </a:cubicBezTo>
                <a:cubicBezTo>
                  <a:pt x="9421" y="15548"/>
                  <a:pt x="9497" y="15533"/>
                  <a:pt x="9525" y="15627"/>
                </a:cubicBezTo>
                <a:cubicBezTo>
                  <a:pt x="9543" y="15688"/>
                  <a:pt x="9533" y="15796"/>
                  <a:pt x="9500" y="15850"/>
                </a:cubicBezTo>
                <a:cubicBezTo>
                  <a:pt x="9477" y="15873"/>
                  <a:pt x="9469" y="15877"/>
                  <a:pt x="9475" y="15900"/>
                </a:cubicBezTo>
                <a:cubicBezTo>
                  <a:pt x="9543" y="15954"/>
                  <a:pt x="9629" y="15954"/>
                  <a:pt x="9699" y="15999"/>
                </a:cubicBezTo>
                <a:cubicBezTo>
                  <a:pt x="9752" y="16033"/>
                  <a:pt x="9846" y="16125"/>
                  <a:pt x="9823" y="16197"/>
                </a:cubicBezTo>
                <a:cubicBezTo>
                  <a:pt x="9802" y="16265"/>
                  <a:pt x="9647" y="16258"/>
                  <a:pt x="9599" y="16247"/>
                </a:cubicBezTo>
                <a:cubicBezTo>
                  <a:pt x="9543" y="16218"/>
                  <a:pt x="9519" y="16207"/>
                  <a:pt x="9475" y="161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57800" y="5153040"/>
            <a:ext cx="44280" cy="196920"/>
          </a:xfrm>
          <a:custGeom>
            <a:avLst/>
            <a:gdLst/>
            <a:ahLst/>
            <a:rect l="l" t="t" r="r" b="b"/>
            <a:pathLst>
              <a:path w="125" h="547">
                <a:moveTo>
                  <a:pt x="12129" y="14387"/>
                </a:moveTo>
                <a:cubicBezTo>
                  <a:pt x="12134" y="14371"/>
                  <a:pt x="12152" y="14325"/>
                  <a:pt x="12179" y="14312"/>
                </a:cubicBezTo>
                <a:cubicBezTo>
                  <a:pt x="12209" y="14297"/>
                  <a:pt x="12224" y="14366"/>
                  <a:pt x="12229" y="14387"/>
                </a:cubicBezTo>
                <a:cubicBezTo>
                  <a:pt x="12221" y="14387"/>
                  <a:pt x="12212" y="14387"/>
                  <a:pt x="12204" y="14387"/>
                </a:cubicBezTo>
                <a:cubicBezTo>
                  <a:pt x="12196" y="14384"/>
                  <a:pt x="12129" y="14337"/>
                  <a:pt x="12154" y="14312"/>
                </a:cubicBezTo>
                <a:cubicBezTo>
                  <a:pt x="12162" y="14312"/>
                  <a:pt x="12171" y="14312"/>
                  <a:pt x="12179" y="14312"/>
                </a:cubicBezTo>
              </a:path>
              <a:path w="125" h="547">
                <a:moveTo>
                  <a:pt x="12105" y="14784"/>
                </a:moveTo>
                <a:cubicBezTo>
                  <a:pt x="12105" y="14759"/>
                  <a:pt x="12105" y="14751"/>
                  <a:pt x="12129" y="14759"/>
                </a:cubicBezTo>
                <a:cubicBezTo>
                  <a:pt x="12167" y="14772"/>
                  <a:pt x="12154" y="14788"/>
                  <a:pt x="12154" y="14833"/>
                </a:cubicBezTo>
                <a:cubicBezTo>
                  <a:pt x="12154" y="14841"/>
                  <a:pt x="12154" y="14850"/>
                  <a:pt x="12154" y="14858"/>
                </a:cubicBezTo>
                <a:cubicBezTo>
                  <a:pt x="12105" y="14846"/>
                  <a:pt x="12105" y="14834"/>
                  <a:pt x="12105" y="14784"/>
                </a:cubicBezTo>
                <a:cubicBezTo>
                  <a:pt x="12105" y="14745"/>
                  <a:pt x="12121" y="14759"/>
                  <a:pt x="12154" y="147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40200" y="4991040"/>
            <a:ext cx="17640" cy="295200"/>
          </a:xfrm>
          <a:custGeom>
            <a:avLst/>
            <a:gdLst/>
            <a:ahLst/>
            <a:rect l="l" t="t" r="r" b="b"/>
            <a:pathLst>
              <a:path w="51" h="819">
                <a:moveTo>
                  <a:pt x="13444" y="14015"/>
                </a:moveTo>
                <a:cubicBezTo>
                  <a:pt x="13473" y="14005"/>
                  <a:pt x="13489" y="13981"/>
                  <a:pt x="13494" y="13940"/>
                </a:cubicBezTo>
                <a:cubicBezTo>
                  <a:pt x="13497" y="13916"/>
                  <a:pt x="13494" y="13890"/>
                  <a:pt x="13494" y="13866"/>
                </a:cubicBezTo>
                <a:cubicBezTo>
                  <a:pt x="13494" y="14002"/>
                  <a:pt x="13479" y="14130"/>
                  <a:pt x="13469" y="14263"/>
                </a:cubicBezTo>
                <a:cubicBezTo>
                  <a:pt x="13459" y="14401"/>
                  <a:pt x="13469" y="14545"/>
                  <a:pt x="13469" y="14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45040" y="4973760"/>
            <a:ext cx="169920" cy="357120"/>
          </a:xfrm>
          <a:custGeom>
            <a:avLst/>
            <a:gdLst/>
            <a:ahLst/>
            <a:rect l="l" t="t" r="r" b="b"/>
            <a:pathLst>
              <a:path w="472" h="993">
                <a:moveTo>
                  <a:pt x="14213" y="13866"/>
                </a:moveTo>
                <a:cubicBezTo>
                  <a:pt x="14171" y="13811"/>
                  <a:pt x="14188" y="13812"/>
                  <a:pt x="14188" y="13891"/>
                </a:cubicBezTo>
                <a:cubicBezTo>
                  <a:pt x="14188" y="13970"/>
                  <a:pt x="14175" y="14050"/>
                  <a:pt x="14213" y="14114"/>
                </a:cubicBezTo>
              </a:path>
              <a:path w="472" h="993">
                <a:moveTo>
                  <a:pt x="14486" y="14139"/>
                </a:moveTo>
                <a:cubicBezTo>
                  <a:pt x="14321" y="14139"/>
                  <a:pt x="13885" y="14216"/>
                  <a:pt x="14015" y="14114"/>
                </a:cubicBezTo>
                <a:cubicBezTo>
                  <a:pt x="14023" y="14114"/>
                  <a:pt x="14031" y="14114"/>
                  <a:pt x="14039" y="14114"/>
                </a:cubicBezTo>
              </a:path>
              <a:path w="472" h="993">
                <a:moveTo>
                  <a:pt x="14238" y="14412"/>
                </a:moveTo>
                <a:cubicBezTo>
                  <a:pt x="14213" y="14436"/>
                  <a:pt x="14205" y="14444"/>
                  <a:pt x="14188" y="14412"/>
                </a:cubicBezTo>
                <a:cubicBezTo>
                  <a:pt x="14196" y="14379"/>
                  <a:pt x="14226" y="14345"/>
                  <a:pt x="14263" y="14337"/>
                </a:cubicBezTo>
                <a:cubicBezTo>
                  <a:pt x="14328" y="14323"/>
                  <a:pt x="14399" y="14328"/>
                  <a:pt x="14436" y="14387"/>
                </a:cubicBezTo>
                <a:cubicBezTo>
                  <a:pt x="14458" y="14422"/>
                  <a:pt x="14434" y="14486"/>
                  <a:pt x="14412" y="14511"/>
                </a:cubicBezTo>
                <a:cubicBezTo>
                  <a:pt x="14380" y="14548"/>
                  <a:pt x="14348" y="14564"/>
                  <a:pt x="14337" y="14610"/>
                </a:cubicBezTo>
                <a:cubicBezTo>
                  <a:pt x="14372" y="14638"/>
                  <a:pt x="14441" y="14665"/>
                  <a:pt x="14461" y="14709"/>
                </a:cubicBezTo>
                <a:cubicBezTo>
                  <a:pt x="14472" y="14733"/>
                  <a:pt x="14466" y="14799"/>
                  <a:pt x="14436" y="14808"/>
                </a:cubicBezTo>
                <a:cubicBezTo>
                  <a:pt x="14363" y="14830"/>
                  <a:pt x="14279" y="14792"/>
                  <a:pt x="14213" y="14784"/>
                </a:cubicBezTo>
                <a:cubicBezTo>
                  <a:pt x="14145" y="14784"/>
                  <a:pt x="14126" y="14787"/>
                  <a:pt x="14089" y="147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20920" y="5830920"/>
            <a:ext cx="36360" cy="115920"/>
          </a:xfrm>
          <a:custGeom>
            <a:avLst/>
            <a:gdLst/>
            <a:ahLst/>
            <a:rect l="l" t="t" r="r" b="b"/>
            <a:pathLst>
              <a:path w="100" h="324">
                <a:moveTo>
                  <a:pt x="6449" y="16247"/>
                </a:moveTo>
                <a:cubicBezTo>
                  <a:pt x="6449" y="16205"/>
                  <a:pt x="6441" y="16189"/>
                  <a:pt x="6474" y="16197"/>
                </a:cubicBezTo>
              </a:path>
              <a:path w="100" h="324">
                <a:moveTo>
                  <a:pt x="6548" y="16396"/>
                </a:moveTo>
                <a:cubicBezTo>
                  <a:pt x="6509" y="16451"/>
                  <a:pt x="6542" y="16438"/>
                  <a:pt x="6548" y="16495"/>
                </a:cubicBezTo>
                <a:cubicBezTo>
                  <a:pt x="6548" y="16503"/>
                  <a:pt x="6548" y="16512"/>
                  <a:pt x="6548" y="16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75160" y="4554360"/>
            <a:ext cx="384120" cy="1455840"/>
          </a:xfrm>
          <a:custGeom>
            <a:avLst/>
            <a:gdLst/>
            <a:ahLst/>
            <a:rect l="l" t="t" r="r" b="b"/>
            <a:pathLst>
              <a:path w="1068" h="4045">
                <a:moveTo>
                  <a:pt x="15652" y="12750"/>
                </a:moveTo>
                <a:cubicBezTo>
                  <a:pt x="15681" y="12707"/>
                  <a:pt x="15627" y="12700"/>
                  <a:pt x="15677" y="12675"/>
                </a:cubicBezTo>
                <a:cubicBezTo>
                  <a:pt x="15717" y="12655"/>
                  <a:pt x="15685" y="12648"/>
                  <a:pt x="15751" y="12675"/>
                </a:cubicBezTo>
                <a:cubicBezTo>
                  <a:pt x="15816" y="12701"/>
                  <a:pt x="15873" y="12787"/>
                  <a:pt x="15900" y="12849"/>
                </a:cubicBezTo>
                <a:cubicBezTo>
                  <a:pt x="15958" y="12981"/>
                  <a:pt x="15988" y="13127"/>
                  <a:pt x="15999" y="13271"/>
                </a:cubicBezTo>
                <a:cubicBezTo>
                  <a:pt x="16009" y="13398"/>
                  <a:pt x="15999" y="13524"/>
                  <a:pt x="15949" y="13643"/>
                </a:cubicBezTo>
                <a:cubicBezTo>
                  <a:pt x="15904" y="13749"/>
                  <a:pt x="15826" y="13830"/>
                  <a:pt x="15751" y="13915"/>
                </a:cubicBezTo>
                <a:cubicBezTo>
                  <a:pt x="15701" y="13973"/>
                  <a:pt x="15625" y="14012"/>
                  <a:pt x="15577" y="14064"/>
                </a:cubicBezTo>
                <a:cubicBezTo>
                  <a:pt x="15559" y="14084"/>
                  <a:pt x="15502" y="14161"/>
                  <a:pt x="15503" y="14188"/>
                </a:cubicBezTo>
                <a:cubicBezTo>
                  <a:pt x="15505" y="14249"/>
                  <a:pt x="15562" y="14277"/>
                  <a:pt x="15602" y="14312"/>
                </a:cubicBezTo>
                <a:cubicBezTo>
                  <a:pt x="15652" y="14356"/>
                  <a:pt x="15687" y="14382"/>
                  <a:pt x="15726" y="14436"/>
                </a:cubicBezTo>
                <a:cubicBezTo>
                  <a:pt x="15760" y="14483"/>
                  <a:pt x="15762" y="14509"/>
                  <a:pt x="15776" y="14560"/>
                </a:cubicBezTo>
                <a:cubicBezTo>
                  <a:pt x="15776" y="14568"/>
                  <a:pt x="15776" y="14577"/>
                  <a:pt x="15776" y="14585"/>
                </a:cubicBezTo>
                <a:cubicBezTo>
                  <a:pt x="15724" y="14597"/>
                  <a:pt x="15653" y="14591"/>
                  <a:pt x="15602" y="14610"/>
                </a:cubicBezTo>
                <a:cubicBezTo>
                  <a:pt x="15546" y="14631"/>
                  <a:pt x="15505" y="14684"/>
                  <a:pt x="15478" y="14734"/>
                </a:cubicBezTo>
                <a:cubicBezTo>
                  <a:pt x="15450" y="14785"/>
                  <a:pt x="15444" y="14843"/>
                  <a:pt x="15453" y="14908"/>
                </a:cubicBezTo>
                <a:cubicBezTo>
                  <a:pt x="15491" y="15189"/>
                  <a:pt x="15690" y="15412"/>
                  <a:pt x="15701" y="15701"/>
                </a:cubicBezTo>
                <a:cubicBezTo>
                  <a:pt x="15707" y="15873"/>
                  <a:pt x="15717" y="16044"/>
                  <a:pt x="15627" y="16197"/>
                </a:cubicBezTo>
                <a:cubicBezTo>
                  <a:pt x="15560" y="16311"/>
                  <a:pt x="15470" y="16402"/>
                  <a:pt x="15379" y="16495"/>
                </a:cubicBezTo>
                <a:cubicBezTo>
                  <a:pt x="15335" y="16541"/>
                  <a:pt x="15267" y="16625"/>
                  <a:pt x="15205" y="16644"/>
                </a:cubicBezTo>
                <a:cubicBezTo>
                  <a:pt x="15152" y="16660"/>
                  <a:pt x="15087" y="16653"/>
                  <a:pt x="15032" y="16669"/>
                </a:cubicBezTo>
                <a:cubicBezTo>
                  <a:pt x="14995" y="16680"/>
                  <a:pt x="14967" y="16685"/>
                  <a:pt x="14932" y="16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60880" y="5697360"/>
            <a:ext cx="19080" cy="152640"/>
          </a:xfrm>
          <a:custGeom>
            <a:avLst/>
            <a:gdLst/>
            <a:ahLst/>
            <a:rect l="l" t="t" r="r" b="b"/>
            <a:pathLst>
              <a:path w="51" h="423">
                <a:moveTo>
                  <a:pt x="11584" y="15875"/>
                </a:moveTo>
                <a:cubicBezTo>
                  <a:pt x="11576" y="15858"/>
                  <a:pt x="11567" y="15842"/>
                  <a:pt x="11559" y="15825"/>
                </a:cubicBezTo>
              </a:path>
              <a:path w="51" h="423">
                <a:moveTo>
                  <a:pt x="11609" y="16073"/>
                </a:moveTo>
                <a:cubicBezTo>
                  <a:pt x="11591" y="16139"/>
                  <a:pt x="11584" y="16181"/>
                  <a:pt x="11584" y="162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64000" y="5670720"/>
            <a:ext cx="287280" cy="330120"/>
          </a:xfrm>
          <a:custGeom>
            <a:avLst/>
            <a:gdLst/>
            <a:ahLst/>
            <a:rect l="l" t="t" r="r" b="b"/>
            <a:pathLst>
              <a:path w="795" h="919">
                <a:moveTo>
                  <a:pt x="12402" y="15801"/>
                </a:moveTo>
                <a:cubicBezTo>
                  <a:pt x="12402" y="15759"/>
                  <a:pt x="12394" y="15743"/>
                  <a:pt x="12427" y="15751"/>
                </a:cubicBezTo>
                <a:cubicBezTo>
                  <a:pt x="12467" y="15764"/>
                  <a:pt x="12452" y="15799"/>
                  <a:pt x="12452" y="15850"/>
                </a:cubicBezTo>
                <a:cubicBezTo>
                  <a:pt x="12452" y="15945"/>
                  <a:pt x="12406" y="16026"/>
                  <a:pt x="12402" y="16123"/>
                </a:cubicBezTo>
                <a:cubicBezTo>
                  <a:pt x="12400" y="16189"/>
                  <a:pt x="12386" y="16271"/>
                  <a:pt x="12427" y="16321"/>
                </a:cubicBezTo>
                <a:cubicBezTo>
                  <a:pt x="12462" y="16364"/>
                  <a:pt x="12525" y="16346"/>
                  <a:pt x="12576" y="16346"/>
                </a:cubicBezTo>
                <a:cubicBezTo>
                  <a:pt x="12662" y="16346"/>
                  <a:pt x="12734" y="16300"/>
                  <a:pt x="12824" y="16297"/>
                </a:cubicBezTo>
                <a:cubicBezTo>
                  <a:pt x="12911" y="16294"/>
                  <a:pt x="12987" y="16278"/>
                  <a:pt x="13072" y="16272"/>
                </a:cubicBezTo>
                <a:cubicBezTo>
                  <a:pt x="13097" y="16270"/>
                  <a:pt x="13185" y="16239"/>
                  <a:pt x="13196" y="16222"/>
                </a:cubicBezTo>
                <a:cubicBezTo>
                  <a:pt x="13196" y="16214"/>
                  <a:pt x="13196" y="16205"/>
                  <a:pt x="13196" y="16197"/>
                </a:cubicBezTo>
              </a:path>
              <a:path w="795" h="919">
                <a:moveTo>
                  <a:pt x="12973" y="15974"/>
                </a:moveTo>
                <a:cubicBezTo>
                  <a:pt x="12956" y="15974"/>
                  <a:pt x="12940" y="15974"/>
                  <a:pt x="12923" y="15974"/>
                </a:cubicBezTo>
                <a:cubicBezTo>
                  <a:pt x="12923" y="16053"/>
                  <a:pt x="12886" y="16096"/>
                  <a:pt x="12874" y="16173"/>
                </a:cubicBezTo>
                <a:cubicBezTo>
                  <a:pt x="12855" y="16297"/>
                  <a:pt x="12849" y="16418"/>
                  <a:pt x="12849" y="16545"/>
                </a:cubicBezTo>
                <a:cubicBezTo>
                  <a:pt x="12849" y="16613"/>
                  <a:pt x="12846" y="16632"/>
                  <a:pt x="12874" y="16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10200" y="4938840"/>
            <a:ext cx="223920" cy="276120"/>
          </a:xfrm>
          <a:custGeom>
            <a:avLst/>
            <a:gdLst/>
            <a:ahLst/>
            <a:rect l="l" t="t" r="r" b="b"/>
            <a:pathLst>
              <a:path w="621" h="770">
                <a:moveTo>
                  <a:pt x="16818" y="13891"/>
                </a:moveTo>
                <a:cubicBezTo>
                  <a:pt x="16818" y="13842"/>
                  <a:pt x="16829" y="13831"/>
                  <a:pt x="16842" y="13791"/>
                </a:cubicBezTo>
                <a:cubicBezTo>
                  <a:pt x="16853" y="13756"/>
                  <a:pt x="16863" y="13746"/>
                  <a:pt x="16892" y="13717"/>
                </a:cubicBezTo>
                <a:cubicBezTo>
                  <a:pt x="16851" y="13799"/>
                  <a:pt x="16805" y="13883"/>
                  <a:pt x="16768" y="13965"/>
                </a:cubicBezTo>
                <a:cubicBezTo>
                  <a:pt x="16742" y="14024"/>
                  <a:pt x="16680" y="14147"/>
                  <a:pt x="16694" y="14213"/>
                </a:cubicBezTo>
                <a:cubicBezTo>
                  <a:pt x="16713" y="14304"/>
                  <a:pt x="16792" y="14309"/>
                  <a:pt x="16867" y="14312"/>
                </a:cubicBezTo>
                <a:cubicBezTo>
                  <a:pt x="16964" y="14316"/>
                  <a:pt x="17051" y="14299"/>
                  <a:pt x="17140" y="14337"/>
                </a:cubicBezTo>
                <a:cubicBezTo>
                  <a:pt x="17199" y="14362"/>
                  <a:pt x="17244" y="14391"/>
                  <a:pt x="17289" y="14436"/>
                </a:cubicBezTo>
                <a:cubicBezTo>
                  <a:pt x="17312" y="14459"/>
                  <a:pt x="17320" y="14463"/>
                  <a:pt x="17314" y="14486"/>
                </a:cubicBezTo>
              </a:path>
              <a:path w="621" h="770">
                <a:moveTo>
                  <a:pt x="17140" y="14163"/>
                </a:moveTo>
                <a:cubicBezTo>
                  <a:pt x="17132" y="14155"/>
                  <a:pt x="17123" y="14147"/>
                  <a:pt x="17115" y="14139"/>
                </a:cubicBezTo>
                <a:cubicBezTo>
                  <a:pt x="17115" y="14255"/>
                  <a:pt x="17115" y="14370"/>
                  <a:pt x="17115" y="144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384960" y="5072040"/>
            <a:ext cx="9360" cy="125280"/>
          </a:xfrm>
          <a:custGeom>
            <a:avLst/>
            <a:gdLst/>
            <a:ahLst/>
            <a:rect l="l" t="t" r="r" b="b"/>
            <a:pathLst>
              <a:path w="26" h="348">
                <a:moveTo>
                  <a:pt x="17735" y="14139"/>
                </a:moveTo>
                <a:cubicBezTo>
                  <a:pt x="17735" y="14082"/>
                  <a:pt x="17745" y="14069"/>
                  <a:pt x="17760" y="14114"/>
                </a:cubicBezTo>
              </a:path>
              <a:path w="26" h="348">
                <a:moveTo>
                  <a:pt x="17760" y="14312"/>
                </a:moveTo>
                <a:cubicBezTo>
                  <a:pt x="17728" y="14354"/>
                  <a:pt x="17735" y="14380"/>
                  <a:pt x="17735" y="14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45160" y="4964040"/>
            <a:ext cx="196920" cy="295200"/>
          </a:xfrm>
          <a:custGeom>
            <a:avLst/>
            <a:gdLst/>
            <a:ahLst/>
            <a:rect l="l" t="t" r="r" b="b"/>
            <a:pathLst>
              <a:path w="547" h="820">
                <a:moveTo>
                  <a:pt x="18182" y="13915"/>
                </a:moveTo>
                <a:cubicBezTo>
                  <a:pt x="18182" y="13863"/>
                  <a:pt x="18178" y="13863"/>
                  <a:pt x="18207" y="13841"/>
                </a:cubicBezTo>
                <a:cubicBezTo>
                  <a:pt x="18282" y="13783"/>
                  <a:pt x="18335" y="13791"/>
                  <a:pt x="18430" y="13791"/>
                </a:cubicBezTo>
                <a:cubicBezTo>
                  <a:pt x="18506" y="13791"/>
                  <a:pt x="18584" y="13830"/>
                  <a:pt x="18604" y="13915"/>
                </a:cubicBezTo>
                <a:cubicBezTo>
                  <a:pt x="18621" y="13985"/>
                  <a:pt x="18554" y="14012"/>
                  <a:pt x="18504" y="14039"/>
                </a:cubicBezTo>
                <a:cubicBezTo>
                  <a:pt x="18460" y="14062"/>
                  <a:pt x="18439" y="14080"/>
                  <a:pt x="18405" y="14114"/>
                </a:cubicBezTo>
                <a:cubicBezTo>
                  <a:pt x="18462" y="14170"/>
                  <a:pt x="18519" y="14194"/>
                  <a:pt x="18579" y="14238"/>
                </a:cubicBezTo>
                <a:cubicBezTo>
                  <a:pt x="18647" y="14287"/>
                  <a:pt x="18714" y="14403"/>
                  <a:pt x="18728" y="14486"/>
                </a:cubicBezTo>
                <a:cubicBezTo>
                  <a:pt x="18740" y="14560"/>
                  <a:pt x="18695" y="14643"/>
                  <a:pt x="18604" y="14610"/>
                </a:cubicBezTo>
                <a:cubicBezTo>
                  <a:pt x="18500" y="14572"/>
                  <a:pt x="18428" y="14500"/>
                  <a:pt x="18380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29280" y="5027760"/>
            <a:ext cx="9720" cy="80640"/>
          </a:xfrm>
          <a:custGeom>
            <a:avLst/>
            <a:gdLst/>
            <a:ahLst/>
            <a:rect l="l" t="t" r="r" b="b"/>
            <a:pathLst>
              <a:path w="26" h="224">
                <a:moveTo>
                  <a:pt x="19273" y="13965"/>
                </a:moveTo>
                <a:cubicBezTo>
                  <a:pt x="19265" y="13965"/>
                  <a:pt x="19256" y="13965"/>
                  <a:pt x="19248" y="13965"/>
                </a:cubicBezTo>
              </a:path>
              <a:path w="26" h="224">
                <a:moveTo>
                  <a:pt x="19248" y="14114"/>
                </a:moveTo>
                <a:cubicBezTo>
                  <a:pt x="19248" y="14139"/>
                  <a:pt x="19248" y="14163"/>
                  <a:pt x="19248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108920" y="4956120"/>
            <a:ext cx="44280" cy="231840"/>
          </a:xfrm>
          <a:custGeom>
            <a:avLst/>
            <a:gdLst/>
            <a:ahLst/>
            <a:rect l="l" t="t" r="r" b="b"/>
            <a:pathLst>
              <a:path w="125" h="646">
                <a:moveTo>
                  <a:pt x="19819" y="13841"/>
                </a:moveTo>
                <a:cubicBezTo>
                  <a:pt x="19839" y="13801"/>
                  <a:pt x="19848" y="13794"/>
                  <a:pt x="19844" y="13767"/>
                </a:cubicBezTo>
                <a:cubicBezTo>
                  <a:pt x="19893" y="13831"/>
                  <a:pt x="19817" y="13912"/>
                  <a:pt x="19794" y="13990"/>
                </a:cubicBezTo>
                <a:cubicBezTo>
                  <a:pt x="19753" y="14133"/>
                  <a:pt x="19745" y="14264"/>
                  <a:pt x="19745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rcRect l="9824" t="6484" r="16647" b="45080"/>
          <a:stretch/>
        </p:blipFill>
        <p:spPr>
          <a:xfrm>
            <a:off x="0" y="0"/>
            <a:ext cx="7391520" cy="67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6068" t="55768" r="8638" b="22155"/>
          <a:stretch/>
        </p:blipFill>
        <p:spPr>
          <a:xfrm>
            <a:off x="0" y="0"/>
            <a:ext cx="9144000" cy="32576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251000" y="901800"/>
            <a:ext cx="268200" cy="169920"/>
          </a:xfrm>
          <a:custGeom>
            <a:avLst/>
            <a:gdLst/>
            <a:ahLst/>
            <a:rect l="l" t="t" r="r" b="b"/>
            <a:pathLst>
              <a:path w="745" h="473">
                <a:moveTo>
                  <a:pt x="3696" y="2729"/>
                </a:moveTo>
                <a:cubicBezTo>
                  <a:pt x="3704" y="2729"/>
                  <a:pt x="3713" y="2729"/>
                  <a:pt x="3721" y="2729"/>
                </a:cubicBezTo>
                <a:cubicBezTo>
                  <a:pt x="3645" y="2729"/>
                  <a:pt x="3593" y="2736"/>
                  <a:pt x="3522" y="2753"/>
                </a:cubicBezTo>
                <a:cubicBezTo>
                  <a:pt x="3497" y="2753"/>
                  <a:pt x="3489" y="2753"/>
                  <a:pt x="3473" y="2753"/>
                </a:cubicBezTo>
              </a:path>
              <a:path w="745" h="473">
                <a:moveTo>
                  <a:pt x="3547" y="2604"/>
                </a:moveTo>
                <a:cubicBezTo>
                  <a:pt x="3582" y="2651"/>
                  <a:pt x="3572" y="2691"/>
                  <a:pt x="3572" y="2753"/>
                </a:cubicBezTo>
                <a:cubicBezTo>
                  <a:pt x="3572" y="2811"/>
                  <a:pt x="3569" y="2832"/>
                  <a:pt x="3597" y="2877"/>
                </a:cubicBezTo>
              </a:path>
              <a:path w="745" h="473">
                <a:moveTo>
                  <a:pt x="3969" y="2555"/>
                </a:moveTo>
                <a:cubicBezTo>
                  <a:pt x="3936" y="2538"/>
                  <a:pt x="3982" y="2517"/>
                  <a:pt x="4018" y="2505"/>
                </a:cubicBezTo>
                <a:cubicBezTo>
                  <a:pt x="4062" y="2490"/>
                  <a:pt x="4122" y="2509"/>
                  <a:pt x="4142" y="2555"/>
                </a:cubicBezTo>
                <a:cubicBezTo>
                  <a:pt x="4160" y="2596"/>
                  <a:pt x="4134" y="2648"/>
                  <a:pt x="4118" y="2679"/>
                </a:cubicBezTo>
                <a:cubicBezTo>
                  <a:pt x="4094" y="2725"/>
                  <a:pt x="4055" y="2757"/>
                  <a:pt x="4043" y="2803"/>
                </a:cubicBezTo>
                <a:cubicBezTo>
                  <a:pt x="4092" y="2803"/>
                  <a:pt x="4189" y="2783"/>
                  <a:pt x="4217" y="2828"/>
                </a:cubicBezTo>
                <a:cubicBezTo>
                  <a:pt x="4235" y="2857"/>
                  <a:pt x="4159" y="2910"/>
                  <a:pt x="4142" y="2927"/>
                </a:cubicBezTo>
                <a:cubicBezTo>
                  <a:pt x="4113" y="2957"/>
                  <a:pt x="4099" y="2969"/>
                  <a:pt x="4068" y="29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24040" y="901800"/>
            <a:ext cx="268200" cy="152280"/>
          </a:xfrm>
          <a:custGeom>
            <a:avLst/>
            <a:gdLst/>
            <a:ahLst/>
            <a:rect l="l" t="t" r="r" b="b"/>
            <a:pathLst>
              <a:path w="745" h="423">
                <a:moveTo>
                  <a:pt x="5035" y="2679"/>
                </a:moveTo>
                <a:cubicBezTo>
                  <a:pt x="5043" y="2687"/>
                  <a:pt x="5052" y="2696"/>
                  <a:pt x="5060" y="2704"/>
                </a:cubicBezTo>
                <a:cubicBezTo>
                  <a:pt x="5013" y="2704"/>
                  <a:pt x="4997" y="2721"/>
                  <a:pt x="4961" y="2729"/>
                </a:cubicBezTo>
                <a:cubicBezTo>
                  <a:pt x="4922" y="2737"/>
                  <a:pt x="4846" y="2734"/>
                  <a:pt x="4812" y="2753"/>
                </a:cubicBezTo>
                <a:cubicBezTo>
                  <a:pt x="4804" y="2761"/>
                  <a:pt x="4795" y="2770"/>
                  <a:pt x="4787" y="2778"/>
                </a:cubicBezTo>
              </a:path>
              <a:path w="745" h="423">
                <a:moveTo>
                  <a:pt x="4887" y="2604"/>
                </a:moveTo>
                <a:cubicBezTo>
                  <a:pt x="4895" y="2604"/>
                  <a:pt x="4903" y="2604"/>
                  <a:pt x="4911" y="2604"/>
                </a:cubicBezTo>
                <a:cubicBezTo>
                  <a:pt x="4924" y="2655"/>
                  <a:pt x="4936" y="2668"/>
                  <a:pt x="4936" y="2729"/>
                </a:cubicBezTo>
                <a:cubicBezTo>
                  <a:pt x="4936" y="2762"/>
                  <a:pt x="4936" y="2795"/>
                  <a:pt x="4936" y="2828"/>
                </a:cubicBezTo>
              </a:path>
              <a:path w="745" h="423">
                <a:moveTo>
                  <a:pt x="5308" y="2555"/>
                </a:moveTo>
                <a:cubicBezTo>
                  <a:pt x="5321" y="2594"/>
                  <a:pt x="5320" y="2565"/>
                  <a:pt x="5333" y="2604"/>
                </a:cubicBezTo>
                <a:cubicBezTo>
                  <a:pt x="5310" y="2635"/>
                  <a:pt x="5287" y="2665"/>
                  <a:pt x="5283" y="2704"/>
                </a:cubicBezTo>
                <a:cubicBezTo>
                  <a:pt x="5276" y="2769"/>
                  <a:pt x="5298" y="2773"/>
                  <a:pt x="5358" y="2778"/>
                </a:cubicBezTo>
                <a:cubicBezTo>
                  <a:pt x="5407" y="2782"/>
                  <a:pt x="5457" y="2771"/>
                  <a:pt x="5482" y="2828"/>
                </a:cubicBezTo>
                <a:cubicBezTo>
                  <a:pt x="5505" y="2881"/>
                  <a:pt x="5456" y="2886"/>
                  <a:pt x="5432" y="2902"/>
                </a:cubicBezTo>
                <a:cubicBezTo>
                  <a:pt x="5386" y="2933"/>
                  <a:pt x="5397" y="2927"/>
                  <a:pt x="5333" y="2927"/>
                </a:cubicBezTo>
              </a:path>
              <a:path w="745" h="423">
                <a:moveTo>
                  <a:pt x="5507" y="2555"/>
                </a:moveTo>
                <a:cubicBezTo>
                  <a:pt x="5548" y="2470"/>
                  <a:pt x="5490" y="2530"/>
                  <a:pt x="5432" y="25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14720" y="884160"/>
            <a:ext cx="258480" cy="152640"/>
          </a:xfrm>
          <a:custGeom>
            <a:avLst/>
            <a:gdLst/>
            <a:ahLst/>
            <a:rect l="l" t="t" r="r" b="b"/>
            <a:pathLst>
              <a:path w="720" h="422">
                <a:moveTo>
                  <a:pt x="6325" y="2729"/>
                </a:moveTo>
                <a:cubicBezTo>
                  <a:pt x="6333" y="2729"/>
                  <a:pt x="6342" y="2729"/>
                  <a:pt x="6350" y="2729"/>
                </a:cubicBezTo>
                <a:cubicBezTo>
                  <a:pt x="6283" y="2729"/>
                  <a:pt x="6233" y="2736"/>
                  <a:pt x="6176" y="2753"/>
                </a:cubicBezTo>
                <a:cubicBezTo>
                  <a:pt x="6168" y="2753"/>
                  <a:pt x="6160" y="2753"/>
                  <a:pt x="6152" y="2753"/>
                </a:cubicBezTo>
              </a:path>
              <a:path w="720" h="422">
                <a:moveTo>
                  <a:pt x="6152" y="2679"/>
                </a:moveTo>
                <a:cubicBezTo>
                  <a:pt x="6190" y="2640"/>
                  <a:pt x="6192" y="2623"/>
                  <a:pt x="6226" y="2629"/>
                </a:cubicBezTo>
                <a:cubicBezTo>
                  <a:pt x="6259" y="2684"/>
                  <a:pt x="6251" y="2735"/>
                  <a:pt x="6251" y="2803"/>
                </a:cubicBezTo>
              </a:path>
              <a:path w="720" h="422">
                <a:moveTo>
                  <a:pt x="6424" y="2530"/>
                </a:moveTo>
                <a:cubicBezTo>
                  <a:pt x="6430" y="2511"/>
                  <a:pt x="6469" y="2486"/>
                  <a:pt x="6499" y="2480"/>
                </a:cubicBezTo>
                <a:cubicBezTo>
                  <a:pt x="6568" y="2465"/>
                  <a:pt x="6652" y="2459"/>
                  <a:pt x="6722" y="2456"/>
                </a:cubicBezTo>
                <a:cubicBezTo>
                  <a:pt x="6767" y="2454"/>
                  <a:pt x="6853" y="2443"/>
                  <a:pt x="6871" y="2505"/>
                </a:cubicBezTo>
                <a:cubicBezTo>
                  <a:pt x="6893" y="2582"/>
                  <a:pt x="6849" y="2684"/>
                  <a:pt x="6821" y="2753"/>
                </a:cubicBezTo>
                <a:cubicBezTo>
                  <a:pt x="6802" y="2800"/>
                  <a:pt x="6778" y="2839"/>
                  <a:pt x="6747" y="28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68760" y="946080"/>
            <a:ext cx="80640" cy="81000"/>
          </a:xfrm>
          <a:custGeom>
            <a:avLst/>
            <a:gdLst/>
            <a:ahLst/>
            <a:rect l="l" t="t" r="r" b="b"/>
            <a:pathLst>
              <a:path w="225" h="225">
                <a:moveTo>
                  <a:pt x="7888" y="2778"/>
                </a:moveTo>
                <a:cubicBezTo>
                  <a:pt x="7896" y="2778"/>
                  <a:pt x="7905" y="2778"/>
                  <a:pt x="7913" y="2778"/>
                </a:cubicBezTo>
                <a:cubicBezTo>
                  <a:pt x="7838" y="2778"/>
                  <a:pt x="7764" y="2778"/>
                  <a:pt x="7689" y="2778"/>
                </a:cubicBezTo>
              </a:path>
              <a:path w="225" h="225">
                <a:moveTo>
                  <a:pt x="7714" y="2629"/>
                </a:moveTo>
                <a:cubicBezTo>
                  <a:pt x="7776" y="2660"/>
                  <a:pt x="7764" y="2708"/>
                  <a:pt x="7764" y="2778"/>
                </a:cubicBezTo>
                <a:cubicBezTo>
                  <a:pt x="7764" y="2823"/>
                  <a:pt x="7761" y="2836"/>
                  <a:pt x="7789" y="28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973240" y="928800"/>
            <a:ext cx="108000" cy="160200"/>
          </a:xfrm>
          <a:custGeom>
            <a:avLst/>
            <a:gdLst/>
            <a:ahLst/>
            <a:rect l="l" t="t" r="r" b="b"/>
            <a:pathLst>
              <a:path w="299" h="447">
                <a:moveTo>
                  <a:pt x="8409" y="2629"/>
                </a:moveTo>
                <a:cubicBezTo>
                  <a:pt x="8417" y="2629"/>
                  <a:pt x="8426" y="2629"/>
                  <a:pt x="8434" y="2629"/>
                </a:cubicBezTo>
                <a:cubicBezTo>
                  <a:pt x="8425" y="2592"/>
                  <a:pt x="8406" y="2564"/>
                  <a:pt x="8359" y="2580"/>
                </a:cubicBezTo>
                <a:cubicBezTo>
                  <a:pt x="8291" y="2604"/>
                  <a:pt x="8265" y="2666"/>
                  <a:pt x="8260" y="2729"/>
                </a:cubicBezTo>
                <a:cubicBezTo>
                  <a:pt x="8260" y="2757"/>
                  <a:pt x="8263" y="2767"/>
                  <a:pt x="8285" y="2778"/>
                </a:cubicBezTo>
                <a:cubicBezTo>
                  <a:pt x="8348" y="2762"/>
                  <a:pt x="8363" y="2711"/>
                  <a:pt x="8409" y="2679"/>
                </a:cubicBezTo>
                <a:cubicBezTo>
                  <a:pt x="8417" y="2679"/>
                  <a:pt x="8426" y="2679"/>
                  <a:pt x="8434" y="2679"/>
                </a:cubicBezTo>
                <a:cubicBezTo>
                  <a:pt x="8482" y="2704"/>
                  <a:pt x="8523" y="2789"/>
                  <a:pt x="8533" y="2853"/>
                </a:cubicBezTo>
                <a:cubicBezTo>
                  <a:pt x="8542" y="2911"/>
                  <a:pt x="8548" y="2968"/>
                  <a:pt x="8558" y="30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51160" y="642960"/>
            <a:ext cx="409680" cy="393840"/>
          </a:xfrm>
          <a:custGeom>
            <a:avLst/>
            <a:gdLst/>
            <a:ahLst/>
            <a:rect l="l" t="t" r="r" b="b"/>
            <a:pathLst>
              <a:path w="1142" h="1092">
                <a:moveTo>
                  <a:pt x="9128" y="1935"/>
                </a:moveTo>
                <a:cubicBezTo>
                  <a:pt x="9104" y="1927"/>
                  <a:pt x="9082" y="1926"/>
                  <a:pt x="9054" y="1910"/>
                </a:cubicBezTo>
                <a:cubicBezTo>
                  <a:pt x="9046" y="1902"/>
                  <a:pt x="9037" y="1893"/>
                  <a:pt x="9029" y="1885"/>
                </a:cubicBezTo>
                <a:cubicBezTo>
                  <a:pt x="9037" y="1862"/>
                  <a:pt x="9071" y="1832"/>
                  <a:pt x="9103" y="1811"/>
                </a:cubicBezTo>
                <a:cubicBezTo>
                  <a:pt x="9159" y="1775"/>
                  <a:pt x="9228" y="1771"/>
                  <a:pt x="9277" y="1811"/>
                </a:cubicBezTo>
                <a:cubicBezTo>
                  <a:pt x="9314" y="1841"/>
                  <a:pt x="9349" y="1882"/>
                  <a:pt x="9327" y="1935"/>
                </a:cubicBezTo>
                <a:cubicBezTo>
                  <a:pt x="9310" y="1976"/>
                  <a:pt x="9239" y="2019"/>
                  <a:pt x="9227" y="2059"/>
                </a:cubicBezTo>
                <a:cubicBezTo>
                  <a:pt x="9213" y="2107"/>
                  <a:pt x="9232" y="2148"/>
                  <a:pt x="9277" y="2158"/>
                </a:cubicBezTo>
                <a:cubicBezTo>
                  <a:pt x="9313" y="2166"/>
                  <a:pt x="9364" y="2158"/>
                  <a:pt x="9401" y="2158"/>
                </a:cubicBezTo>
                <a:cubicBezTo>
                  <a:pt x="9384" y="2227"/>
                  <a:pt x="9359" y="2212"/>
                  <a:pt x="9302" y="2232"/>
                </a:cubicBezTo>
                <a:cubicBezTo>
                  <a:pt x="9278" y="2241"/>
                  <a:pt x="9138" y="2247"/>
                  <a:pt x="9128" y="2257"/>
                </a:cubicBezTo>
                <a:cubicBezTo>
                  <a:pt x="9128" y="2265"/>
                  <a:pt x="9128" y="2274"/>
                  <a:pt x="9128" y="2282"/>
                </a:cubicBezTo>
              </a:path>
              <a:path w="1142" h="1092">
                <a:moveTo>
                  <a:pt x="9624" y="1836"/>
                </a:moveTo>
                <a:cubicBezTo>
                  <a:pt x="9665" y="1816"/>
                  <a:pt x="9671" y="1807"/>
                  <a:pt x="9699" y="1811"/>
                </a:cubicBezTo>
                <a:cubicBezTo>
                  <a:pt x="9699" y="1880"/>
                  <a:pt x="9677" y="1939"/>
                  <a:pt x="9674" y="2009"/>
                </a:cubicBezTo>
                <a:cubicBezTo>
                  <a:pt x="9672" y="2075"/>
                  <a:pt x="9674" y="2142"/>
                  <a:pt x="9674" y="2208"/>
                </a:cubicBezTo>
              </a:path>
              <a:path w="1142" h="1092">
                <a:moveTo>
                  <a:pt x="10145" y="2704"/>
                </a:moveTo>
                <a:cubicBezTo>
                  <a:pt x="10202" y="2732"/>
                  <a:pt x="10105" y="2729"/>
                  <a:pt x="10071" y="2729"/>
                </a:cubicBezTo>
                <a:cubicBezTo>
                  <a:pt x="10021" y="2729"/>
                  <a:pt x="10004" y="2729"/>
                  <a:pt x="9971" y="2729"/>
                </a:cubicBezTo>
              </a:path>
              <a:path w="1142" h="1092">
                <a:moveTo>
                  <a:pt x="9971" y="2629"/>
                </a:moveTo>
                <a:cubicBezTo>
                  <a:pt x="10038" y="2639"/>
                  <a:pt x="10082" y="2674"/>
                  <a:pt x="10096" y="2753"/>
                </a:cubicBezTo>
                <a:cubicBezTo>
                  <a:pt x="10096" y="2819"/>
                  <a:pt x="10096" y="2836"/>
                  <a:pt x="10096" y="28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13120" y="911160"/>
            <a:ext cx="125640" cy="142920"/>
          </a:xfrm>
          <a:custGeom>
            <a:avLst/>
            <a:gdLst/>
            <a:ahLst/>
            <a:rect l="l" t="t" r="r" b="b"/>
            <a:pathLst>
              <a:path w="348" h="398">
                <a:moveTo>
                  <a:pt x="10592" y="2555"/>
                </a:moveTo>
                <a:cubicBezTo>
                  <a:pt x="10600" y="2547"/>
                  <a:pt x="10608" y="2538"/>
                  <a:pt x="10616" y="2530"/>
                </a:cubicBezTo>
                <a:cubicBezTo>
                  <a:pt x="10616" y="2662"/>
                  <a:pt x="10616" y="2795"/>
                  <a:pt x="10616" y="2927"/>
                </a:cubicBezTo>
              </a:path>
              <a:path w="348" h="398">
                <a:moveTo>
                  <a:pt x="10864" y="2555"/>
                </a:moveTo>
                <a:cubicBezTo>
                  <a:pt x="10881" y="2547"/>
                  <a:pt x="10897" y="2538"/>
                  <a:pt x="10914" y="2530"/>
                </a:cubicBezTo>
                <a:cubicBezTo>
                  <a:pt x="10950" y="2590"/>
                  <a:pt x="10939" y="2654"/>
                  <a:pt x="10939" y="2729"/>
                </a:cubicBezTo>
                <a:cubicBezTo>
                  <a:pt x="10939" y="2787"/>
                  <a:pt x="10939" y="2844"/>
                  <a:pt x="10939" y="29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160880" y="571680"/>
            <a:ext cx="420480" cy="214200"/>
          </a:xfrm>
          <a:custGeom>
            <a:avLst/>
            <a:gdLst/>
            <a:ahLst/>
            <a:rect l="l" t="t" r="r" b="b"/>
            <a:pathLst>
              <a:path w="1167" h="596">
                <a:moveTo>
                  <a:pt x="11609" y="1860"/>
                </a:moveTo>
                <a:cubicBezTo>
                  <a:pt x="11609" y="1785"/>
                  <a:pt x="11598" y="1785"/>
                  <a:pt x="11633" y="1736"/>
                </a:cubicBezTo>
                <a:cubicBezTo>
                  <a:pt x="11625" y="1804"/>
                  <a:pt x="11601" y="1870"/>
                  <a:pt x="11584" y="1935"/>
                </a:cubicBezTo>
                <a:cubicBezTo>
                  <a:pt x="11575" y="1971"/>
                  <a:pt x="11528" y="2056"/>
                  <a:pt x="11584" y="2084"/>
                </a:cubicBezTo>
                <a:cubicBezTo>
                  <a:pt x="11614" y="2099"/>
                  <a:pt x="11707" y="2068"/>
                  <a:pt x="11733" y="2059"/>
                </a:cubicBezTo>
                <a:cubicBezTo>
                  <a:pt x="11804" y="2035"/>
                  <a:pt x="11830" y="2009"/>
                  <a:pt x="11906" y="2009"/>
                </a:cubicBezTo>
                <a:cubicBezTo>
                  <a:pt x="11952" y="2009"/>
                  <a:pt x="11975" y="2007"/>
                  <a:pt x="11981" y="2059"/>
                </a:cubicBezTo>
                <a:cubicBezTo>
                  <a:pt x="11981" y="2084"/>
                  <a:pt x="11981" y="2092"/>
                  <a:pt x="11956" y="2084"/>
                </a:cubicBezTo>
              </a:path>
              <a:path w="1167" h="596">
                <a:moveTo>
                  <a:pt x="11857" y="1960"/>
                </a:moveTo>
                <a:cubicBezTo>
                  <a:pt x="11818" y="1921"/>
                  <a:pt x="11801" y="1919"/>
                  <a:pt x="11807" y="1885"/>
                </a:cubicBezTo>
                <a:cubicBezTo>
                  <a:pt x="11807" y="1984"/>
                  <a:pt x="11807" y="2084"/>
                  <a:pt x="11807" y="2183"/>
                </a:cubicBezTo>
              </a:path>
              <a:path w="1167" h="596">
                <a:moveTo>
                  <a:pt x="12129" y="1761"/>
                </a:moveTo>
                <a:cubicBezTo>
                  <a:pt x="12108" y="1754"/>
                  <a:pt x="12090" y="1718"/>
                  <a:pt x="12080" y="1687"/>
                </a:cubicBezTo>
                <a:cubicBezTo>
                  <a:pt x="12071" y="1661"/>
                  <a:pt x="12130" y="1595"/>
                  <a:pt x="12154" y="1588"/>
                </a:cubicBezTo>
                <a:cubicBezTo>
                  <a:pt x="12193" y="1577"/>
                  <a:pt x="12297" y="1579"/>
                  <a:pt x="12328" y="1612"/>
                </a:cubicBezTo>
                <a:cubicBezTo>
                  <a:pt x="12393" y="1682"/>
                  <a:pt x="12378" y="1755"/>
                  <a:pt x="12353" y="1836"/>
                </a:cubicBezTo>
                <a:cubicBezTo>
                  <a:pt x="12322" y="1935"/>
                  <a:pt x="12262" y="1975"/>
                  <a:pt x="12254" y="2084"/>
                </a:cubicBezTo>
                <a:cubicBezTo>
                  <a:pt x="12250" y="2139"/>
                  <a:pt x="12310" y="2143"/>
                  <a:pt x="12353" y="2133"/>
                </a:cubicBezTo>
                <a:cubicBezTo>
                  <a:pt x="12452" y="2110"/>
                  <a:pt x="12525" y="2064"/>
                  <a:pt x="12626" y="2059"/>
                </a:cubicBezTo>
                <a:cubicBezTo>
                  <a:pt x="12675" y="2059"/>
                  <a:pt x="12692" y="2059"/>
                  <a:pt x="12725" y="20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30720" y="1500120"/>
            <a:ext cx="357120" cy="268200"/>
          </a:xfrm>
          <a:custGeom>
            <a:avLst/>
            <a:gdLst/>
            <a:ahLst/>
            <a:rect l="l" t="t" r="r" b="b"/>
            <a:pathLst>
              <a:path w="993" h="745">
                <a:moveTo>
                  <a:pt x="9773" y="4242"/>
                </a:moveTo>
                <a:cubicBezTo>
                  <a:pt x="9786" y="4202"/>
                  <a:pt x="9785" y="4232"/>
                  <a:pt x="9798" y="4192"/>
                </a:cubicBezTo>
                <a:cubicBezTo>
                  <a:pt x="9749" y="4176"/>
                  <a:pt x="9783" y="4157"/>
                  <a:pt x="9723" y="4192"/>
                </a:cubicBezTo>
                <a:cubicBezTo>
                  <a:pt x="9646" y="4237"/>
                  <a:pt x="9628" y="4306"/>
                  <a:pt x="9599" y="4390"/>
                </a:cubicBezTo>
                <a:cubicBezTo>
                  <a:pt x="9571" y="4473"/>
                  <a:pt x="9526" y="4573"/>
                  <a:pt x="9550" y="4663"/>
                </a:cubicBezTo>
                <a:cubicBezTo>
                  <a:pt x="9567" y="4727"/>
                  <a:pt x="9637" y="4756"/>
                  <a:pt x="9699" y="4738"/>
                </a:cubicBezTo>
                <a:cubicBezTo>
                  <a:pt x="9767" y="4718"/>
                  <a:pt x="9793" y="4649"/>
                  <a:pt x="9798" y="4589"/>
                </a:cubicBezTo>
                <a:cubicBezTo>
                  <a:pt x="9798" y="4581"/>
                  <a:pt x="9798" y="4572"/>
                  <a:pt x="9798" y="4564"/>
                </a:cubicBezTo>
                <a:cubicBezTo>
                  <a:pt x="9732" y="4564"/>
                  <a:pt x="9665" y="4564"/>
                  <a:pt x="9599" y="4564"/>
                </a:cubicBezTo>
              </a:path>
              <a:path w="993" h="745">
                <a:moveTo>
                  <a:pt x="10220" y="4911"/>
                </a:moveTo>
                <a:cubicBezTo>
                  <a:pt x="10274" y="4911"/>
                  <a:pt x="10162" y="4865"/>
                  <a:pt x="10145" y="4862"/>
                </a:cubicBezTo>
                <a:cubicBezTo>
                  <a:pt x="10031" y="4841"/>
                  <a:pt x="9888" y="4845"/>
                  <a:pt x="9773" y="4837"/>
                </a:cubicBezTo>
                <a:cubicBezTo>
                  <a:pt x="9635" y="4827"/>
                  <a:pt x="9508" y="4844"/>
                  <a:pt x="9376" y="4862"/>
                </a:cubicBezTo>
                <a:cubicBezTo>
                  <a:pt x="9325" y="4869"/>
                  <a:pt x="9304" y="4887"/>
                  <a:pt x="9252" y="48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911840" y="1419120"/>
            <a:ext cx="463320" cy="312840"/>
          </a:xfrm>
          <a:custGeom>
            <a:avLst/>
            <a:gdLst/>
            <a:ahLst/>
            <a:rect l="l" t="t" r="r" b="b"/>
            <a:pathLst>
              <a:path w="1290" h="869">
                <a:moveTo>
                  <a:pt x="14932" y="4812"/>
                </a:moveTo>
                <a:cubicBezTo>
                  <a:pt x="14895" y="4799"/>
                  <a:pt x="14911" y="4787"/>
                  <a:pt x="14858" y="4787"/>
                </a:cubicBezTo>
                <a:cubicBezTo>
                  <a:pt x="14810" y="4787"/>
                  <a:pt x="14761" y="4746"/>
                  <a:pt x="14709" y="4738"/>
                </a:cubicBezTo>
                <a:cubicBezTo>
                  <a:pt x="14634" y="4726"/>
                  <a:pt x="14558" y="4700"/>
                  <a:pt x="14486" y="4688"/>
                </a:cubicBezTo>
                <a:cubicBezTo>
                  <a:pt x="14420" y="4677"/>
                  <a:pt x="14351" y="4674"/>
                  <a:pt x="14288" y="4663"/>
                </a:cubicBezTo>
                <a:cubicBezTo>
                  <a:pt x="14230" y="4653"/>
                  <a:pt x="14163" y="4648"/>
                  <a:pt x="14114" y="4638"/>
                </a:cubicBezTo>
                <a:cubicBezTo>
                  <a:pt x="14065" y="4628"/>
                  <a:pt x="14010" y="4641"/>
                  <a:pt x="13965" y="4614"/>
                </a:cubicBezTo>
                <a:cubicBezTo>
                  <a:pt x="13920" y="4587"/>
                  <a:pt x="13900" y="4589"/>
                  <a:pt x="13841" y="4589"/>
                </a:cubicBezTo>
                <a:cubicBezTo>
                  <a:pt x="13778" y="4589"/>
                  <a:pt x="13744" y="4597"/>
                  <a:pt x="13692" y="4614"/>
                </a:cubicBezTo>
                <a:cubicBezTo>
                  <a:pt x="13667" y="4614"/>
                  <a:pt x="13659" y="4614"/>
                  <a:pt x="13643" y="4614"/>
                </a:cubicBezTo>
              </a:path>
              <a:path w="1290" h="869">
                <a:moveTo>
                  <a:pt x="14188" y="3969"/>
                </a:moveTo>
                <a:cubicBezTo>
                  <a:pt x="14155" y="4012"/>
                  <a:pt x="14133" y="4028"/>
                  <a:pt x="14089" y="4068"/>
                </a:cubicBezTo>
                <a:cubicBezTo>
                  <a:pt x="14062" y="4093"/>
                  <a:pt x="14043" y="4144"/>
                  <a:pt x="14089" y="4167"/>
                </a:cubicBezTo>
                <a:cubicBezTo>
                  <a:pt x="14140" y="4192"/>
                  <a:pt x="14208" y="4215"/>
                  <a:pt x="14263" y="4242"/>
                </a:cubicBezTo>
                <a:cubicBezTo>
                  <a:pt x="14308" y="4264"/>
                  <a:pt x="14358" y="4288"/>
                  <a:pt x="14362" y="4341"/>
                </a:cubicBezTo>
                <a:cubicBezTo>
                  <a:pt x="14366" y="4401"/>
                  <a:pt x="14352" y="4448"/>
                  <a:pt x="14288" y="4465"/>
                </a:cubicBezTo>
                <a:cubicBezTo>
                  <a:pt x="14222" y="4483"/>
                  <a:pt x="14152" y="4448"/>
                  <a:pt x="14089" y="4440"/>
                </a:cubicBezTo>
              </a:path>
              <a:path w="1290" h="869">
                <a:moveTo>
                  <a:pt x="14436" y="4018"/>
                </a:moveTo>
                <a:cubicBezTo>
                  <a:pt x="14436" y="4002"/>
                  <a:pt x="14436" y="3985"/>
                  <a:pt x="14436" y="3969"/>
                </a:cubicBezTo>
                <a:cubicBezTo>
                  <a:pt x="14399" y="3956"/>
                  <a:pt x="14415" y="3944"/>
                  <a:pt x="14362" y="3944"/>
                </a:cubicBezTo>
                <a:cubicBezTo>
                  <a:pt x="14312" y="3944"/>
                  <a:pt x="14263" y="3944"/>
                  <a:pt x="14213" y="3944"/>
                </a:cubicBezTo>
              </a:path>
              <a:path w="1290" h="869">
                <a:moveTo>
                  <a:pt x="14759" y="4043"/>
                </a:moveTo>
                <a:cubicBezTo>
                  <a:pt x="14759" y="4018"/>
                  <a:pt x="14759" y="4010"/>
                  <a:pt x="14784" y="4018"/>
                </a:cubicBezTo>
                <a:cubicBezTo>
                  <a:pt x="14784" y="4091"/>
                  <a:pt x="14745" y="4146"/>
                  <a:pt x="14734" y="4217"/>
                </a:cubicBezTo>
                <a:cubicBezTo>
                  <a:pt x="14722" y="4296"/>
                  <a:pt x="14734" y="4385"/>
                  <a:pt x="14734" y="44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57960" y="1320840"/>
            <a:ext cx="1179360" cy="260280"/>
          </a:xfrm>
          <a:custGeom>
            <a:avLst/>
            <a:gdLst/>
            <a:ahLst/>
            <a:rect l="l" t="t" r="r" b="b"/>
            <a:pathLst>
              <a:path w="3275" h="720">
                <a:moveTo>
                  <a:pt x="17711" y="3845"/>
                </a:moveTo>
                <a:cubicBezTo>
                  <a:pt x="17733" y="3822"/>
                  <a:pt x="17741" y="3817"/>
                  <a:pt x="17735" y="3795"/>
                </a:cubicBezTo>
                <a:cubicBezTo>
                  <a:pt x="17715" y="3823"/>
                  <a:pt x="17675" y="3863"/>
                  <a:pt x="17661" y="3894"/>
                </a:cubicBezTo>
                <a:cubicBezTo>
                  <a:pt x="17633" y="3956"/>
                  <a:pt x="17681" y="4001"/>
                  <a:pt x="17735" y="4018"/>
                </a:cubicBezTo>
                <a:cubicBezTo>
                  <a:pt x="17798" y="4038"/>
                  <a:pt x="17847" y="4025"/>
                  <a:pt x="17909" y="4068"/>
                </a:cubicBezTo>
                <a:cubicBezTo>
                  <a:pt x="17935" y="4086"/>
                  <a:pt x="17980" y="4130"/>
                  <a:pt x="17959" y="4167"/>
                </a:cubicBezTo>
                <a:cubicBezTo>
                  <a:pt x="17925" y="4228"/>
                  <a:pt x="17870" y="4217"/>
                  <a:pt x="17810" y="4217"/>
                </a:cubicBezTo>
                <a:cubicBezTo>
                  <a:pt x="17750" y="4217"/>
                  <a:pt x="17731" y="4203"/>
                  <a:pt x="17686" y="4167"/>
                </a:cubicBezTo>
              </a:path>
              <a:path w="3275" h="720">
                <a:moveTo>
                  <a:pt x="17934" y="3870"/>
                </a:moveTo>
                <a:cubicBezTo>
                  <a:pt x="17990" y="3832"/>
                  <a:pt x="18015" y="3837"/>
                  <a:pt x="18008" y="3795"/>
                </a:cubicBezTo>
                <a:cubicBezTo>
                  <a:pt x="17926" y="3795"/>
                  <a:pt x="17861" y="3791"/>
                  <a:pt x="17785" y="3820"/>
                </a:cubicBezTo>
              </a:path>
              <a:path w="3275" h="720">
                <a:moveTo>
                  <a:pt x="18231" y="4192"/>
                </a:moveTo>
                <a:cubicBezTo>
                  <a:pt x="18239" y="4192"/>
                  <a:pt x="18248" y="4192"/>
                  <a:pt x="18256" y="4192"/>
                </a:cubicBezTo>
                <a:cubicBezTo>
                  <a:pt x="18256" y="4263"/>
                  <a:pt x="18240" y="4279"/>
                  <a:pt x="18207" y="4341"/>
                </a:cubicBezTo>
                <a:cubicBezTo>
                  <a:pt x="18199" y="4357"/>
                  <a:pt x="18190" y="4374"/>
                  <a:pt x="18182" y="4390"/>
                </a:cubicBezTo>
              </a:path>
              <a:path w="3275" h="720">
                <a:moveTo>
                  <a:pt x="18504" y="3845"/>
                </a:moveTo>
                <a:cubicBezTo>
                  <a:pt x="18558" y="3845"/>
                  <a:pt x="18577" y="3844"/>
                  <a:pt x="18628" y="3820"/>
                </a:cubicBezTo>
                <a:cubicBezTo>
                  <a:pt x="18677" y="3797"/>
                  <a:pt x="18772" y="3774"/>
                  <a:pt x="18827" y="3795"/>
                </a:cubicBezTo>
                <a:cubicBezTo>
                  <a:pt x="18915" y="3829"/>
                  <a:pt x="18816" y="3941"/>
                  <a:pt x="18802" y="3969"/>
                </a:cubicBezTo>
                <a:cubicBezTo>
                  <a:pt x="18764" y="4048"/>
                  <a:pt x="18683" y="4141"/>
                  <a:pt x="18653" y="4217"/>
                </a:cubicBezTo>
                <a:cubicBezTo>
                  <a:pt x="18653" y="4233"/>
                  <a:pt x="18653" y="4250"/>
                  <a:pt x="18653" y="4266"/>
                </a:cubicBezTo>
              </a:path>
              <a:path w="3275" h="720">
                <a:moveTo>
                  <a:pt x="19025" y="4093"/>
                </a:moveTo>
                <a:cubicBezTo>
                  <a:pt x="19051" y="4188"/>
                  <a:pt x="19062" y="4245"/>
                  <a:pt x="19025" y="4341"/>
                </a:cubicBezTo>
                <a:cubicBezTo>
                  <a:pt x="19017" y="4357"/>
                  <a:pt x="19008" y="4374"/>
                  <a:pt x="19000" y="4390"/>
                </a:cubicBezTo>
              </a:path>
              <a:path w="3275" h="720">
                <a:moveTo>
                  <a:pt x="19794" y="3845"/>
                </a:moveTo>
                <a:cubicBezTo>
                  <a:pt x="19835" y="3845"/>
                  <a:pt x="19881" y="3845"/>
                  <a:pt x="19893" y="3820"/>
                </a:cubicBezTo>
                <a:cubicBezTo>
                  <a:pt x="19893" y="3795"/>
                  <a:pt x="19893" y="3787"/>
                  <a:pt x="19893" y="3770"/>
                </a:cubicBezTo>
                <a:cubicBezTo>
                  <a:pt x="19853" y="3740"/>
                  <a:pt x="19799" y="3735"/>
                  <a:pt x="19745" y="3746"/>
                </a:cubicBezTo>
                <a:cubicBezTo>
                  <a:pt x="19682" y="3759"/>
                  <a:pt x="19565" y="3837"/>
                  <a:pt x="19571" y="3919"/>
                </a:cubicBezTo>
                <a:cubicBezTo>
                  <a:pt x="19579" y="3927"/>
                  <a:pt x="19588" y="3936"/>
                  <a:pt x="19596" y="3944"/>
                </a:cubicBezTo>
                <a:cubicBezTo>
                  <a:pt x="19643" y="3968"/>
                  <a:pt x="19702" y="3926"/>
                  <a:pt x="19745" y="3870"/>
                </a:cubicBezTo>
                <a:cubicBezTo>
                  <a:pt x="19769" y="3820"/>
                  <a:pt x="19777" y="3803"/>
                  <a:pt x="19819" y="3795"/>
                </a:cubicBezTo>
                <a:cubicBezTo>
                  <a:pt x="19867" y="3819"/>
                  <a:pt x="19910" y="3905"/>
                  <a:pt x="19918" y="3969"/>
                </a:cubicBezTo>
                <a:cubicBezTo>
                  <a:pt x="19929" y="4056"/>
                  <a:pt x="19918" y="4153"/>
                  <a:pt x="19918" y="4242"/>
                </a:cubicBezTo>
              </a:path>
              <a:path w="3275" h="720">
                <a:moveTo>
                  <a:pt x="20141" y="4093"/>
                </a:moveTo>
                <a:cubicBezTo>
                  <a:pt x="20199" y="4169"/>
                  <a:pt x="20207" y="4199"/>
                  <a:pt x="20166" y="4291"/>
                </a:cubicBezTo>
                <a:cubicBezTo>
                  <a:pt x="20158" y="4308"/>
                  <a:pt x="20149" y="4324"/>
                  <a:pt x="20141" y="4341"/>
                </a:cubicBezTo>
              </a:path>
              <a:path w="3275" h="720">
                <a:moveTo>
                  <a:pt x="20613" y="3795"/>
                </a:moveTo>
                <a:cubicBezTo>
                  <a:pt x="20655" y="3711"/>
                  <a:pt x="20613" y="3916"/>
                  <a:pt x="20613" y="3919"/>
                </a:cubicBezTo>
                <a:cubicBezTo>
                  <a:pt x="20600" y="4012"/>
                  <a:pt x="20563" y="4097"/>
                  <a:pt x="20563" y="4192"/>
                </a:cubicBezTo>
              </a:path>
              <a:path w="3275" h="720">
                <a:moveTo>
                  <a:pt x="20861" y="3721"/>
                </a:moveTo>
                <a:cubicBezTo>
                  <a:pt x="20877" y="3704"/>
                  <a:pt x="20894" y="3688"/>
                  <a:pt x="20910" y="3671"/>
                </a:cubicBezTo>
                <a:cubicBezTo>
                  <a:pt x="20955" y="3746"/>
                  <a:pt x="20928" y="3808"/>
                  <a:pt x="20910" y="3894"/>
                </a:cubicBezTo>
                <a:cubicBezTo>
                  <a:pt x="20889" y="4003"/>
                  <a:pt x="20886" y="4029"/>
                  <a:pt x="20861" y="40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348000" y="1820880"/>
            <a:ext cx="277920" cy="135000"/>
          </a:xfrm>
          <a:custGeom>
            <a:avLst/>
            <a:gdLst/>
            <a:ahLst/>
            <a:rect l="l" t="t" r="r" b="b"/>
            <a:pathLst>
              <a:path w="770" h="373">
                <a:moveTo>
                  <a:pt x="9302" y="5110"/>
                </a:moveTo>
                <a:cubicBezTo>
                  <a:pt x="9318" y="5093"/>
                  <a:pt x="9335" y="5077"/>
                  <a:pt x="9351" y="5060"/>
                </a:cubicBezTo>
                <a:cubicBezTo>
                  <a:pt x="9385" y="5116"/>
                  <a:pt x="9376" y="5163"/>
                  <a:pt x="9376" y="5234"/>
                </a:cubicBezTo>
                <a:cubicBezTo>
                  <a:pt x="9376" y="5284"/>
                  <a:pt x="9376" y="5333"/>
                  <a:pt x="9376" y="5383"/>
                </a:cubicBezTo>
              </a:path>
              <a:path w="770" h="373">
                <a:moveTo>
                  <a:pt x="9699" y="5135"/>
                </a:moveTo>
                <a:cubicBezTo>
                  <a:pt x="9710" y="5089"/>
                  <a:pt x="9745" y="5069"/>
                  <a:pt x="9798" y="5060"/>
                </a:cubicBezTo>
                <a:cubicBezTo>
                  <a:pt x="9834" y="5054"/>
                  <a:pt x="10007" y="5039"/>
                  <a:pt x="10021" y="5085"/>
                </a:cubicBezTo>
                <a:cubicBezTo>
                  <a:pt x="10043" y="5158"/>
                  <a:pt x="9965" y="5177"/>
                  <a:pt x="9922" y="5209"/>
                </a:cubicBezTo>
                <a:cubicBezTo>
                  <a:pt x="9882" y="5239"/>
                  <a:pt x="9846" y="5298"/>
                  <a:pt x="9897" y="5333"/>
                </a:cubicBezTo>
                <a:cubicBezTo>
                  <a:pt x="9934" y="5358"/>
                  <a:pt x="10006" y="5379"/>
                  <a:pt x="10046" y="5383"/>
                </a:cubicBezTo>
                <a:cubicBezTo>
                  <a:pt x="10054" y="5383"/>
                  <a:pt x="10063" y="5383"/>
                  <a:pt x="10071" y="5383"/>
                </a:cubicBezTo>
                <a:cubicBezTo>
                  <a:pt x="10022" y="5430"/>
                  <a:pt x="10016" y="5432"/>
                  <a:pt x="9947" y="5432"/>
                </a:cubicBezTo>
                <a:cubicBezTo>
                  <a:pt x="9872" y="5432"/>
                  <a:pt x="9798" y="5432"/>
                  <a:pt x="9723" y="54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84840" y="1731960"/>
            <a:ext cx="393480" cy="241200"/>
          </a:xfrm>
          <a:custGeom>
            <a:avLst/>
            <a:gdLst/>
            <a:ahLst/>
            <a:rect l="l" t="t" r="r" b="b"/>
            <a:pathLst>
              <a:path w="1093" h="671">
                <a:moveTo>
                  <a:pt x="13568" y="4812"/>
                </a:moveTo>
                <a:cubicBezTo>
                  <a:pt x="13607" y="4877"/>
                  <a:pt x="13593" y="4955"/>
                  <a:pt x="13593" y="5035"/>
                </a:cubicBezTo>
                <a:cubicBezTo>
                  <a:pt x="13593" y="5128"/>
                  <a:pt x="13598" y="5198"/>
                  <a:pt x="13618" y="5283"/>
                </a:cubicBezTo>
                <a:cubicBezTo>
                  <a:pt x="13618" y="5291"/>
                  <a:pt x="13618" y="5300"/>
                  <a:pt x="13618" y="5308"/>
                </a:cubicBezTo>
              </a:path>
              <a:path w="1093" h="671">
                <a:moveTo>
                  <a:pt x="13866" y="5209"/>
                </a:moveTo>
                <a:cubicBezTo>
                  <a:pt x="13853" y="5158"/>
                  <a:pt x="13824" y="5157"/>
                  <a:pt x="13866" y="5110"/>
                </a:cubicBezTo>
                <a:cubicBezTo>
                  <a:pt x="13927" y="5041"/>
                  <a:pt x="13946" y="5050"/>
                  <a:pt x="14015" y="5110"/>
                </a:cubicBezTo>
                <a:cubicBezTo>
                  <a:pt x="14057" y="5146"/>
                  <a:pt x="14120" y="5223"/>
                  <a:pt x="14089" y="5283"/>
                </a:cubicBezTo>
                <a:cubicBezTo>
                  <a:pt x="14056" y="5348"/>
                  <a:pt x="13994" y="5341"/>
                  <a:pt x="13940" y="5308"/>
                </a:cubicBezTo>
                <a:cubicBezTo>
                  <a:pt x="13910" y="5278"/>
                  <a:pt x="13899" y="5264"/>
                  <a:pt x="13891" y="5234"/>
                </a:cubicBezTo>
              </a:path>
              <a:path w="1093" h="671">
                <a:moveTo>
                  <a:pt x="14312" y="5110"/>
                </a:moveTo>
                <a:cubicBezTo>
                  <a:pt x="14312" y="5069"/>
                  <a:pt x="14317" y="5030"/>
                  <a:pt x="14362" y="5011"/>
                </a:cubicBezTo>
                <a:cubicBezTo>
                  <a:pt x="14411" y="4990"/>
                  <a:pt x="14493" y="5016"/>
                  <a:pt x="14536" y="5035"/>
                </a:cubicBezTo>
                <a:cubicBezTo>
                  <a:pt x="14578" y="5054"/>
                  <a:pt x="14613" y="5110"/>
                  <a:pt x="14585" y="5159"/>
                </a:cubicBezTo>
                <a:cubicBezTo>
                  <a:pt x="14562" y="5200"/>
                  <a:pt x="14478" y="5209"/>
                  <a:pt x="14461" y="5234"/>
                </a:cubicBezTo>
                <a:cubicBezTo>
                  <a:pt x="14461" y="5242"/>
                  <a:pt x="14461" y="5251"/>
                  <a:pt x="14461" y="5259"/>
                </a:cubicBezTo>
                <a:cubicBezTo>
                  <a:pt x="14517" y="5286"/>
                  <a:pt x="14576" y="5318"/>
                  <a:pt x="14635" y="5333"/>
                </a:cubicBezTo>
                <a:cubicBezTo>
                  <a:pt x="14643" y="5333"/>
                  <a:pt x="14652" y="5333"/>
                  <a:pt x="14660" y="5333"/>
                </a:cubicBezTo>
                <a:cubicBezTo>
                  <a:pt x="14641" y="5428"/>
                  <a:pt x="14595" y="5421"/>
                  <a:pt x="14511" y="5457"/>
                </a:cubicBezTo>
                <a:cubicBezTo>
                  <a:pt x="14456" y="5485"/>
                  <a:pt x="14433" y="5493"/>
                  <a:pt x="14387" y="54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296040" y="1660680"/>
            <a:ext cx="268200" cy="152280"/>
          </a:xfrm>
          <a:custGeom>
            <a:avLst/>
            <a:gdLst/>
            <a:ahLst/>
            <a:rect l="l" t="t" r="r" b="b"/>
            <a:pathLst>
              <a:path w="745" h="422">
                <a:moveTo>
                  <a:pt x="17711" y="4812"/>
                </a:moveTo>
                <a:cubicBezTo>
                  <a:pt x="17719" y="4804"/>
                  <a:pt x="17727" y="4795"/>
                  <a:pt x="17735" y="4787"/>
                </a:cubicBezTo>
                <a:cubicBezTo>
                  <a:pt x="17652" y="4787"/>
                  <a:pt x="17570" y="4787"/>
                  <a:pt x="17487" y="4787"/>
                </a:cubicBezTo>
              </a:path>
              <a:path w="745" h="422">
                <a:moveTo>
                  <a:pt x="17512" y="4638"/>
                </a:moveTo>
                <a:cubicBezTo>
                  <a:pt x="17599" y="4650"/>
                  <a:pt x="17598" y="4694"/>
                  <a:pt x="17611" y="4787"/>
                </a:cubicBezTo>
                <a:cubicBezTo>
                  <a:pt x="17618" y="4834"/>
                  <a:pt x="17611" y="4888"/>
                  <a:pt x="17611" y="4936"/>
                </a:cubicBezTo>
              </a:path>
              <a:path w="745" h="422">
                <a:moveTo>
                  <a:pt x="17909" y="4713"/>
                </a:moveTo>
                <a:cubicBezTo>
                  <a:pt x="17901" y="4713"/>
                  <a:pt x="17892" y="4713"/>
                  <a:pt x="17884" y="4713"/>
                </a:cubicBezTo>
                <a:cubicBezTo>
                  <a:pt x="17900" y="4681"/>
                  <a:pt x="17959" y="4625"/>
                  <a:pt x="18008" y="4614"/>
                </a:cubicBezTo>
                <a:cubicBezTo>
                  <a:pt x="18089" y="4595"/>
                  <a:pt x="18128" y="4646"/>
                  <a:pt x="18132" y="4713"/>
                </a:cubicBezTo>
                <a:cubicBezTo>
                  <a:pt x="18136" y="4781"/>
                  <a:pt x="18065" y="4847"/>
                  <a:pt x="18033" y="4911"/>
                </a:cubicBezTo>
                <a:cubicBezTo>
                  <a:pt x="18004" y="4970"/>
                  <a:pt x="17996" y="4987"/>
                  <a:pt x="18033" y="5035"/>
                </a:cubicBezTo>
                <a:cubicBezTo>
                  <a:pt x="18093" y="5023"/>
                  <a:pt x="18131" y="4992"/>
                  <a:pt x="18182" y="4961"/>
                </a:cubicBezTo>
                <a:cubicBezTo>
                  <a:pt x="18198" y="4953"/>
                  <a:pt x="18215" y="4944"/>
                  <a:pt x="18231" y="49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715080" y="1571760"/>
            <a:ext cx="812880" cy="233280"/>
          </a:xfrm>
          <a:custGeom>
            <a:avLst/>
            <a:gdLst/>
            <a:ahLst/>
            <a:rect l="l" t="t" r="r" b="b"/>
            <a:pathLst>
              <a:path w="2258" h="646">
                <a:moveTo>
                  <a:pt x="18827" y="4862"/>
                </a:moveTo>
                <a:cubicBezTo>
                  <a:pt x="18852" y="4854"/>
                  <a:pt x="18876" y="4845"/>
                  <a:pt x="18901" y="4837"/>
                </a:cubicBezTo>
                <a:cubicBezTo>
                  <a:pt x="18846" y="4870"/>
                  <a:pt x="18773" y="4883"/>
                  <a:pt x="18703" y="4887"/>
                </a:cubicBezTo>
                <a:cubicBezTo>
                  <a:pt x="18686" y="4887"/>
                  <a:pt x="18670" y="4887"/>
                  <a:pt x="18653" y="4887"/>
                </a:cubicBezTo>
              </a:path>
              <a:path w="2258" h="646">
                <a:moveTo>
                  <a:pt x="18703" y="4762"/>
                </a:moveTo>
                <a:cubicBezTo>
                  <a:pt x="18719" y="4762"/>
                  <a:pt x="18736" y="4762"/>
                  <a:pt x="18752" y="4762"/>
                </a:cubicBezTo>
                <a:cubicBezTo>
                  <a:pt x="18762" y="4841"/>
                  <a:pt x="18777" y="4902"/>
                  <a:pt x="18777" y="4986"/>
                </a:cubicBezTo>
                <a:cubicBezTo>
                  <a:pt x="18777" y="4994"/>
                  <a:pt x="18777" y="5003"/>
                  <a:pt x="18777" y="5011"/>
                </a:cubicBezTo>
              </a:path>
              <a:path w="2258" h="646">
                <a:moveTo>
                  <a:pt x="19100" y="4638"/>
                </a:moveTo>
                <a:cubicBezTo>
                  <a:pt x="19100" y="4583"/>
                  <a:pt x="19104" y="4583"/>
                  <a:pt x="19149" y="4564"/>
                </a:cubicBezTo>
                <a:cubicBezTo>
                  <a:pt x="19209" y="4538"/>
                  <a:pt x="19275" y="4527"/>
                  <a:pt x="19323" y="4589"/>
                </a:cubicBezTo>
                <a:cubicBezTo>
                  <a:pt x="19348" y="4621"/>
                  <a:pt x="19318" y="4734"/>
                  <a:pt x="19298" y="4762"/>
                </a:cubicBezTo>
                <a:cubicBezTo>
                  <a:pt x="19255" y="4821"/>
                  <a:pt x="19224" y="4836"/>
                  <a:pt x="19224" y="4911"/>
                </a:cubicBezTo>
                <a:cubicBezTo>
                  <a:pt x="19224" y="4919"/>
                  <a:pt x="19224" y="4928"/>
                  <a:pt x="19224" y="4936"/>
                </a:cubicBezTo>
                <a:cubicBezTo>
                  <a:pt x="19306" y="4936"/>
                  <a:pt x="19327" y="4901"/>
                  <a:pt x="19397" y="4862"/>
                </a:cubicBezTo>
                <a:cubicBezTo>
                  <a:pt x="19447" y="4837"/>
                  <a:pt x="19463" y="4829"/>
                  <a:pt x="19496" y="4812"/>
                </a:cubicBezTo>
              </a:path>
              <a:path w="2258" h="646">
                <a:moveTo>
                  <a:pt x="20092" y="4762"/>
                </a:moveTo>
                <a:cubicBezTo>
                  <a:pt x="20108" y="4762"/>
                  <a:pt x="20125" y="4762"/>
                  <a:pt x="20141" y="4762"/>
                </a:cubicBezTo>
                <a:cubicBezTo>
                  <a:pt x="20025" y="4762"/>
                  <a:pt x="19910" y="4762"/>
                  <a:pt x="19794" y="4762"/>
                </a:cubicBezTo>
              </a:path>
              <a:path w="2258" h="646">
                <a:moveTo>
                  <a:pt x="19943" y="4638"/>
                </a:moveTo>
                <a:cubicBezTo>
                  <a:pt x="20041" y="4652"/>
                  <a:pt x="20017" y="4690"/>
                  <a:pt x="20017" y="4787"/>
                </a:cubicBezTo>
                <a:cubicBezTo>
                  <a:pt x="20017" y="4848"/>
                  <a:pt x="20027" y="4889"/>
                  <a:pt x="19993" y="4936"/>
                </a:cubicBezTo>
              </a:path>
              <a:path w="2258" h="646">
                <a:moveTo>
                  <a:pt x="20365" y="4514"/>
                </a:moveTo>
                <a:cubicBezTo>
                  <a:pt x="20358" y="4494"/>
                  <a:pt x="20320" y="4476"/>
                  <a:pt x="20340" y="4440"/>
                </a:cubicBezTo>
                <a:cubicBezTo>
                  <a:pt x="20364" y="4396"/>
                  <a:pt x="20418" y="4369"/>
                  <a:pt x="20464" y="4366"/>
                </a:cubicBezTo>
                <a:cubicBezTo>
                  <a:pt x="20527" y="4362"/>
                  <a:pt x="20571" y="4366"/>
                  <a:pt x="20588" y="4440"/>
                </a:cubicBezTo>
                <a:cubicBezTo>
                  <a:pt x="20606" y="4514"/>
                  <a:pt x="20527" y="4591"/>
                  <a:pt x="20513" y="4663"/>
                </a:cubicBezTo>
                <a:cubicBezTo>
                  <a:pt x="20505" y="4702"/>
                  <a:pt x="20512" y="4799"/>
                  <a:pt x="20563" y="4812"/>
                </a:cubicBezTo>
                <a:cubicBezTo>
                  <a:pt x="20646" y="4834"/>
                  <a:pt x="20736" y="4799"/>
                  <a:pt x="20811" y="4787"/>
                </a:cubicBezTo>
                <a:cubicBezTo>
                  <a:pt x="20872" y="4777"/>
                  <a:pt x="20867" y="4781"/>
                  <a:pt x="20910" y="47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411960" y="1866960"/>
            <a:ext cx="1285920" cy="249120"/>
          </a:xfrm>
          <a:custGeom>
            <a:avLst/>
            <a:gdLst/>
            <a:ahLst/>
            <a:rect l="l" t="t" r="r" b="b"/>
            <a:pathLst>
              <a:path w="3573" h="696">
                <a:moveTo>
                  <a:pt x="17884" y="5283"/>
                </a:moveTo>
                <a:cubicBezTo>
                  <a:pt x="17884" y="5267"/>
                  <a:pt x="17884" y="5250"/>
                  <a:pt x="17884" y="5234"/>
                </a:cubicBezTo>
                <a:cubicBezTo>
                  <a:pt x="17884" y="5182"/>
                  <a:pt x="17870" y="5284"/>
                  <a:pt x="17859" y="5308"/>
                </a:cubicBezTo>
                <a:cubicBezTo>
                  <a:pt x="17826" y="5379"/>
                  <a:pt x="17821" y="5479"/>
                  <a:pt x="17810" y="5556"/>
                </a:cubicBezTo>
                <a:cubicBezTo>
                  <a:pt x="17802" y="5611"/>
                  <a:pt x="17800" y="5665"/>
                  <a:pt x="17835" y="5705"/>
                </a:cubicBezTo>
                <a:cubicBezTo>
                  <a:pt x="17874" y="5750"/>
                  <a:pt x="17953" y="5730"/>
                  <a:pt x="18008" y="5730"/>
                </a:cubicBezTo>
                <a:cubicBezTo>
                  <a:pt x="18138" y="5730"/>
                  <a:pt x="18255" y="5723"/>
                  <a:pt x="18380" y="5705"/>
                </a:cubicBezTo>
                <a:cubicBezTo>
                  <a:pt x="18445" y="5696"/>
                  <a:pt x="18529" y="5693"/>
                  <a:pt x="18579" y="5730"/>
                </a:cubicBezTo>
                <a:cubicBezTo>
                  <a:pt x="18546" y="5755"/>
                  <a:pt x="18516" y="5780"/>
                  <a:pt x="18479" y="5804"/>
                </a:cubicBezTo>
                <a:cubicBezTo>
                  <a:pt x="18447" y="5825"/>
                  <a:pt x="18388" y="5864"/>
                  <a:pt x="18355" y="5879"/>
                </a:cubicBezTo>
                <a:cubicBezTo>
                  <a:pt x="18331" y="5879"/>
                  <a:pt x="18322" y="5879"/>
                  <a:pt x="18306" y="5879"/>
                </a:cubicBezTo>
                <a:cubicBezTo>
                  <a:pt x="18317" y="5836"/>
                  <a:pt x="18346" y="5813"/>
                  <a:pt x="18380" y="5779"/>
                </a:cubicBezTo>
                <a:cubicBezTo>
                  <a:pt x="18438" y="5721"/>
                  <a:pt x="18490" y="5704"/>
                  <a:pt x="18529" y="5631"/>
                </a:cubicBezTo>
                <a:cubicBezTo>
                  <a:pt x="18547" y="5598"/>
                  <a:pt x="18581" y="5532"/>
                  <a:pt x="18529" y="5507"/>
                </a:cubicBezTo>
                <a:cubicBezTo>
                  <a:pt x="18488" y="5487"/>
                  <a:pt x="18435" y="5509"/>
                  <a:pt x="18405" y="5531"/>
                </a:cubicBezTo>
              </a:path>
              <a:path w="3573" h="696">
                <a:moveTo>
                  <a:pt x="18827" y="5507"/>
                </a:moveTo>
                <a:cubicBezTo>
                  <a:pt x="18785" y="5507"/>
                  <a:pt x="18769" y="5515"/>
                  <a:pt x="18777" y="5482"/>
                </a:cubicBezTo>
                <a:cubicBezTo>
                  <a:pt x="18777" y="5436"/>
                  <a:pt x="18814" y="5381"/>
                  <a:pt x="18852" y="5358"/>
                </a:cubicBezTo>
                <a:cubicBezTo>
                  <a:pt x="18911" y="5323"/>
                  <a:pt x="19031" y="5283"/>
                  <a:pt x="19100" y="5308"/>
                </a:cubicBezTo>
                <a:cubicBezTo>
                  <a:pt x="19168" y="5333"/>
                  <a:pt x="19145" y="5388"/>
                  <a:pt x="19124" y="5432"/>
                </a:cubicBezTo>
                <a:cubicBezTo>
                  <a:pt x="19093" y="5500"/>
                  <a:pt x="19023" y="5572"/>
                  <a:pt x="18976" y="5631"/>
                </a:cubicBezTo>
                <a:cubicBezTo>
                  <a:pt x="18948" y="5665"/>
                  <a:pt x="18935" y="5687"/>
                  <a:pt x="18926" y="5730"/>
                </a:cubicBezTo>
                <a:cubicBezTo>
                  <a:pt x="18974" y="5730"/>
                  <a:pt x="19032" y="5720"/>
                  <a:pt x="19075" y="5705"/>
                </a:cubicBezTo>
                <a:cubicBezTo>
                  <a:pt x="19143" y="5682"/>
                  <a:pt x="19206" y="5699"/>
                  <a:pt x="19273" y="5680"/>
                </a:cubicBezTo>
                <a:cubicBezTo>
                  <a:pt x="19290" y="5672"/>
                  <a:pt x="19306" y="5663"/>
                  <a:pt x="19323" y="5655"/>
                </a:cubicBezTo>
              </a:path>
              <a:path w="3573" h="696">
                <a:moveTo>
                  <a:pt x="19348" y="5581"/>
                </a:moveTo>
                <a:cubicBezTo>
                  <a:pt x="19310" y="5594"/>
                  <a:pt x="19323" y="5610"/>
                  <a:pt x="19323" y="5655"/>
                </a:cubicBezTo>
                <a:cubicBezTo>
                  <a:pt x="19323" y="5699"/>
                  <a:pt x="19322" y="5695"/>
                  <a:pt x="19348" y="5730"/>
                </a:cubicBezTo>
                <a:cubicBezTo>
                  <a:pt x="19362" y="5672"/>
                  <a:pt x="19404" y="5627"/>
                  <a:pt x="19447" y="5581"/>
                </a:cubicBezTo>
                <a:cubicBezTo>
                  <a:pt x="19522" y="5501"/>
                  <a:pt x="19599" y="5524"/>
                  <a:pt x="19670" y="5606"/>
                </a:cubicBezTo>
                <a:cubicBezTo>
                  <a:pt x="19687" y="5631"/>
                  <a:pt x="19703" y="5655"/>
                  <a:pt x="19720" y="5680"/>
                </a:cubicBezTo>
              </a:path>
              <a:path w="3573" h="696">
                <a:moveTo>
                  <a:pt x="20513" y="5581"/>
                </a:moveTo>
                <a:cubicBezTo>
                  <a:pt x="20513" y="5556"/>
                  <a:pt x="20513" y="5548"/>
                  <a:pt x="20538" y="5556"/>
                </a:cubicBezTo>
                <a:cubicBezTo>
                  <a:pt x="20500" y="5518"/>
                  <a:pt x="20492" y="5507"/>
                  <a:pt x="20439" y="5507"/>
                </a:cubicBezTo>
                <a:cubicBezTo>
                  <a:pt x="20357" y="5507"/>
                  <a:pt x="20296" y="5486"/>
                  <a:pt x="20216" y="5482"/>
                </a:cubicBezTo>
                <a:cubicBezTo>
                  <a:pt x="20166" y="5480"/>
                  <a:pt x="20129" y="5468"/>
                  <a:pt x="20117" y="5507"/>
                </a:cubicBezTo>
              </a:path>
              <a:path w="3573" h="696">
                <a:moveTo>
                  <a:pt x="20241" y="5333"/>
                </a:moveTo>
                <a:cubicBezTo>
                  <a:pt x="20249" y="5325"/>
                  <a:pt x="20257" y="5316"/>
                  <a:pt x="20265" y="5308"/>
                </a:cubicBezTo>
                <a:cubicBezTo>
                  <a:pt x="20265" y="5424"/>
                  <a:pt x="20265" y="5539"/>
                  <a:pt x="20265" y="5655"/>
                </a:cubicBezTo>
              </a:path>
              <a:path w="3573" h="696">
                <a:moveTo>
                  <a:pt x="20861" y="5333"/>
                </a:moveTo>
                <a:cubicBezTo>
                  <a:pt x="20848" y="5295"/>
                  <a:pt x="20836" y="5312"/>
                  <a:pt x="20836" y="5259"/>
                </a:cubicBezTo>
                <a:cubicBezTo>
                  <a:pt x="20878" y="5248"/>
                  <a:pt x="20917" y="5224"/>
                  <a:pt x="20960" y="5209"/>
                </a:cubicBezTo>
                <a:cubicBezTo>
                  <a:pt x="21039" y="5181"/>
                  <a:pt x="21079" y="5174"/>
                  <a:pt x="21158" y="5209"/>
                </a:cubicBezTo>
                <a:cubicBezTo>
                  <a:pt x="21205" y="5230"/>
                  <a:pt x="21254" y="5274"/>
                  <a:pt x="21233" y="5333"/>
                </a:cubicBezTo>
                <a:cubicBezTo>
                  <a:pt x="21207" y="5405"/>
                  <a:pt x="21137" y="5409"/>
                  <a:pt x="21084" y="5457"/>
                </a:cubicBezTo>
                <a:cubicBezTo>
                  <a:pt x="21061" y="5480"/>
                  <a:pt x="21053" y="5484"/>
                  <a:pt x="21059" y="5507"/>
                </a:cubicBezTo>
                <a:cubicBezTo>
                  <a:pt x="21152" y="5552"/>
                  <a:pt x="21243" y="5572"/>
                  <a:pt x="21332" y="5606"/>
                </a:cubicBezTo>
                <a:cubicBezTo>
                  <a:pt x="21376" y="5623"/>
                  <a:pt x="21382" y="5666"/>
                  <a:pt x="21382" y="5705"/>
                </a:cubicBezTo>
                <a:cubicBezTo>
                  <a:pt x="21312" y="5747"/>
                  <a:pt x="21220" y="5730"/>
                  <a:pt x="21134" y="5730"/>
                </a:cubicBezTo>
                <a:cubicBezTo>
                  <a:pt x="21068" y="5730"/>
                  <a:pt x="21051" y="5730"/>
                  <a:pt x="21010" y="57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116760" y="2232000"/>
            <a:ext cx="81000" cy="98280"/>
          </a:xfrm>
          <a:custGeom>
            <a:avLst/>
            <a:gdLst/>
            <a:ahLst/>
            <a:rect l="l" t="t" r="r" b="b"/>
            <a:pathLst>
              <a:path w="224" h="274">
                <a:moveTo>
                  <a:pt x="17016" y="6251"/>
                </a:moveTo>
                <a:cubicBezTo>
                  <a:pt x="17016" y="6243"/>
                  <a:pt x="17016" y="6159"/>
                  <a:pt x="17016" y="6226"/>
                </a:cubicBezTo>
                <a:cubicBezTo>
                  <a:pt x="17016" y="6294"/>
                  <a:pt x="17006" y="6337"/>
                  <a:pt x="16991" y="6400"/>
                </a:cubicBezTo>
                <a:cubicBezTo>
                  <a:pt x="16991" y="6433"/>
                  <a:pt x="16991" y="6449"/>
                  <a:pt x="16991" y="6474"/>
                </a:cubicBezTo>
                <a:cubicBezTo>
                  <a:pt x="17032" y="6433"/>
                  <a:pt x="17077" y="6385"/>
                  <a:pt x="17090" y="6325"/>
                </a:cubicBezTo>
                <a:cubicBezTo>
                  <a:pt x="17104" y="6262"/>
                  <a:pt x="17095" y="6218"/>
                  <a:pt x="17165" y="6201"/>
                </a:cubicBezTo>
                <a:cubicBezTo>
                  <a:pt x="17220" y="6270"/>
                  <a:pt x="17214" y="6312"/>
                  <a:pt x="17214" y="6400"/>
                </a:cubicBezTo>
                <a:cubicBezTo>
                  <a:pt x="17214" y="6424"/>
                  <a:pt x="17214" y="6433"/>
                  <a:pt x="17214" y="64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13320" y="223200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7611" y="6201"/>
                </a:moveTo>
                <a:cubicBezTo>
                  <a:pt x="17619" y="6201"/>
                  <a:pt x="17628" y="6201"/>
                  <a:pt x="17636" y="6201"/>
                </a:cubicBezTo>
                <a:cubicBezTo>
                  <a:pt x="17603" y="6201"/>
                  <a:pt x="17570" y="6201"/>
                  <a:pt x="17537" y="6201"/>
                </a:cubicBezTo>
              </a:path>
              <a:path w="150" h="150">
                <a:moveTo>
                  <a:pt x="17661" y="6276"/>
                </a:moveTo>
                <a:cubicBezTo>
                  <a:pt x="17685" y="6358"/>
                  <a:pt x="17670" y="6350"/>
                  <a:pt x="17587" y="6350"/>
                </a:cubicBezTo>
                <a:cubicBezTo>
                  <a:pt x="17562" y="6350"/>
                  <a:pt x="17554" y="6350"/>
                  <a:pt x="17537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483240" y="2170080"/>
            <a:ext cx="384120" cy="223920"/>
          </a:xfrm>
          <a:custGeom>
            <a:avLst/>
            <a:gdLst/>
            <a:ahLst/>
            <a:rect l="l" t="t" r="r" b="b"/>
            <a:pathLst>
              <a:path w="1068" h="621">
                <a:moveTo>
                  <a:pt x="18083" y="6102"/>
                </a:moveTo>
                <a:cubicBezTo>
                  <a:pt x="18105" y="6079"/>
                  <a:pt x="18110" y="6071"/>
                  <a:pt x="18132" y="6077"/>
                </a:cubicBezTo>
                <a:cubicBezTo>
                  <a:pt x="18088" y="6088"/>
                  <a:pt x="18067" y="6118"/>
                  <a:pt x="18033" y="6152"/>
                </a:cubicBezTo>
                <a:cubicBezTo>
                  <a:pt x="18009" y="6175"/>
                  <a:pt x="17981" y="6260"/>
                  <a:pt x="18033" y="6276"/>
                </a:cubicBezTo>
                <a:cubicBezTo>
                  <a:pt x="18089" y="6293"/>
                  <a:pt x="18147" y="6311"/>
                  <a:pt x="18207" y="6325"/>
                </a:cubicBezTo>
                <a:cubicBezTo>
                  <a:pt x="18237" y="6332"/>
                  <a:pt x="18280" y="6357"/>
                  <a:pt x="18256" y="6400"/>
                </a:cubicBezTo>
                <a:cubicBezTo>
                  <a:pt x="18222" y="6461"/>
                  <a:pt x="18167" y="6449"/>
                  <a:pt x="18107" y="6449"/>
                </a:cubicBezTo>
                <a:cubicBezTo>
                  <a:pt x="18066" y="6449"/>
                  <a:pt x="18058" y="6449"/>
                  <a:pt x="18033" y="6449"/>
                </a:cubicBezTo>
              </a:path>
              <a:path w="1068" h="621">
                <a:moveTo>
                  <a:pt x="18331" y="6102"/>
                </a:moveTo>
                <a:cubicBezTo>
                  <a:pt x="18369" y="6063"/>
                  <a:pt x="18386" y="6062"/>
                  <a:pt x="18380" y="6028"/>
                </a:cubicBezTo>
                <a:cubicBezTo>
                  <a:pt x="18306" y="6028"/>
                  <a:pt x="18222" y="6012"/>
                  <a:pt x="18157" y="6052"/>
                </a:cubicBezTo>
                <a:cubicBezTo>
                  <a:pt x="18149" y="6060"/>
                  <a:pt x="18140" y="6069"/>
                  <a:pt x="18132" y="6077"/>
                </a:cubicBezTo>
              </a:path>
              <a:path w="1068" h="621">
                <a:moveTo>
                  <a:pt x="18604" y="6251"/>
                </a:moveTo>
                <a:cubicBezTo>
                  <a:pt x="18579" y="6251"/>
                  <a:pt x="18571" y="6251"/>
                  <a:pt x="18554" y="6251"/>
                </a:cubicBezTo>
                <a:cubicBezTo>
                  <a:pt x="18554" y="6205"/>
                  <a:pt x="18548" y="6187"/>
                  <a:pt x="18579" y="6152"/>
                </a:cubicBezTo>
                <a:cubicBezTo>
                  <a:pt x="18614" y="6113"/>
                  <a:pt x="18688" y="6112"/>
                  <a:pt x="18728" y="6152"/>
                </a:cubicBezTo>
                <a:cubicBezTo>
                  <a:pt x="18761" y="6185"/>
                  <a:pt x="18816" y="6303"/>
                  <a:pt x="18802" y="6350"/>
                </a:cubicBezTo>
                <a:cubicBezTo>
                  <a:pt x="18779" y="6425"/>
                  <a:pt x="18699" y="6396"/>
                  <a:pt x="18653" y="6375"/>
                </a:cubicBezTo>
                <a:cubicBezTo>
                  <a:pt x="18608" y="6355"/>
                  <a:pt x="18588" y="6334"/>
                  <a:pt x="18554" y="6300"/>
                </a:cubicBezTo>
              </a:path>
              <a:path w="1068" h="621">
                <a:moveTo>
                  <a:pt x="19050" y="6424"/>
                </a:moveTo>
                <a:cubicBezTo>
                  <a:pt x="19078" y="6517"/>
                  <a:pt x="19087" y="6556"/>
                  <a:pt x="19000" y="6623"/>
                </a:cubicBezTo>
                <a:cubicBezTo>
                  <a:pt x="18984" y="6631"/>
                  <a:pt x="18967" y="6640"/>
                  <a:pt x="18951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54920" y="2152800"/>
            <a:ext cx="642960" cy="196560"/>
          </a:xfrm>
          <a:custGeom>
            <a:avLst/>
            <a:gdLst/>
            <a:ahLst/>
            <a:rect l="l" t="t" r="r" b="b"/>
            <a:pathLst>
              <a:path w="1787" h="547">
                <a:moveTo>
                  <a:pt x="19621" y="6077"/>
                </a:moveTo>
                <a:cubicBezTo>
                  <a:pt x="19588" y="6061"/>
                  <a:pt x="19634" y="6035"/>
                  <a:pt x="19670" y="6028"/>
                </a:cubicBezTo>
                <a:cubicBezTo>
                  <a:pt x="19709" y="6020"/>
                  <a:pt x="19823" y="6011"/>
                  <a:pt x="19844" y="6052"/>
                </a:cubicBezTo>
                <a:cubicBezTo>
                  <a:pt x="19866" y="6095"/>
                  <a:pt x="19842" y="6190"/>
                  <a:pt x="19819" y="6226"/>
                </a:cubicBezTo>
                <a:cubicBezTo>
                  <a:pt x="19784" y="6283"/>
                  <a:pt x="19725" y="6299"/>
                  <a:pt x="19720" y="6375"/>
                </a:cubicBezTo>
                <a:cubicBezTo>
                  <a:pt x="19718" y="6407"/>
                  <a:pt x="19720" y="6441"/>
                  <a:pt x="19720" y="6474"/>
                </a:cubicBezTo>
                <a:cubicBezTo>
                  <a:pt x="19777" y="6474"/>
                  <a:pt x="19825" y="6485"/>
                  <a:pt x="19869" y="6449"/>
                </a:cubicBezTo>
                <a:cubicBezTo>
                  <a:pt x="19918" y="6409"/>
                  <a:pt x="19901" y="6409"/>
                  <a:pt x="19968" y="6400"/>
                </a:cubicBezTo>
              </a:path>
              <a:path w="1787" h="547">
                <a:moveTo>
                  <a:pt x="20067" y="6276"/>
                </a:moveTo>
                <a:cubicBezTo>
                  <a:pt x="20067" y="6329"/>
                  <a:pt x="19989" y="6422"/>
                  <a:pt x="20042" y="6424"/>
                </a:cubicBezTo>
                <a:cubicBezTo>
                  <a:pt x="20057" y="6425"/>
                  <a:pt x="20129" y="6289"/>
                  <a:pt x="20141" y="6276"/>
                </a:cubicBezTo>
                <a:cubicBezTo>
                  <a:pt x="20174" y="6240"/>
                  <a:pt x="20246" y="6245"/>
                  <a:pt x="20265" y="6300"/>
                </a:cubicBezTo>
                <a:cubicBezTo>
                  <a:pt x="20280" y="6342"/>
                  <a:pt x="20290" y="6402"/>
                  <a:pt x="20290" y="6449"/>
                </a:cubicBezTo>
              </a:path>
              <a:path w="1787" h="547">
                <a:moveTo>
                  <a:pt x="20662" y="6375"/>
                </a:moveTo>
                <a:cubicBezTo>
                  <a:pt x="20717" y="6375"/>
                  <a:pt x="20764" y="6375"/>
                  <a:pt x="20687" y="6375"/>
                </a:cubicBezTo>
                <a:cubicBezTo>
                  <a:pt x="20613" y="6375"/>
                  <a:pt x="20538" y="6375"/>
                  <a:pt x="20464" y="6375"/>
                </a:cubicBezTo>
              </a:path>
              <a:path w="1787" h="547">
                <a:moveTo>
                  <a:pt x="20513" y="6226"/>
                </a:moveTo>
                <a:cubicBezTo>
                  <a:pt x="20582" y="6272"/>
                  <a:pt x="20563" y="6289"/>
                  <a:pt x="20563" y="6375"/>
                </a:cubicBezTo>
                <a:cubicBezTo>
                  <a:pt x="20563" y="6416"/>
                  <a:pt x="20563" y="6424"/>
                  <a:pt x="20563" y="6449"/>
                </a:cubicBezTo>
              </a:path>
              <a:path w="1787" h="547">
                <a:moveTo>
                  <a:pt x="20886" y="6152"/>
                </a:moveTo>
                <a:cubicBezTo>
                  <a:pt x="20886" y="6115"/>
                  <a:pt x="20874" y="6076"/>
                  <a:pt x="20910" y="6052"/>
                </a:cubicBezTo>
                <a:cubicBezTo>
                  <a:pt x="20986" y="6000"/>
                  <a:pt x="21069" y="5982"/>
                  <a:pt x="21158" y="5978"/>
                </a:cubicBezTo>
                <a:cubicBezTo>
                  <a:pt x="21221" y="5975"/>
                  <a:pt x="21313" y="6022"/>
                  <a:pt x="21307" y="6102"/>
                </a:cubicBezTo>
                <a:cubicBezTo>
                  <a:pt x="21303" y="6156"/>
                  <a:pt x="21219" y="6199"/>
                  <a:pt x="21183" y="6226"/>
                </a:cubicBezTo>
                <a:cubicBezTo>
                  <a:pt x="21144" y="6255"/>
                  <a:pt x="21108" y="6315"/>
                  <a:pt x="21158" y="6350"/>
                </a:cubicBezTo>
                <a:cubicBezTo>
                  <a:pt x="21223" y="6396"/>
                  <a:pt x="21293" y="6385"/>
                  <a:pt x="21357" y="6424"/>
                </a:cubicBezTo>
                <a:cubicBezTo>
                  <a:pt x="21394" y="6447"/>
                  <a:pt x="21382" y="6487"/>
                  <a:pt x="21382" y="6524"/>
                </a:cubicBezTo>
                <a:cubicBezTo>
                  <a:pt x="21310" y="6524"/>
                  <a:pt x="21273" y="6507"/>
                  <a:pt x="21208" y="6474"/>
                </a:cubicBezTo>
                <a:cubicBezTo>
                  <a:pt x="21191" y="6466"/>
                  <a:pt x="21175" y="6457"/>
                  <a:pt x="21158" y="64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13800" y="2214720"/>
            <a:ext cx="179280" cy="142560"/>
          </a:xfrm>
          <a:custGeom>
            <a:avLst/>
            <a:gdLst/>
            <a:ahLst/>
            <a:rect l="l" t="t" r="r" b="b"/>
            <a:pathLst>
              <a:path w="497" h="397">
                <a:moveTo>
                  <a:pt x="21828" y="6300"/>
                </a:moveTo>
                <a:cubicBezTo>
                  <a:pt x="21861" y="6300"/>
                  <a:pt x="21894" y="6300"/>
                  <a:pt x="21927" y="6300"/>
                </a:cubicBezTo>
                <a:cubicBezTo>
                  <a:pt x="21913" y="6259"/>
                  <a:pt x="21878" y="6276"/>
                  <a:pt x="21828" y="6276"/>
                </a:cubicBezTo>
                <a:cubicBezTo>
                  <a:pt x="21787" y="6276"/>
                  <a:pt x="21779" y="6276"/>
                  <a:pt x="21754" y="6276"/>
                </a:cubicBezTo>
              </a:path>
              <a:path w="497" h="397">
                <a:moveTo>
                  <a:pt x="21927" y="6350"/>
                </a:moveTo>
                <a:cubicBezTo>
                  <a:pt x="21915" y="6398"/>
                  <a:pt x="21886" y="6417"/>
                  <a:pt x="21828" y="6400"/>
                </a:cubicBezTo>
                <a:cubicBezTo>
                  <a:pt x="21778" y="6385"/>
                  <a:pt x="21758" y="6375"/>
                  <a:pt x="21704" y="6375"/>
                </a:cubicBezTo>
              </a:path>
              <a:path w="497" h="397">
                <a:moveTo>
                  <a:pt x="22200" y="6176"/>
                </a:moveTo>
                <a:cubicBezTo>
                  <a:pt x="22200" y="6135"/>
                  <a:pt x="22209" y="6211"/>
                  <a:pt x="22200" y="6251"/>
                </a:cubicBezTo>
                <a:cubicBezTo>
                  <a:pt x="22178" y="6346"/>
                  <a:pt x="22175" y="6426"/>
                  <a:pt x="22175" y="6524"/>
                </a:cubicBezTo>
                <a:cubicBezTo>
                  <a:pt x="22175" y="6532"/>
                  <a:pt x="22175" y="6540"/>
                  <a:pt x="22175" y="65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09000" y="2160720"/>
            <a:ext cx="330120" cy="223560"/>
          </a:xfrm>
          <a:custGeom>
            <a:avLst/>
            <a:gdLst/>
            <a:ahLst/>
            <a:rect l="l" t="t" r="r" b="b"/>
            <a:pathLst>
              <a:path w="918" h="621">
                <a:moveTo>
                  <a:pt x="22597" y="6325"/>
                </a:moveTo>
                <a:cubicBezTo>
                  <a:pt x="22559" y="6312"/>
                  <a:pt x="22572" y="6296"/>
                  <a:pt x="22572" y="6251"/>
                </a:cubicBezTo>
                <a:cubicBezTo>
                  <a:pt x="22572" y="6210"/>
                  <a:pt x="22577" y="6171"/>
                  <a:pt x="22622" y="6152"/>
                </a:cubicBezTo>
                <a:cubicBezTo>
                  <a:pt x="22692" y="6122"/>
                  <a:pt x="22741" y="6176"/>
                  <a:pt x="22771" y="6226"/>
                </a:cubicBezTo>
                <a:cubicBezTo>
                  <a:pt x="22806" y="6286"/>
                  <a:pt x="22814" y="6406"/>
                  <a:pt x="22796" y="6474"/>
                </a:cubicBezTo>
                <a:cubicBezTo>
                  <a:pt x="22788" y="6491"/>
                  <a:pt x="22779" y="6507"/>
                  <a:pt x="22771" y="6524"/>
                </a:cubicBezTo>
                <a:cubicBezTo>
                  <a:pt x="22695" y="6509"/>
                  <a:pt x="22664" y="6486"/>
                  <a:pt x="22622" y="6424"/>
                </a:cubicBezTo>
                <a:cubicBezTo>
                  <a:pt x="22611" y="6408"/>
                  <a:pt x="22496" y="6256"/>
                  <a:pt x="22523" y="6226"/>
                </a:cubicBezTo>
                <a:cubicBezTo>
                  <a:pt x="22539" y="6218"/>
                  <a:pt x="22556" y="6209"/>
                  <a:pt x="22572" y="6201"/>
                </a:cubicBezTo>
              </a:path>
              <a:path w="918" h="621">
                <a:moveTo>
                  <a:pt x="23093" y="6176"/>
                </a:moveTo>
                <a:cubicBezTo>
                  <a:pt x="23048" y="6118"/>
                  <a:pt x="23083" y="6130"/>
                  <a:pt x="23118" y="6077"/>
                </a:cubicBezTo>
                <a:cubicBezTo>
                  <a:pt x="23169" y="5999"/>
                  <a:pt x="23172" y="6003"/>
                  <a:pt x="23267" y="6003"/>
                </a:cubicBezTo>
                <a:cubicBezTo>
                  <a:pt x="23332" y="6003"/>
                  <a:pt x="23390" y="6039"/>
                  <a:pt x="23416" y="6102"/>
                </a:cubicBezTo>
                <a:cubicBezTo>
                  <a:pt x="23444" y="6169"/>
                  <a:pt x="23381" y="6211"/>
                  <a:pt x="23341" y="6251"/>
                </a:cubicBezTo>
                <a:cubicBezTo>
                  <a:pt x="23301" y="6291"/>
                  <a:pt x="23238" y="6332"/>
                  <a:pt x="23267" y="6400"/>
                </a:cubicBezTo>
                <a:cubicBezTo>
                  <a:pt x="23281" y="6433"/>
                  <a:pt x="23341" y="6474"/>
                  <a:pt x="23366" y="6499"/>
                </a:cubicBezTo>
                <a:cubicBezTo>
                  <a:pt x="23400" y="6533"/>
                  <a:pt x="23429" y="6553"/>
                  <a:pt x="23440" y="6598"/>
                </a:cubicBezTo>
                <a:cubicBezTo>
                  <a:pt x="23394" y="6626"/>
                  <a:pt x="23327" y="6636"/>
                  <a:pt x="23267" y="6623"/>
                </a:cubicBezTo>
                <a:cubicBezTo>
                  <a:pt x="23242" y="6615"/>
                  <a:pt x="23217" y="6606"/>
                  <a:pt x="23192" y="65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97200" y="2608200"/>
            <a:ext cx="625680" cy="266760"/>
          </a:xfrm>
          <a:custGeom>
            <a:avLst/>
            <a:gdLst/>
            <a:ahLst/>
            <a:rect l="l" t="t" r="r" b="b"/>
            <a:pathLst>
              <a:path w="1737" h="745">
                <a:moveTo>
                  <a:pt x="10319" y="7665"/>
                </a:moveTo>
                <a:cubicBezTo>
                  <a:pt x="10295" y="7696"/>
                  <a:pt x="10293" y="7707"/>
                  <a:pt x="10269" y="7739"/>
                </a:cubicBezTo>
                <a:cubicBezTo>
                  <a:pt x="10350" y="7739"/>
                  <a:pt x="10414" y="7725"/>
                  <a:pt x="10492" y="7714"/>
                </a:cubicBezTo>
                <a:cubicBezTo>
                  <a:pt x="10597" y="7699"/>
                  <a:pt x="10725" y="7709"/>
                  <a:pt x="10815" y="7739"/>
                </a:cubicBezTo>
                <a:cubicBezTo>
                  <a:pt x="10823" y="7739"/>
                  <a:pt x="10832" y="7739"/>
                  <a:pt x="10840" y="7739"/>
                </a:cubicBezTo>
              </a:path>
              <a:path w="1737" h="745">
                <a:moveTo>
                  <a:pt x="11088" y="7293"/>
                </a:moveTo>
                <a:cubicBezTo>
                  <a:pt x="11104" y="7276"/>
                  <a:pt x="11121" y="7260"/>
                  <a:pt x="11137" y="7243"/>
                </a:cubicBezTo>
                <a:cubicBezTo>
                  <a:pt x="11137" y="7323"/>
                  <a:pt x="11141" y="7389"/>
                  <a:pt x="11112" y="7466"/>
                </a:cubicBezTo>
                <a:cubicBezTo>
                  <a:pt x="11086" y="7536"/>
                  <a:pt x="11067" y="7614"/>
                  <a:pt x="11063" y="7689"/>
                </a:cubicBezTo>
                <a:cubicBezTo>
                  <a:pt x="11060" y="7741"/>
                  <a:pt x="11082" y="7785"/>
                  <a:pt x="11137" y="7789"/>
                </a:cubicBezTo>
                <a:cubicBezTo>
                  <a:pt x="11205" y="7794"/>
                  <a:pt x="11299" y="7765"/>
                  <a:pt x="11361" y="7739"/>
                </a:cubicBezTo>
                <a:cubicBezTo>
                  <a:pt x="11419" y="7714"/>
                  <a:pt x="11473" y="7680"/>
                  <a:pt x="11534" y="7665"/>
                </a:cubicBezTo>
                <a:cubicBezTo>
                  <a:pt x="11574" y="7655"/>
                  <a:pt x="11559" y="7689"/>
                  <a:pt x="11559" y="7714"/>
                </a:cubicBezTo>
              </a:path>
              <a:path w="1737" h="745">
                <a:moveTo>
                  <a:pt x="11336" y="7590"/>
                </a:moveTo>
                <a:cubicBezTo>
                  <a:pt x="11298" y="7603"/>
                  <a:pt x="11311" y="7620"/>
                  <a:pt x="11311" y="7665"/>
                </a:cubicBezTo>
                <a:cubicBezTo>
                  <a:pt x="11311" y="7756"/>
                  <a:pt x="11316" y="7828"/>
                  <a:pt x="11336" y="7913"/>
                </a:cubicBezTo>
                <a:cubicBezTo>
                  <a:pt x="11341" y="7934"/>
                  <a:pt x="11336" y="7965"/>
                  <a:pt x="11336" y="7987"/>
                </a:cubicBezTo>
              </a:path>
              <a:path w="1737" h="745">
                <a:moveTo>
                  <a:pt x="11609" y="7665"/>
                </a:moveTo>
                <a:cubicBezTo>
                  <a:pt x="11617" y="7657"/>
                  <a:pt x="11625" y="7648"/>
                  <a:pt x="11633" y="7640"/>
                </a:cubicBezTo>
                <a:cubicBezTo>
                  <a:pt x="11633" y="7714"/>
                  <a:pt x="11633" y="7789"/>
                  <a:pt x="11633" y="7863"/>
                </a:cubicBezTo>
                <a:cubicBezTo>
                  <a:pt x="11705" y="7863"/>
                  <a:pt x="11689" y="7843"/>
                  <a:pt x="11733" y="7789"/>
                </a:cubicBezTo>
                <a:cubicBezTo>
                  <a:pt x="11756" y="7761"/>
                  <a:pt x="11838" y="7635"/>
                  <a:pt x="11881" y="7640"/>
                </a:cubicBezTo>
                <a:cubicBezTo>
                  <a:pt x="11929" y="7645"/>
                  <a:pt x="11975" y="7779"/>
                  <a:pt x="11981" y="7813"/>
                </a:cubicBezTo>
                <a:cubicBezTo>
                  <a:pt x="11981" y="7881"/>
                  <a:pt x="11978" y="7901"/>
                  <a:pt x="12005" y="7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7920" y="2616120"/>
            <a:ext cx="590400" cy="206280"/>
          </a:xfrm>
          <a:custGeom>
            <a:avLst/>
            <a:gdLst/>
            <a:ahLst/>
            <a:rect l="l" t="t" r="r" b="b"/>
            <a:pathLst>
              <a:path w="1639" h="571">
                <a:moveTo>
                  <a:pt x="13370" y="7615"/>
                </a:moveTo>
                <a:cubicBezTo>
                  <a:pt x="13433" y="7615"/>
                  <a:pt x="13315" y="7615"/>
                  <a:pt x="13295" y="7615"/>
                </a:cubicBezTo>
                <a:cubicBezTo>
                  <a:pt x="13211" y="7615"/>
                  <a:pt x="13149" y="7622"/>
                  <a:pt x="13072" y="7640"/>
                </a:cubicBezTo>
                <a:cubicBezTo>
                  <a:pt x="13047" y="7640"/>
                  <a:pt x="13039" y="7640"/>
                  <a:pt x="13022" y="7640"/>
                </a:cubicBezTo>
              </a:path>
              <a:path w="1639" h="571">
                <a:moveTo>
                  <a:pt x="13097" y="7466"/>
                </a:moveTo>
                <a:cubicBezTo>
                  <a:pt x="13133" y="7526"/>
                  <a:pt x="13122" y="7590"/>
                  <a:pt x="13122" y="7665"/>
                </a:cubicBezTo>
                <a:cubicBezTo>
                  <a:pt x="13122" y="7714"/>
                  <a:pt x="13122" y="7764"/>
                  <a:pt x="13122" y="7813"/>
                </a:cubicBezTo>
              </a:path>
              <a:path w="1639" h="571">
                <a:moveTo>
                  <a:pt x="13767" y="7417"/>
                </a:moveTo>
                <a:cubicBezTo>
                  <a:pt x="13778" y="7373"/>
                  <a:pt x="13807" y="7351"/>
                  <a:pt x="13841" y="7317"/>
                </a:cubicBezTo>
                <a:cubicBezTo>
                  <a:pt x="13891" y="7268"/>
                  <a:pt x="13935" y="7250"/>
                  <a:pt x="13990" y="7293"/>
                </a:cubicBezTo>
                <a:cubicBezTo>
                  <a:pt x="14027" y="7322"/>
                  <a:pt x="14027" y="7421"/>
                  <a:pt x="14015" y="7466"/>
                </a:cubicBezTo>
                <a:cubicBezTo>
                  <a:pt x="13993" y="7546"/>
                  <a:pt x="13943" y="7627"/>
                  <a:pt x="13891" y="7689"/>
                </a:cubicBezTo>
                <a:cubicBezTo>
                  <a:pt x="13850" y="7738"/>
                  <a:pt x="13830" y="7757"/>
                  <a:pt x="13816" y="7813"/>
                </a:cubicBezTo>
                <a:cubicBezTo>
                  <a:pt x="13878" y="7813"/>
                  <a:pt x="13909" y="7815"/>
                  <a:pt x="13965" y="7789"/>
                </a:cubicBezTo>
                <a:cubicBezTo>
                  <a:pt x="14026" y="7761"/>
                  <a:pt x="14096" y="7743"/>
                  <a:pt x="14163" y="7739"/>
                </a:cubicBezTo>
                <a:cubicBezTo>
                  <a:pt x="14204" y="7737"/>
                  <a:pt x="14247" y="7739"/>
                  <a:pt x="14288" y="7739"/>
                </a:cubicBezTo>
              </a:path>
              <a:path w="1639" h="571">
                <a:moveTo>
                  <a:pt x="14635" y="7367"/>
                </a:moveTo>
                <a:cubicBezTo>
                  <a:pt x="14635" y="7350"/>
                  <a:pt x="14635" y="7334"/>
                  <a:pt x="14635" y="7317"/>
                </a:cubicBezTo>
                <a:cubicBezTo>
                  <a:pt x="14693" y="7356"/>
                  <a:pt x="14642" y="7421"/>
                  <a:pt x="14635" y="7491"/>
                </a:cubicBezTo>
                <a:cubicBezTo>
                  <a:pt x="14624" y="7602"/>
                  <a:pt x="14621" y="7736"/>
                  <a:pt x="14660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70000" y="2017800"/>
            <a:ext cx="160200" cy="144360"/>
          </a:xfrm>
          <a:custGeom>
            <a:avLst/>
            <a:gdLst/>
            <a:ahLst/>
            <a:rect l="l" t="t" r="r" b="b"/>
            <a:pathLst>
              <a:path w="448" h="398">
                <a:moveTo>
                  <a:pt x="3324" y="5755"/>
                </a:moveTo>
                <a:cubicBezTo>
                  <a:pt x="3311" y="5717"/>
                  <a:pt x="3294" y="5730"/>
                  <a:pt x="3249" y="5730"/>
                </a:cubicBezTo>
                <a:cubicBezTo>
                  <a:pt x="3262" y="5677"/>
                  <a:pt x="3286" y="5679"/>
                  <a:pt x="3324" y="5655"/>
                </a:cubicBezTo>
                <a:cubicBezTo>
                  <a:pt x="3354" y="5636"/>
                  <a:pt x="3404" y="5582"/>
                  <a:pt x="3448" y="5606"/>
                </a:cubicBezTo>
                <a:cubicBezTo>
                  <a:pt x="3502" y="5636"/>
                  <a:pt x="3497" y="5676"/>
                  <a:pt x="3497" y="5730"/>
                </a:cubicBezTo>
                <a:cubicBezTo>
                  <a:pt x="3497" y="5795"/>
                  <a:pt x="3477" y="5844"/>
                  <a:pt x="3473" y="5904"/>
                </a:cubicBezTo>
                <a:cubicBezTo>
                  <a:pt x="3470" y="5957"/>
                  <a:pt x="3463" y="5996"/>
                  <a:pt x="3522" y="6003"/>
                </a:cubicBezTo>
                <a:cubicBezTo>
                  <a:pt x="3535" y="6004"/>
                  <a:pt x="3608" y="5986"/>
                  <a:pt x="3621" y="5978"/>
                </a:cubicBezTo>
                <a:cubicBezTo>
                  <a:pt x="3649" y="5950"/>
                  <a:pt x="3663" y="5941"/>
                  <a:pt x="3696" y="59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571760" y="2027160"/>
            <a:ext cx="107640" cy="135000"/>
          </a:xfrm>
          <a:custGeom>
            <a:avLst/>
            <a:gdLst/>
            <a:ahLst/>
            <a:rect l="l" t="t" r="r" b="b"/>
            <a:pathLst>
              <a:path w="298" h="373">
                <a:moveTo>
                  <a:pt x="4390" y="5631"/>
                </a:moveTo>
                <a:cubicBezTo>
                  <a:pt x="4415" y="5631"/>
                  <a:pt x="4423" y="5631"/>
                  <a:pt x="4440" y="5631"/>
                </a:cubicBezTo>
                <a:cubicBezTo>
                  <a:pt x="4428" y="5677"/>
                  <a:pt x="4405" y="5731"/>
                  <a:pt x="4390" y="5779"/>
                </a:cubicBezTo>
                <a:cubicBezTo>
                  <a:pt x="4369" y="5843"/>
                  <a:pt x="4366" y="5885"/>
                  <a:pt x="4366" y="5953"/>
                </a:cubicBezTo>
                <a:cubicBezTo>
                  <a:pt x="4366" y="5961"/>
                  <a:pt x="4366" y="5970"/>
                  <a:pt x="4366" y="5978"/>
                </a:cubicBezTo>
                <a:cubicBezTo>
                  <a:pt x="4429" y="5978"/>
                  <a:pt x="4463" y="5970"/>
                  <a:pt x="4514" y="5953"/>
                </a:cubicBezTo>
                <a:cubicBezTo>
                  <a:pt x="4544" y="5943"/>
                  <a:pt x="4585" y="5931"/>
                  <a:pt x="4614" y="5928"/>
                </a:cubicBezTo>
                <a:cubicBezTo>
                  <a:pt x="4642" y="5928"/>
                  <a:pt x="4652" y="5926"/>
                  <a:pt x="4663" y="5904"/>
                </a:cubicBezTo>
              </a:path>
              <a:path w="298" h="373">
                <a:moveTo>
                  <a:pt x="4539" y="5829"/>
                </a:moveTo>
                <a:cubicBezTo>
                  <a:pt x="4531" y="5829"/>
                  <a:pt x="4522" y="5829"/>
                  <a:pt x="4514" y="5829"/>
                </a:cubicBezTo>
                <a:cubicBezTo>
                  <a:pt x="4501" y="5882"/>
                  <a:pt x="4490" y="5915"/>
                  <a:pt x="4490" y="5978"/>
                </a:cubicBezTo>
                <a:cubicBezTo>
                  <a:pt x="4490" y="5986"/>
                  <a:pt x="4490" y="5995"/>
                  <a:pt x="4490" y="60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000160" y="2017800"/>
            <a:ext cx="88920" cy="169920"/>
          </a:xfrm>
          <a:custGeom>
            <a:avLst/>
            <a:gdLst/>
            <a:ahLst/>
            <a:rect l="l" t="t" r="r" b="b"/>
            <a:pathLst>
              <a:path w="249" h="472">
                <a:moveTo>
                  <a:pt x="5655" y="5680"/>
                </a:moveTo>
                <a:cubicBezTo>
                  <a:pt x="5704" y="5668"/>
                  <a:pt x="5705" y="5656"/>
                  <a:pt x="5705" y="5606"/>
                </a:cubicBezTo>
                <a:cubicBezTo>
                  <a:pt x="5681" y="5614"/>
                  <a:pt x="5629" y="5672"/>
                  <a:pt x="5606" y="5705"/>
                </a:cubicBezTo>
                <a:cubicBezTo>
                  <a:pt x="5563" y="5767"/>
                  <a:pt x="5536" y="5853"/>
                  <a:pt x="5556" y="5928"/>
                </a:cubicBezTo>
                <a:cubicBezTo>
                  <a:pt x="5571" y="5984"/>
                  <a:pt x="5623" y="6062"/>
                  <a:pt x="5680" y="6077"/>
                </a:cubicBezTo>
                <a:cubicBezTo>
                  <a:pt x="5737" y="6092"/>
                  <a:pt x="5786" y="6080"/>
                  <a:pt x="5804" y="6028"/>
                </a:cubicBezTo>
                <a:cubicBezTo>
                  <a:pt x="5814" y="5999"/>
                  <a:pt x="5808" y="5943"/>
                  <a:pt x="5779" y="5928"/>
                </a:cubicBezTo>
                <a:cubicBezTo>
                  <a:pt x="5765" y="5921"/>
                  <a:pt x="5721" y="5928"/>
                  <a:pt x="5705" y="59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251000" y="2982960"/>
            <a:ext cx="320760" cy="152280"/>
          </a:xfrm>
          <a:custGeom>
            <a:avLst/>
            <a:gdLst/>
            <a:ahLst/>
            <a:rect l="l" t="t" r="r" b="b"/>
            <a:pathLst>
              <a:path w="894" h="422">
                <a:moveTo>
                  <a:pt x="3721" y="8558"/>
                </a:moveTo>
                <a:cubicBezTo>
                  <a:pt x="3653" y="8558"/>
                  <a:pt x="3611" y="8567"/>
                  <a:pt x="3547" y="8582"/>
                </a:cubicBezTo>
                <a:cubicBezTo>
                  <a:pt x="3517" y="8589"/>
                  <a:pt x="3502" y="8599"/>
                  <a:pt x="3473" y="8607"/>
                </a:cubicBezTo>
              </a:path>
              <a:path w="894" h="422">
                <a:moveTo>
                  <a:pt x="3894" y="8310"/>
                </a:moveTo>
                <a:cubicBezTo>
                  <a:pt x="3935" y="8290"/>
                  <a:pt x="3941" y="8281"/>
                  <a:pt x="3969" y="8285"/>
                </a:cubicBezTo>
                <a:cubicBezTo>
                  <a:pt x="3969" y="8349"/>
                  <a:pt x="3938" y="8547"/>
                  <a:pt x="3994" y="8582"/>
                </a:cubicBezTo>
                <a:cubicBezTo>
                  <a:pt x="4021" y="8599"/>
                  <a:pt x="4090" y="8560"/>
                  <a:pt x="4118" y="8558"/>
                </a:cubicBezTo>
                <a:cubicBezTo>
                  <a:pt x="4184" y="8553"/>
                  <a:pt x="4229" y="8549"/>
                  <a:pt x="4291" y="8533"/>
                </a:cubicBezTo>
                <a:cubicBezTo>
                  <a:pt x="4332" y="8523"/>
                  <a:pt x="4356" y="8528"/>
                  <a:pt x="4366" y="8558"/>
                </a:cubicBezTo>
              </a:path>
              <a:path w="894" h="422">
                <a:moveTo>
                  <a:pt x="4242" y="8458"/>
                </a:moveTo>
                <a:cubicBezTo>
                  <a:pt x="4202" y="8471"/>
                  <a:pt x="4217" y="8507"/>
                  <a:pt x="4217" y="8558"/>
                </a:cubicBezTo>
                <a:cubicBezTo>
                  <a:pt x="4217" y="8621"/>
                  <a:pt x="4220" y="8648"/>
                  <a:pt x="4242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12960" y="2946240"/>
            <a:ext cx="241200" cy="142920"/>
          </a:xfrm>
          <a:custGeom>
            <a:avLst/>
            <a:gdLst/>
            <a:ahLst/>
            <a:rect l="l" t="t" r="r" b="b"/>
            <a:pathLst>
              <a:path w="671" h="397">
                <a:moveTo>
                  <a:pt x="5259" y="8384"/>
                </a:moveTo>
                <a:cubicBezTo>
                  <a:pt x="5215" y="8384"/>
                  <a:pt x="5174" y="8393"/>
                  <a:pt x="5135" y="8409"/>
                </a:cubicBezTo>
                <a:cubicBezTo>
                  <a:pt x="5092" y="8426"/>
                  <a:pt x="5075" y="8448"/>
                  <a:pt x="5035" y="8458"/>
                </a:cubicBezTo>
              </a:path>
              <a:path w="671" h="397">
                <a:moveTo>
                  <a:pt x="5358" y="8186"/>
                </a:moveTo>
                <a:cubicBezTo>
                  <a:pt x="5383" y="8186"/>
                  <a:pt x="5391" y="8186"/>
                  <a:pt x="5407" y="8186"/>
                </a:cubicBezTo>
                <a:cubicBezTo>
                  <a:pt x="5407" y="8256"/>
                  <a:pt x="5396" y="8290"/>
                  <a:pt x="5383" y="8359"/>
                </a:cubicBezTo>
                <a:cubicBezTo>
                  <a:pt x="5374" y="8405"/>
                  <a:pt x="5383" y="8461"/>
                  <a:pt x="5383" y="8508"/>
                </a:cubicBezTo>
                <a:cubicBezTo>
                  <a:pt x="5419" y="8508"/>
                  <a:pt x="5456" y="8501"/>
                  <a:pt x="5482" y="8483"/>
                </a:cubicBezTo>
                <a:cubicBezTo>
                  <a:pt x="5522" y="8456"/>
                  <a:pt x="5531" y="8458"/>
                  <a:pt x="5581" y="8458"/>
                </a:cubicBezTo>
                <a:cubicBezTo>
                  <a:pt x="5615" y="8458"/>
                  <a:pt x="5642" y="8414"/>
                  <a:pt x="5680" y="8434"/>
                </a:cubicBezTo>
                <a:cubicBezTo>
                  <a:pt x="5688" y="8442"/>
                  <a:pt x="5697" y="8450"/>
                  <a:pt x="5705" y="8458"/>
                </a:cubicBezTo>
              </a:path>
              <a:path w="671" h="397">
                <a:moveTo>
                  <a:pt x="5606" y="8384"/>
                </a:moveTo>
                <a:cubicBezTo>
                  <a:pt x="5589" y="8384"/>
                  <a:pt x="5573" y="8384"/>
                  <a:pt x="5556" y="8384"/>
                </a:cubicBezTo>
                <a:cubicBezTo>
                  <a:pt x="5556" y="8450"/>
                  <a:pt x="5556" y="8516"/>
                  <a:pt x="5556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178000" y="2955960"/>
            <a:ext cx="295200" cy="160200"/>
          </a:xfrm>
          <a:custGeom>
            <a:avLst/>
            <a:gdLst/>
            <a:ahLst/>
            <a:rect l="l" t="t" r="r" b="b"/>
            <a:pathLst>
              <a:path w="820" h="448">
                <a:moveTo>
                  <a:pt x="6176" y="8409"/>
                </a:moveTo>
                <a:cubicBezTo>
                  <a:pt x="6184" y="8409"/>
                  <a:pt x="6193" y="8409"/>
                  <a:pt x="6201" y="8409"/>
                </a:cubicBezTo>
                <a:cubicBezTo>
                  <a:pt x="6171" y="8417"/>
                  <a:pt x="6127" y="8442"/>
                  <a:pt x="6102" y="8458"/>
                </a:cubicBezTo>
                <a:cubicBezTo>
                  <a:pt x="6079" y="8481"/>
                  <a:pt x="6075" y="8489"/>
                  <a:pt x="6052" y="8483"/>
                </a:cubicBezTo>
              </a:path>
              <a:path w="820" h="448">
                <a:moveTo>
                  <a:pt x="6424" y="8210"/>
                </a:moveTo>
                <a:cubicBezTo>
                  <a:pt x="6449" y="8210"/>
                  <a:pt x="6457" y="8210"/>
                  <a:pt x="6474" y="8210"/>
                </a:cubicBezTo>
                <a:cubicBezTo>
                  <a:pt x="6474" y="8315"/>
                  <a:pt x="6469" y="8418"/>
                  <a:pt x="6499" y="8508"/>
                </a:cubicBezTo>
                <a:cubicBezTo>
                  <a:pt x="6499" y="8516"/>
                  <a:pt x="6499" y="8525"/>
                  <a:pt x="6499" y="8533"/>
                </a:cubicBezTo>
                <a:cubicBezTo>
                  <a:pt x="6549" y="8533"/>
                  <a:pt x="6557" y="8522"/>
                  <a:pt x="6598" y="8508"/>
                </a:cubicBezTo>
                <a:cubicBezTo>
                  <a:pt x="6632" y="8497"/>
                  <a:pt x="6690" y="8485"/>
                  <a:pt x="6722" y="8483"/>
                </a:cubicBezTo>
                <a:cubicBezTo>
                  <a:pt x="6772" y="8479"/>
                  <a:pt x="6858" y="8468"/>
                  <a:pt x="6871" y="8508"/>
                </a:cubicBezTo>
              </a:path>
              <a:path w="820" h="448">
                <a:moveTo>
                  <a:pt x="6722" y="8359"/>
                </a:moveTo>
                <a:cubicBezTo>
                  <a:pt x="6697" y="8359"/>
                  <a:pt x="6689" y="8359"/>
                  <a:pt x="6672" y="8359"/>
                </a:cubicBezTo>
                <a:cubicBezTo>
                  <a:pt x="6672" y="8418"/>
                  <a:pt x="6636" y="8477"/>
                  <a:pt x="6648" y="8533"/>
                </a:cubicBezTo>
                <a:cubicBezTo>
                  <a:pt x="6658" y="8581"/>
                  <a:pt x="6672" y="8605"/>
                  <a:pt x="6672" y="86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55800" y="3205080"/>
            <a:ext cx="330120" cy="162000"/>
          </a:xfrm>
          <a:custGeom>
            <a:avLst/>
            <a:gdLst/>
            <a:ahLst/>
            <a:rect l="l" t="t" r="r" b="b"/>
            <a:pathLst>
              <a:path w="919" h="447">
                <a:moveTo>
                  <a:pt x="3001" y="9153"/>
                </a:moveTo>
                <a:cubicBezTo>
                  <a:pt x="2889" y="9153"/>
                  <a:pt x="2776" y="9149"/>
                  <a:pt x="2679" y="9178"/>
                </a:cubicBezTo>
                <a:cubicBezTo>
                  <a:pt x="2671" y="9178"/>
                  <a:pt x="2662" y="9178"/>
                  <a:pt x="2654" y="9178"/>
                </a:cubicBezTo>
              </a:path>
              <a:path w="919" h="447">
                <a:moveTo>
                  <a:pt x="3200" y="8930"/>
                </a:moveTo>
                <a:cubicBezTo>
                  <a:pt x="3222" y="8908"/>
                  <a:pt x="3227" y="8899"/>
                  <a:pt x="3249" y="8905"/>
                </a:cubicBezTo>
                <a:cubicBezTo>
                  <a:pt x="3249" y="8958"/>
                  <a:pt x="3248" y="8979"/>
                  <a:pt x="3225" y="9029"/>
                </a:cubicBezTo>
                <a:cubicBezTo>
                  <a:pt x="3196" y="9091"/>
                  <a:pt x="3200" y="9136"/>
                  <a:pt x="3200" y="9203"/>
                </a:cubicBezTo>
                <a:cubicBezTo>
                  <a:pt x="3200" y="9227"/>
                  <a:pt x="3200" y="9236"/>
                  <a:pt x="3200" y="9252"/>
                </a:cubicBezTo>
                <a:cubicBezTo>
                  <a:pt x="3247" y="9252"/>
                  <a:pt x="3263" y="9235"/>
                  <a:pt x="3299" y="9227"/>
                </a:cubicBezTo>
                <a:cubicBezTo>
                  <a:pt x="3354" y="9215"/>
                  <a:pt x="3558" y="9211"/>
                  <a:pt x="3572" y="9252"/>
                </a:cubicBezTo>
              </a:path>
              <a:path w="919" h="447">
                <a:moveTo>
                  <a:pt x="3448" y="9128"/>
                </a:moveTo>
                <a:cubicBezTo>
                  <a:pt x="3440" y="9128"/>
                  <a:pt x="3431" y="9128"/>
                  <a:pt x="3423" y="9128"/>
                </a:cubicBezTo>
                <a:cubicBezTo>
                  <a:pt x="3423" y="9193"/>
                  <a:pt x="3409" y="9249"/>
                  <a:pt x="3398" y="9302"/>
                </a:cubicBezTo>
                <a:cubicBezTo>
                  <a:pt x="3398" y="9318"/>
                  <a:pt x="3398" y="9335"/>
                  <a:pt x="3398" y="9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482840" y="3268800"/>
            <a:ext cx="71280" cy="9360"/>
          </a:xfrm>
          <a:custGeom>
            <a:avLst/>
            <a:gdLst/>
            <a:ahLst/>
            <a:rect l="l" t="t" r="r" b="b"/>
            <a:pathLst>
              <a:path w="199" h="25">
                <a:moveTo>
                  <a:pt x="4118" y="9079"/>
                </a:moveTo>
                <a:cubicBezTo>
                  <a:pt x="4155" y="9107"/>
                  <a:pt x="4170" y="9103"/>
                  <a:pt x="4217" y="9103"/>
                </a:cubicBezTo>
                <a:cubicBezTo>
                  <a:pt x="4250" y="9103"/>
                  <a:pt x="4283" y="9103"/>
                  <a:pt x="4316" y="91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77960" y="3205080"/>
            <a:ext cx="127080" cy="144720"/>
          </a:xfrm>
          <a:custGeom>
            <a:avLst/>
            <a:gdLst/>
            <a:ahLst/>
            <a:rect l="l" t="t" r="r" b="b"/>
            <a:pathLst>
              <a:path w="349" h="398">
                <a:moveTo>
                  <a:pt x="4887" y="8930"/>
                </a:moveTo>
                <a:cubicBezTo>
                  <a:pt x="4895" y="8930"/>
                  <a:pt x="4903" y="8930"/>
                  <a:pt x="4911" y="8930"/>
                </a:cubicBezTo>
                <a:cubicBezTo>
                  <a:pt x="4897" y="8888"/>
                  <a:pt x="4872" y="8900"/>
                  <a:pt x="4837" y="8930"/>
                </a:cubicBezTo>
                <a:cubicBezTo>
                  <a:pt x="4799" y="8963"/>
                  <a:pt x="4754" y="8967"/>
                  <a:pt x="4713" y="9004"/>
                </a:cubicBezTo>
                <a:cubicBezTo>
                  <a:pt x="4685" y="9030"/>
                  <a:pt x="4686" y="9049"/>
                  <a:pt x="4663" y="9079"/>
                </a:cubicBezTo>
                <a:cubicBezTo>
                  <a:pt x="4711" y="9113"/>
                  <a:pt x="4762" y="9103"/>
                  <a:pt x="4812" y="9128"/>
                </a:cubicBezTo>
                <a:cubicBezTo>
                  <a:pt x="4840" y="9142"/>
                  <a:pt x="4896" y="9169"/>
                  <a:pt x="4911" y="9203"/>
                </a:cubicBezTo>
                <a:cubicBezTo>
                  <a:pt x="4926" y="9238"/>
                  <a:pt x="4893" y="9288"/>
                  <a:pt x="4862" y="9302"/>
                </a:cubicBezTo>
                <a:cubicBezTo>
                  <a:pt x="4828" y="9317"/>
                  <a:pt x="4753" y="9302"/>
                  <a:pt x="4713" y="9302"/>
                </a:cubicBezTo>
                <a:cubicBezTo>
                  <a:pt x="4713" y="9246"/>
                  <a:pt x="4735" y="9229"/>
                  <a:pt x="4762" y="9178"/>
                </a:cubicBezTo>
                <a:cubicBezTo>
                  <a:pt x="4799" y="9107"/>
                  <a:pt x="4870" y="9027"/>
                  <a:pt x="4936" y="8979"/>
                </a:cubicBezTo>
                <a:cubicBezTo>
                  <a:pt x="4980" y="8957"/>
                  <a:pt x="4991" y="8954"/>
                  <a:pt x="5011" y="89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04840" y="2795760"/>
            <a:ext cx="804960" cy="482400"/>
          </a:xfrm>
          <a:custGeom>
            <a:avLst/>
            <a:gdLst/>
            <a:ahLst/>
            <a:rect l="l" t="t" r="r" b="b"/>
            <a:pathLst>
              <a:path w="2233" h="1340">
                <a:moveTo>
                  <a:pt x="2456" y="9103"/>
                </a:moveTo>
                <a:cubicBezTo>
                  <a:pt x="2395" y="9103"/>
                  <a:pt x="2358" y="9106"/>
                  <a:pt x="2307" y="9079"/>
                </a:cubicBezTo>
                <a:cubicBezTo>
                  <a:pt x="2267" y="9058"/>
                  <a:pt x="2222" y="9039"/>
                  <a:pt x="2183" y="9004"/>
                </a:cubicBezTo>
                <a:cubicBezTo>
                  <a:pt x="2140" y="8965"/>
                  <a:pt x="2111" y="8931"/>
                  <a:pt x="2084" y="8880"/>
                </a:cubicBezTo>
                <a:cubicBezTo>
                  <a:pt x="2047" y="8809"/>
                  <a:pt x="1999" y="8712"/>
                  <a:pt x="1984" y="8632"/>
                </a:cubicBezTo>
                <a:cubicBezTo>
                  <a:pt x="1967" y="8542"/>
                  <a:pt x="1970" y="8382"/>
                  <a:pt x="2009" y="8310"/>
                </a:cubicBezTo>
                <a:cubicBezTo>
                  <a:pt x="2040" y="8252"/>
                  <a:pt x="2024" y="8200"/>
                  <a:pt x="2084" y="8161"/>
                </a:cubicBezTo>
                <a:cubicBezTo>
                  <a:pt x="2142" y="8123"/>
                  <a:pt x="2171" y="8074"/>
                  <a:pt x="2232" y="8037"/>
                </a:cubicBezTo>
                <a:cubicBezTo>
                  <a:pt x="2287" y="8004"/>
                  <a:pt x="2351" y="7985"/>
                  <a:pt x="2406" y="7962"/>
                </a:cubicBezTo>
                <a:cubicBezTo>
                  <a:pt x="2471" y="7935"/>
                  <a:pt x="2512" y="7891"/>
                  <a:pt x="2580" y="7888"/>
                </a:cubicBezTo>
                <a:cubicBezTo>
                  <a:pt x="2633" y="7886"/>
                  <a:pt x="2659" y="7871"/>
                  <a:pt x="2704" y="7863"/>
                </a:cubicBezTo>
                <a:cubicBezTo>
                  <a:pt x="2743" y="7856"/>
                  <a:pt x="2759" y="7873"/>
                  <a:pt x="2778" y="7888"/>
                </a:cubicBezTo>
                <a:cubicBezTo>
                  <a:pt x="2786" y="7896"/>
                  <a:pt x="2795" y="7905"/>
                  <a:pt x="2803" y="7913"/>
                </a:cubicBezTo>
                <a:cubicBezTo>
                  <a:pt x="2796" y="7917"/>
                  <a:pt x="2733" y="7932"/>
                  <a:pt x="2729" y="7938"/>
                </a:cubicBezTo>
                <a:cubicBezTo>
                  <a:pt x="2690" y="7989"/>
                  <a:pt x="2695" y="8079"/>
                  <a:pt x="2679" y="8136"/>
                </a:cubicBezTo>
                <a:cubicBezTo>
                  <a:pt x="2664" y="8188"/>
                  <a:pt x="2622" y="8238"/>
                  <a:pt x="2604" y="8260"/>
                </a:cubicBezTo>
                <a:cubicBezTo>
                  <a:pt x="2604" y="8180"/>
                  <a:pt x="2600" y="8113"/>
                  <a:pt x="2629" y="8037"/>
                </a:cubicBezTo>
                <a:cubicBezTo>
                  <a:pt x="2652" y="7976"/>
                  <a:pt x="2690" y="7902"/>
                  <a:pt x="2704" y="7838"/>
                </a:cubicBezTo>
                <a:cubicBezTo>
                  <a:pt x="2714" y="7793"/>
                  <a:pt x="2703" y="7806"/>
                  <a:pt x="2729" y="7764"/>
                </a:cubicBezTo>
                <a:cubicBezTo>
                  <a:pt x="2679" y="7771"/>
                  <a:pt x="2656" y="7786"/>
                  <a:pt x="2604" y="7789"/>
                </a:cubicBezTo>
                <a:cubicBezTo>
                  <a:pt x="2542" y="7793"/>
                  <a:pt x="2513" y="7786"/>
                  <a:pt x="2456" y="7764"/>
                </a:cubicBezTo>
              </a:path>
              <a:path w="2233" h="1340">
                <a:moveTo>
                  <a:pt x="794" y="8359"/>
                </a:moveTo>
                <a:cubicBezTo>
                  <a:pt x="752" y="8359"/>
                  <a:pt x="729" y="8369"/>
                  <a:pt x="695" y="8384"/>
                </a:cubicBezTo>
                <a:cubicBezTo>
                  <a:pt x="645" y="8405"/>
                  <a:pt x="619" y="8446"/>
                  <a:pt x="571" y="8458"/>
                </a:cubicBezTo>
              </a:path>
              <a:path w="2233" h="1340">
                <a:moveTo>
                  <a:pt x="620" y="8285"/>
                </a:moveTo>
                <a:cubicBezTo>
                  <a:pt x="645" y="8236"/>
                  <a:pt x="656" y="8345"/>
                  <a:pt x="670" y="8384"/>
                </a:cubicBezTo>
                <a:cubicBezTo>
                  <a:pt x="695" y="8456"/>
                  <a:pt x="707" y="8533"/>
                  <a:pt x="719" y="8607"/>
                </a:cubicBezTo>
              </a:path>
              <a:path w="2233" h="1340">
                <a:moveTo>
                  <a:pt x="967" y="8210"/>
                </a:moveTo>
                <a:cubicBezTo>
                  <a:pt x="943" y="8235"/>
                  <a:pt x="935" y="8244"/>
                  <a:pt x="918" y="8260"/>
                </a:cubicBezTo>
                <a:cubicBezTo>
                  <a:pt x="918" y="8221"/>
                  <a:pt x="907" y="8186"/>
                  <a:pt x="943" y="8161"/>
                </a:cubicBezTo>
                <a:cubicBezTo>
                  <a:pt x="998" y="8122"/>
                  <a:pt x="1025" y="8111"/>
                  <a:pt x="1091" y="8111"/>
                </a:cubicBezTo>
                <a:cubicBezTo>
                  <a:pt x="1143" y="8111"/>
                  <a:pt x="1154" y="8193"/>
                  <a:pt x="1141" y="8235"/>
                </a:cubicBezTo>
                <a:cubicBezTo>
                  <a:pt x="1117" y="8318"/>
                  <a:pt x="1091" y="8369"/>
                  <a:pt x="1091" y="8458"/>
                </a:cubicBezTo>
                <a:cubicBezTo>
                  <a:pt x="1091" y="8491"/>
                  <a:pt x="1091" y="8508"/>
                  <a:pt x="1091" y="8533"/>
                </a:cubicBezTo>
                <a:cubicBezTo>
                  <a:pt x="1131" y="8523"/>
                  <a:pt x="1179" y="8485"/>
                  <a:pt x="1215" y="8458"/>
                </a:cubicBezTo>
                <a:cubicBezTo>
                  <a:pt x="1245" y="8429"/>
                  <a:pt x="1257" y="8415"/>
                  <a:pt x="1265" y="8384"/>
                </a:cubicBezTo>
              </a:path>
              <a:path w="2233" h="1340">
                <a:moveTo>
                  <a:pt x="1389" y="8086"/>
                </a:moveTo>
                <a:cubicBezTo>
                  <a:pt x="1465" y="8105"/>
                  <a:pt x="1453" y="8171"/>
                  <a:pt x="1488" y="8235"/>
                </a:cubicBezTo>
                <a:cubicBezTo>
                  <a:pt x="1505" y="8260"/>
                  <a:pt x="1521" y="8285"/>
                  <a:pt x="1538" y="83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3923" t="48435" r="6864" b="4556"/>
          <a:stretch/>
        </p:blipFill>
        <p:spPr>
          <a:xfrm>
            <a:off x="228600" y="152280"/>
            <a:ext cx="89154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7314" t="7568" r="3474" b="46137"/>
          <a:stretch/>
        </p:blipFill>
        <p:spPr>
          <a:xfrm>
            <a:off x="0" y="0"/>
            <a:ext cx="8839080" cy="6313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39840" y="1152360"/>
            <a:ext cx="142920" cy="241560"/>
          </a:xfrm>
          <a:custGeom>
            <a:avLst/>
            <a:gdLst/>
            <a:ahLst/>
            <a:rect l="l" t="t" r="r" b="b"/>
            <a:pathLst>
              <a:path w="397" h="671">
                <a:moveTo>
                  <a:pt x="992" y="3621"/>
                </a:moveTo>
                <a:cubicBezTo>
                  <a:pt x="992" y="3629"/>
                  <a:pt x="992" y="3638"/>
                  <a:pt x="992" y="3646"/>
                </a:cubicBezTo>
                <a:cubicBezTo>
                  <a:pt x="1030" y="3633"/>
                  <a:pt x="1017" y="3617"/>
                  <a:pt x="1017" y="3572"/>
                </a:cubicBezTo>
                <a:cubicBezTo>
                  <a:pt x="1017" y="3499"/>
                  <a:pt x="1062" y="3417"/>
                  <a:pt x="1091" y="3349"/>
                </a:cubicBezTo>
                <a:cubicBezTo>
                  <a:pt x="1113" y="3297"/>
                  <a:pt x="1135" y="3241"/>
                  <a:pt x="1166" y="3200"/>
                </a:cubicBezTo>
                <a:cubicBezTo>
                  <a:pt x="1235" y="3200"/>
                  <a:pt x="1256" y="3252"/>
                  <a:pt x="1265" y="3324"/>
                </a:cubicBezTo>
                <a:cubicBezTo>
                  <a:pt x="1283" y="3463"/>
                  <a:pt x="1302" y="3607"/>
                  <a:pt x="1315" y="3746"/>
                </a:cubicBezTo>
                <a:cubicBezTo>
                  <a:pt x="1315" y="3812"/>
                  <a:pt x="1315" y="3829"/>
                  <a:pt x="1315" y="3870"/>
                </a:cubicBezTo>
              </a:path>
              <a:path w="397" h="671">
                <a:moveTo>
                  <a:pt x="1315" y="3696"/>
                </a:moveTo>
                <a:cubicBezTo>
                  <a:pt x="1310" y="3629"/>
                  <a:pt x="1326" y="3553"/>
                  <a:pt x="1240" y="3547"/>
                </a:cubicBezTo>
                <a:cubicBezTo>
                  <a:pt x="1183" y="3543"/>
                  <a:pt x="1124" y="3547"/>
                  <a:pt x="1067" y="3547"/>
                </a:cubicBezTo>
              </a:path>
              <a:path w="397" h="671">
                <a:moveTo>
                  <a:pt x="1290" y="3597"/>
                </a:moveTo>
                <a:cubicBezTo>
                  <a:pt x="1290" y="3572"/>
                  <a:pt x="1290" y="3547"/>
                  <a:pt x="1290" y="3522"/>
                </a:cubicBezTo>
                <a:cubicBezTo>
                  <a:pt x="1245" y="3462"/>
                  <a:pt x="1258" y="3480"/>
                  <a:pt x="1290" y="3547"/>
                </a:cubicBezTo>
                <a:cubicBezTo>
                  <a:pt x="1323" y="3616"/>
                  <a:pt x="1339" y="3670"/>
                  <a:pt x="1339" y="3746"/>
                </a:cubicBezTo>
                <a:cubicBezTo>
                  <a:pt x="1288" y="3667"/>
                  <a:pt x="1246" y="3579"/>
                  <a:pt x="1191" y="3497"/>
                </a:cubicBezTo>
                <a:cubicBezTo>
                  <a:pt x="1154" y="3442"/>
                  <a:pt x="1128" y="3410"/>
                  <a:pt x="1116" y="3349"/>
                </a:cubicBezTo>
                <a:cubicBezTo>
                  <a:pt x="1127" y="3461"/>
                  <a:pt x="1162" y="3558"/>
                  <a:pt x="1166" y="3671"/>
                </a:cubicBezTo>
                <a:cubicBezTo>
                  <a:pt x="1166" y="3696"/>
                  <a:pt x="1166" y="3721"/>
                  <a:pt x="1166" y="3746"/>
                </a:cubicBezTo>
                <a:cubicBezTo>
                  <a:pt x="1067" y="3746"/>
                  <a:pt x="1046" y="3707"/>
                  <a:pt x="992" y="3621"/>
                </a:cubicBezTo>
                <a:cubicBezTo>
                  <a:pt x="981" y="3603"/>
                  <a:pt x="909" y="3473"/>
                  <a:pt x="943" y="3522"/>
                </a:cubicBezTo>
                <a:cubicBezTo>
                  <a:pt x="974" y="3567"/>
                  <a:pt x="1005" y="3604"/>
                  <a:pt x="1042" y="36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4760" y="1571760"/>
            <a:ext cx="598320" cy="544320"/>
          </a:xfrm>
          <a:custGeom>
            <a:avLst/>
            <a:gdLst/>
            <a:ahLst/>
            <a:rect l="l" t="t" r="r" b="b"/>
            <a:pathLst>
              <a:path w="1663" h="1514">
                <a:moveTo>
                  <a:pt x="1215" y="4787"/>
                </a:moveTo>
                <a:cubicBezTo>
                  <a:pt x="1215" y="4842"/>
                  <a:pt x="1185" y="4950"/>
                  <a:pt x="1215" y="4862"/>
                </a:cubicBezTo>
                <a:cubicBezTo>
                  <a:pt x="1240" y="4787"/>
                  <a:pt x="1298" y="4716"/>
                  <a:pt x="1315" y="4638"/>
                </a:cubicBezTo>
                <a:cubicBezTo>
                  <a:pt x="1315" y="4594"/>
                  <a:pt x="1312" y="4581"/>
                  <a:pt x="1339" y="4564"/>
                </a:cubicBezTo>
                <a:cubicBezTo>
                  <a:pt x="1380" y="4605"/>
                  <a:pt x="1388" y="4645"/>
                  <a:pt x="1414" y="4688"/>
                </a:cubicBezTo>
                <a:cubicBezTo>
                  <a:pt x="1422" y="4696"/>
                  <a:pt x="1431" y="4705"/>
                  <a:pt x="1439" y="4713"/>
                </a:cubicBezTo>
                <a:cubicBezTo>
                  <a:pt x="1457" y="4701"/>
                  <a:pt x="1503" y="4608"/>
                  <a:pt x="1513" y="4564"/>
                </a:cubicBezTo>
                <a:cubicBezTo>
                  <a:pt x="1527" y="4501"/>
                  <a:pt x="1518" y="4458"/>
                  <a:pt x="1588" y="4440"/>
                </a:cubicBezTo>
                <a:cubicBezTo>
                  <a:pt x="1627" y="4500"/>
                  <a:pt x="1673" y="4589"/>
                  <a:pt x="1687" y="4663"/>
                </a:cubicBezTo>
                <a:cubicBezTo>
                  <a:pt x="1695" y="4706"/>
                  <a:pt x="1703" y="4745"/>
                  <a:pt x="1712" y="4787"/>
                </a:cubicBezTo>
              </a:path>
              <a:path w="1663" h="1514">
                <a:moveTo>
                  <a:pt x="2108" y="4564"/>
                </a:moveTo>
                <a:cubicBezTo>
                  <a:pt x="2116" y="4564"/>
                  <a:pt x="2125" y="4564"/>
                  <a:pt x="2133" y="4564"/>
                </a:cubicBezTo>
                <a:cubicBezTo>
                  <a:pt x="2088" y="4584"/>
                  <a:pt x="2052" y="4603"/>
                  <a:pt x="2009" y="4614"/>
                </a:cubicBezTo>
              </a:path>
              <a:path w="1663" h="1514">
                <a:moveTo>
                  <a:pt x="2108" y="4688"/>
                </a:moveTo>
                <a:cubicBezTo>
                  <a:pt x="2116" y="4688"/>
                  <a:pt x="2125" y="4688"/>
                  <a:pt x="2133" y="4688"/>
                </a:cubicBezTo>
                <a:cubicBezTo>
                  <a:pt x="2115" y="4743"/>
                  <a:pt x="2088" y="4690"/>
                  <a:pt x="2034" y="4713"/>
                </a:cubicBezTo>
                <a:cubicBezTo>
                  <a:pt x="2026" y="4721"/>
                  <a:pt x="2017" y="4730"/>
                  <a:pt x="2009" y="4738"/>
                </a:cubicBezTo>
              </a:path>
              <a:path w="1663" h="1514">
                <a:moveTo>
                  <a:pt x="2431" y="4638"/>
                </a:moveTo>
                <a:cubicBezTo>
                  <a:pt x="2420" y="4606"/>
                  <a:pt x="2391" y="4608"/>
                  <a:pt x="2381" y="4589"/>
                </a:cubicBezTo>
                <a:cubicBezTo>
                  <a:pt x="2363" y="4553"/>
                  <a:pt x="2384" y="4490"/>
                  <a:pt x="2406" y="4465"/>
                </a:cubicBezTo>
                <a:cubicBezTo>
                  <a:pt x="2444" y="4422"/>
                  <a:pt x="2498" y="4378"/>
                  <a:pt x="2555" y="4366"/>
                </a:cubicBezTo>
                <a:cubicBezTo>
                  <a:pt x="2643" y="4347"/>
                  <a:pt x="2658" y="4436"/>
                  <a:pt x="2679" y="4490"/>
                </a:cubicBezTo>
                <a:cubicBezTo>
                  <a:pt x="2697" y="4536"/>
                  <a:pt x="2724" y="4622"/>
                  <a:pt x="2679" y="4663"/>
                </a:cubicBezTo>
                <a:cubicBezTo>
                  <a:pt x="2640" y="4698"/>
                  <a:pt x="2454" y="4722"/>
                  <a:pt x="2406" y="4713"/>
                </a:cubicBezTo>
                <a:cubicBezTo>
                  <a:pt x="2369" y="4706"/>
                  <a:pt x="2335" y="4684"/>
                  <a:pt x="2307" y="4663"/>
                </a:cubicBezTo>
              </a:path>
              <a:path w="1663" h="1514">
                <a:moveTo>
                  <a:pt x="2431" y="4713"/>
                </a:moveTo>
                <a:cubicBezTo>
                  <a:pt x="2490" y="4728"/>
                  <a:pt x="2480" y="4752"/>
                  <a:pt x="2480" y="4812"/>
                </a:cubicBezTo>
                <a:cubicBezTo>
                  <a:pt x="2480" y="4862"/>
                  <a:pt x="2480" y="4878"/>
                  <a:pt x="2480" y="4911"/>
                </a:cubicBezTo>
              </a:path>
              <a:path w="1663" h="1514">
                <a:moveTo>
                  <a:pt x="1042" y="5804"/>
                </a:moveTo>
                <a:cubicBezTo>
                  <a:pt x="1062" y="5831"/>
                  <a:pt x="1067" y="5899"/>
                  <a:pt x="1067" y="5854"/>
                </a:cubicBezTo>
                <a:cubicBezTo>
                  <a:pt x="1067" y="5783"/>
                  <a:pt x="1046" y="5724"/>
                  <a:pt x="1042" y="5655"/>
                </a:cubicBezTo>
                <a:cubicBezTo>
                  <a:pt x="1039" y="5598"/>
                  <a:pt x="1042" y="5540"/>
                  <a:pt x="1042" y="5482"/>
                </a:cubicBezTo>
                <a:cubicBezTo>
                  <a:pt x="1094" y="5495"/>
                  <a:pt x="1132" y="5561"/>
                  <a:pt x="1166" y="5606"/>
                </a:cubicBezTo>
                <a:cubicBezTo>
                  <a:pt x="1224" y="5685"/>
                  <a:pt x="1258" y="5780"/>
                  <a:pt x="1364" y="5804"/>
                </a:cubicBezTo>
                <a:cubicBezTo>
                  <a:pt x="1381" y="5804"/>
                  <a:pt x="1397" y="5804"/>
                  <a:pt x="1414" y="5804"/>
                </a:cubicBezTo>
                <a:cubicBezTo>
                  <a:pt x="1456" y="5735"/>
                  <a:pt x="1443" y="5661"/>
                  <a:pt x="1414" y="5581"/>
                </a:cubicBezTo>
                <a:cubicBezTo>
                  <a:pt x="1395" y="5530"/>
                  <a:pt x="1369" y="5472"/>
                  <a:pt x="1339" y="5432"/>
                </a:cubicBezTo>
              </a:path>
              <a:path w="1663" h="1514">
                <a:moveTo>
                  <a:pt x="1935" y="5556"/>
                </a:moveTo>
                <a:cubicBezTo>
                  <a:pt x="1943" y="5556"/>
                  <a:pt x="1952" y="5556"/>
                  <a:pt x="1960" y="5556"/>
                </a:cubicBezTo>
                <a:cubicBezTo>
                  <a:pt x="1949" y="5523"/>
                  <a:pt x="1906" y="5516"/>
                  <a:pt x="1860" y="5531"/>
                </a:cubicBezTo>
                <a:cubicBezTo>
                  <a:pt x="1809" y="5548"/>
                  <a:pt x="1810" y="5556"/>
                  <a:pt x="1761" y="5556"/>
                </a:cubicBezTo>
              </a:path>
              <a:path w="1663" h="1514">
                <a:moveTo>
                  <a:pt x="1910" y="5655"/>
                </a:moveTo>
                <a:cubicBezTo>
                  <a:pt x="1834" y="5655"/>
                  <a:pt x="1780" y="5650"/>
                  <a:pt x="1712" y="5680"/>
                </a:cubicBezTo>
              </a:path>
              <a:path w="1663" h="1514">
                <a:moveTo>
                  <a:pt x="2208" y="5457"/>
                </a:moveTo>
                <a:cubicBezTo>
                  <a:pt x="2208" y="5390"/>
                  <a:pt x="2208" y="5496"/>
                  <a:pt x="2208" y="5507"/>
                </a:cubicBezTo>
                <a:cubicBezTo>
                  <a:pt x="2208" y="5590"/>
                  <a:pt x="2208" y="5672"/>
                  <a:pt x="2208" y="5755"/>
                </a:cubicBezTo>
              </a:path>
              <a:path w="1663" h="1514">
                <a:moveTo>
                  <a:pt x="2183" y="5407"/>
                </a:moveTo>
                <a:cubicBezTo>
                  <a:pt x="2183" y="5365"/>
                  <a:pt x="2160" y="5234"/>
                  <a:pt x="2208" y="5209"/>
                </a:cubicBezTo>
                <a:cubicBezTo>
                  <a:pt x="2243" y="5191"/>
                  <a:pt x="2334" y="5202"/>
                  <a:pt x="2356" y="5234"/>
                </a:cubicBezTo>
                <a:cubicBezTo>
                  <a:pt x="2391" y="5285"/>
                  <a:pt x="2393" y="5337"/>
                  <a:pt x="2356" y="5383"/>
                </a:cubicBezTo>
                <a:cubicBezTo>
                  <a:pt x="2331" y="5415"/>
                  <a:pt x="2269" y="5436"/>
                  <a:pt x="2232" y="54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89000" y="1500120"/>
            <a:ext cx="179280" cy="652680"/>
          </a:xfrm>
          <a:custGeom>
            <a:avLst/>
            <a:gdLst/>
            <a:ahLst/>
            <a:rect l="l" t="t" r="r" b="b"/>
            <a:pathLst>
              <a:path w="497" h="1812">
                <a:moveTo>
                  <a:pt x="3175" y="4242"/>
                </a:moveTo>
                <a:cubicBezTo>
                  <a:pt x="3158" y="4225"/>
                  <a:pt x="3142" y="4209"/>
                  <a:pt x="3125" y="4192"/>
                </a:cubicBezTo>
                <a:cubicBezTo>
                  <a:pt x="3168" y="4177"/>
                  <a:pt x="3194" y="4157"/>
                  <a:pt x="3249" y="4167"/>
                </a:cubicBezTo>
                <a:cubicBezTo>
                  <a:pt x="3302" y="4176"/>
                  <a:pt x="3354" y="4209"/>
                  <a:pt x="3398" y="4242"/>
                </a:cubicBezTo>
                <a:cubicBezTo>
                  <a:pt x="3460" y="4288"/>
                  <a:pt x="3506" y="4364"/>
                  <a:pt x="3522" y="4440"/>
                </a:cubicBezTo>
                <a:cubicBezTo>
                  <a:pt x="3529" y="4476"/>
                  <a:pt x="3518" y="4591"/>
                  <a:pt x="3497" y="4614"/>
                </a:cubicBezTo>
                <a:cubicBezTo>
                  <a:pt x="3454" y="4660"/>
                  <a:pt x="3402" y="4699"/>
                  <a:pt x="3349" y="4738"/>
                </a:cubicBezTo>
                <a:cubicBezTo>
                  <a:pt x="3336" y="4748"/>
                  <a:pt x="3249" y="4836"/>
                  <a:pt x="3249" y="4837"/>
                </a:cubicBezTo>
                <a:cubicBezTo>
                  <a:pt x="3227" y="4884"/>
                  <a:pt x="3262" y="4922"/>
                  <a:pt x="3274" y="4936"/>
                </a:cubicBezTo>
                <a:cubicBezTo>
                  <a:pt x="3300" y="4968"/>
                  <a:pt x="3340" y="4978"/>
                  <a:pt x="3373" y="5011"/>
                </a:cubicBezTo>
                <a:cubicBezTo>
                  <a:pt x="3401" y="5039"/>
                  <a:pt x="3417" y="5035"/>
                  <a:pt x="3448" y="5060"/>
                </a:cubicBezTo>
                <a:cubicBezTo>
                  <a:pt x="3420" y="5076"/>
                  <a:pt x="3376" y="5096"/>
                  <a:pt x="3324" y="5110"/>
                </a:cubicBezTo>
                <a:cubicBezTo>
                  <a:pt x="3293" y="5118"/>
                  <a:pt x="3231" y="5142"/>
                  <a:pt x="3225" y="5159"/>
                </a:cubicBezTo>
                <a:cubicBezTo>
                  <a:pt x="3212" y="5196"/>
                  <a:pt x="3228" y="5233"/>
                  <a:pt x="3249" y="5259"/>
                </a:cubicBezTo>
                <a:cubicBezTo>
                  <a:pt x="3300" y="5322"/>
                  <a:pt x="3348" y="5378"/>
                  <a:pt x="3373" y="5457"/>
                </a:cubicBezTo>
                <a:cubicBezTo>
                  <a:pt x="3401" y="5545"/>
                  <a:pt x="3431" y="5741"/>
                  <a:pt x="3398" y="5829"/>
                </a:cubicBezTo>
                <a:cubicBezTo>
                  <a:pt x="3372" y="5899"/>
                  <a:pt x="3243" y="5967"/>
                  <a:pt x="3175" y="5978"/>
                </a:cubicBezTo>
                <a:cubicBezTo>
                  <a:pt x="3102" y="5990"/>
                  <a:pt x="3084" y="5961"/>
                  <a:pt x="3026" y="59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11200" y="1687680"/>
            <a:ext cx="1044720" cy="233280"/>
          </a:xfrm>
          <a:custGeom>
            <a:avLst/>
            <a:gdLst/>
            <a:ahLst/>
            <a:rect l="l" t="t" r="r" b="b"/>
            <a:pathLst>
              <a:path w="2903" h="646">
                <a:moveTo>
                  <a:pt x="4118" y="4986"/>
                </a:moveTo>
                <a:cubicBezTo>
                  <a:pt x="4102" y="4938"/>
                  <a:pt x="4065" y="4964"/>
                  <a:pt x="4018" y="4986"/>
                </a:cubicBezTo>
                <a:cubicBezTo>
                  <a:pt x="3964" y="5012"/>
                  <a:pt x="3898" y="5090"/>
                  <a:pt x="3919" y="5159"/>
                </a:cubicBezTo>
                <a:cubicBezTo>
                  <a:pt x="3927" y="5167"/>
                  <a:pt x="3936" y="5176"/>
                  <a:pt x="3944" y="5184"/>
                </a:cubicBezTo>
                <a:cubicBezTo>
                  <a:pt x="3991" y="5172"/>
                  <a:pt x="4000" y="5129"/>
                  <a:pt x="4043" y="5110"/>
                </a:cubicBezTo>
                <a:cubicBezTo>
                  <a:pt x="4082" y="5093"/>
                  <a:pt x="4123" y="5129"/>
                  <a:pt x="4142" y="5159"/>
                </a:cubicBezTo>
                <a:cubicBezTo>
                  <a:pt x="4164" y="5203"/>
                  <a:pt x="4167" y="5215"/>
                  <a:pt x="4192" y="5234"/>
                </a:cubicBezTo>
              </a:path>
              <a:path w="2903" h="646">
                <a:moveTo>
                  <a:pt x="4415" y="4713"/>
                </a:moveTo>
                <a:cubicBezTo>
                  <a:pt x="4415" y="4688"/>
                  <a:pt x="4415" y="4680"/>
                  <a:pt x="4440" y="4688"/>
                </a:cubicBezTo>
                <a:cubicBezTo>
                  <a:pt x="4440" y="4753"/>
                  <a:pt x="4418" y="4799"/>
                  <a:pt x="4415" y="4862"/>
                </a:cubicBezTo>
                <a:cubicBezTo>
                  <a:pt x="4411" y="4945"/>
                  <a:pt x="4414" y="5034"/>
                  <a:pt x="4440" y="5110"/>
                </a:cubicBezTo>
                <a:cubicBezTo>
                  <a:pt x="4457" y="5161"/>
                  <a:pt x="4465" y="5160"/>
                  <a:pt x="4465" y="5209"/>
                </a:cubicBezTo>
              </a:path>
              <a:path w="2903" h="646">
                <a:moveTo>
                  <a:pt x="4614" y="4887"/>
                </a:moveTo>
                <a:cubicBezTo>
                  <a:pt x="4634" y="4846"/>
                  <a:pt x="4631" y="4829"/>
                  <a:pt x="4663" y="4837"/>
                </a:cubicBezTo>
                <a:cubicBezTo>
                  <a:pt x="4663" y="4894"/>
                  <a:pt x="4647" y="4933"/>
                  <a:pt x="4638" y="4986"/>
                </a:cubicBezTo>
                <a:cubicBezTo>
                  <a:pt x="4627" y="5054"/>
                  <a:pt x="4626" y="5150"/>
                  <a:pt x="4663" y="5209"/>
                </a:cubicBezTo>
                <a:cubicBezTo>
                  <a:pt x="4683" y="5241"/>
                  <a:pt x="4707" y="5251"/>
                  <a:pt x="4738" y="5259"/>
                </a:cubicBezTo>
              </a:path>
              <a:path w="2903" h="646">
                <a:moveTo>
                  <a:pt x="4837" y="5060"/>
                </a:moveTo>
                <a:cubicBezTo>
                  <a:pt x="4798" y="5022"/>
                  <a:pt x="4781" y="5020"/>
                  <a:pt x="4787" y="4986"/>
                </a:cubicBezTo>
                <a:cubicBezTo>
                  <a:pt x="4732" y="4986"/>
                  <a:pt x="4716" y="4998"/>
                  <a:pt x="4663" y="5011"/>
                </a:cubicBezTo>
                <a:cubicBezTo>
                  <a:pt x="4642" y="5016"/>
                  <a:pt x="4611" y="5011"/>
                  <a:pt x="4589" y="5011"/>
                </a:cubicBezTo>
              </a:path>
              <a:path w="2903" h="646">
                <a:moveTo>
                  <a:pt x="4787" y="5060"/>
                </a:moveTo>
                <a:cubicBezTo>
                  <a:pt x="4844" y="5084"/>
                  <a:pt x="4864" y="5102"/>
                  <a:pt x="4911" y="5060"/>
                </a:cubicBezTo>
                <a:cubicBezTo>
                  <a:pt x="4939" y="5035"/>
                  <a:pt x="4956" y="4984"/>
                  <a:pt x="4911" y="4961"/>
                </a:cubicBezTo>
                <a:cubicBezTo>
                  <a:pt x="4903" y="4961"/>
                  <a:pt x="4895" y="4961"/>
                  <a:pt x="4887" y="4961"/>
                </a:cubicBezTo>
                <a:cubicBezTo>
                  <a:pt x="4866" y="4975"/>
                  <a:pt x="4822" y="5060"/>
                  <a:pt x="4837" y="5110"/>
                </a:cubicBezTo>
                <a:cubicBezTo>
                  <a:pt x="4846" y="5138"/>
                  <a:pt x="4904" y="5220"/>
                  <a:pt x="4936" y="5234"/>
                </a:cubicBezTo>
                <a:cubicBezTo>
                  <a:pt x="4976" y="5252"/>
                  <a:pt x="5006" y="5227"/>
                  <a:pt x="5035" y="5209"/>
                </a:cubicBezTo>
              </a:path>
              <a:path w="2903" h="646">
                <a:moveTo>
                  <a:pt x="5135" y="5184"/>
                </a:moveTo>
                <a:cubicBezTo>
                  <a:pt x="5135" y="5144"/>
                  <a:pt x="5117" y="5056"/>
                  <a:pt x="5159" y="5035"/>
                </a:cubicBezTo>
                <a:cubicBezTo>
                  <a:pt x="5187" y="5035"/>
                  <a:pt x="5198" y="5033"/>
                  <a:pt x="5209" y="5011"/>
                </a:cubicBezTo>
              </a:path>
              <a:path w="2903" h="646">
                <a:moveTo>
                  <a:pt x="5383" y="5110"/>
                </a:moveTo>
                <a:cubicBezTo>
                  <a:pt x="5351" y="5152"/>
                  <a:pt x="5358" y="5178"/>
                  <a:pt x="5358" y="5234"/>
                </a:cubicBezTo>
                <a:cubicBezTo>
                  <a:pt x="5358" y="5259"/>
                  <a:pt x="5358" y="5267"/>
                  <a:pt x="5358" y="5283"/>
                </a:cubicBezTo>
                <a:cubicBezTo>
                  <a:pt x="5435" y="5264"/>
                  <a:pt x="5405" y="5216"/>
                  <a:pt x="5432" y="5159"/>
                </a:cubicBezTo>
                <a:cubicBezTo>
                  <a:pt x="5449" y="5124"/>
                  <a:pt x="5473" y="5103"/>
                  <a:pt x="5482" y="5060"/>
                </a:cubicBezTo>
                <a:cubicBezTo>
                  <a:pt x="5519" y="5069"/>
                  <a:pt x="5557" y="5099"/>
                  <a:pt x="5581" y="5135"/>
                </a:cubicBezTo>
                <a:cubicBezTo>
                  <a:pt x="5607" y="5176"/>
                  <a:pt x="5622" y="5200"/>
                  <a:pt x="5655" y="5234"/>
                </a:cubicBezTo>
              </a:path>
              <a:path w="2903" h="646">
                <a:moveTo>
                  <a:pt x="5854" y="5085"/>
                </a:moveTo>
                <a:cubicBezTo>
                  <a:pt x="5854" y="5060"/>
                  <a:pt x="5854" y="5052"/>
                  <a:pt x="5854" y="5035"/>
                </a:cubicBezTo>
                <a:cubicBezTo>
                  <a:pt x="5828" y="5044"/>
                  <a:pt x="5794" y="5098"/>
                  <a:pt x="5779" y="5135"/>
                </a:cubicBezTo>
                <a:cubicBezTo>
                  <a:pt x="5762" y="5177"/>
                  <a:pt x="5782" y="5195"/>
                  <a:pt x="5804" y="5209"/>
                </a:cubicBezTo>
                <a:cubicBezTo>
                  <a:pt x="5842" y="5196"/>
                  <a:pt x="5825" y="5184"/>
                  <a:pt x="5879" y="5184"/>
                </a:cubicBezTo>
                <a:cubicBezTo>
                  <a:pt x="5930" y="5184"/>
                  <a:pt x="5943" y="5234"/>
                  <a:pt x="6003" y="5234"/>
                </a:cubicBezTo>
                <a:cubicBezTo>
                  <a:pt x="6048" y="5234"/>
                  <a:pt x="6087" y="5189"/>
                  <a:pt x="6102" y="5159"/>
                </a:cubicBezTo>
                <a:cubicBezTo>
                  <a:pt x="6136" y="5092"/>
                  <a:pt x="6137" y="5007"/>
                  <a:pt x="6152" y="4936"/>
                </a:cubicBezTo>
                <a:cubicBezTo>
                  <a:pt x="6152" y="4908"/>
                  <a:pt x="6154" y="4898"/>
                  <a:pt x="6176" y="4887"/>
                </a:cubicBezTo>
                <a:cubicBezTo>
                  <a:pt x="6176" y="4957"/>
                  <a:pt x="6198" y="5016"/>
                  <a:pt x="6201" y="5085"/>
                </a:cubicBezTo>
                <a:cubicBezTo>
                  <a:pt x="6204" y="5164"/>
                  <a:pt x="6213" y="5245"/>
                  <a:pt x="6251" y="5308"/>
                </a:cubicBezTo>
              </a:path>
              <a:path w="2903" h="646">
                <a:moveTo>
                  <a:pt x="6350" y="5159"/>
                </a:moveTo>
                <a:cubicBezTo>
                  <a:pt x="6350" y="5118"/>
                  <a:pt x="6350" y="5110"/>
                  <a:pt x="6350" y="5085"/>
                </a:cubicBezTo>
                <a:cubicBezTo>
                  <a:pt x="6274" y="5085"/>
                  <a:pt x="6223" y="5093"/>
                  <a:pt x="6152" y="5110"/>
                </a:cubicBezTo>
                <a:cubicBezTo>
                  <a:pt x="6144" y="5110"/>
                  <a:pt x="6135" y="5110"/>
                  <a:pt x="6127" y="5110"/>
                </a:cubicBezTo>
              </a:path>
              <a:path w="2903" h="646">
                <a:moveTo>
                  <a:pt x="6251" y="5184"/>
                </a:moveTo>
                <a:cubicBezTo>
                  <a:pt x="6342" y="5184"/>
                  <a:pt x="6416" y="5197"/>
                  <a:pt x="6474" y="5110"/>
                </a:cubicBezTo>
                <a:cubicBezTo>
                  <a:pt x="6501" y="5070"/>
                  <a:pt x="6467" y="4998"/>
                  <a:pt x="6449" y="4986"/>
                </a:cubicBezTo>
                <a:cubicBezTo>
                  <a:pt x="6415" y="5043"/>
                  <a:pt x="6405" y="5120"/>
                  <a:pt x="6449" y="5184"/>
                </a:cubicBezTo>
                <a:cubicBezTo>
                  <a:pt x="6498" y="5255"/>
                  <a:pt x="6585" y="5320"/>
                  <a:pt x="6672" y="5333"/>
                </a:cubicBezTo>
                <a:cubicBezTo>
                  <a:pt x="6747" y="5333"/>
                  <a:pt x="6771" y="5333"/>
                  <a:pt x="6821" y="53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3920" y="2286000"/>
            <a:ext cx="339480" cy="135000"/>
          </a:xfrm>
          <a:custGeom>
            <a:avLst/>
            <a:gdLst/>
            <a:ahLst/>
            <a:rect l="l" t="t" r="r" b="b"/>
            <a:pathLst>
              <a:path w="944" h="373">
                <a:moveTo>
                  <a:pt x="620" y="6672"/>
                </a:moveTo>
                <a:cubicBezTo>
                  <a:pt x="620" y="6697"/>
                  <a:pt x="620" y="6705"/>
                  <a:pt x="620" y="6722"/>
                </a:cubicBezTo>
                <a:cubicBezTo>
                  <a:pt x="620" y="6652"/>
                  <a:pt x="635" y="6617"/>
                  <a:pt x="645" y="6548"/>
                </a:cubicBezTo>
                <a:cubicBezTo>
                  <a:pt x="655" y="6484"/>
                  <a:pt x="663" y="6427"/>
                  <a:pt x="695" y="6375"/>
                </a:cubicBezTo>
                <a:cubicBezTo>
                  <a:pt x="745" y="6392"/>
                  <a:pt x="722" y="6451"/>
                  <a:pt x="744" y="6499"/>
                </a:cubicBezTo>
                <a:cubicBezTo>
                  <a:pt x="760" y="6533"/>
                  <a:pt x="769" y="6540"/>
                  <a:pt x="794" y="6548"/>
                </a:cubicBezTo>
                <a:cubicBezTo>
                  <a:pt x="794" y="6477"/>
                  <a:pt x="800" y="6432"/>
                  <a:pt x="819" y="6375"/>
                </a:cubicBezTo>
                <a:cubicBezTo>
                  <a:pt x="819" y="6350"/>
                  <a:pt x="819" y="6342"/>
                  <a:pt x="843" y="6350"/>
                </a:cubicBezTo>
                <a:cubicBezTo>
                  <a:pt x="869" y="6419"/>
                  <a:pt x="883" y="6479"/>
                  <a:pt x="918" y="6548"/>
                </a:cubicBezTo>
                <a:cubicBezTo>
                  <a:pt x="938" y="6589"/>
                  <a:pt x="947" y="6595"/>
                  <a:pt x="943" y="6623"/>
                </a:cubicBezTo>
              </a:path>
              <a:path w="944" h="373">
                <a:moveTo>
                  <a:pt x="1067" y="6524"/>
                </a:moveTo>
                <a:cubicBezTo>
                  <a:pt x="1054" y="6484"/>
                  <a:pt x="1055" y="6514"/>
                  <a:pt x="1042" y="6474"/>
                </a:cubicBezTo>
                <a:cubicBezTo>
                  <a:pt x="1054" y="6439"/>
                  <a:pt x="1103" y="6433"/>
                  <a:pt x="1141" y="6474"/>
                </a:cubicBezTo>
                <a:cubicBezTo>
                  <a:pt x="1173" y="6509"/>
                  <a:pt x="1208" y="6574"/>
                  <a:pt x="1191" y="6623"/>
                </a:cubicBezTo>
                <a:cubicBezTo>
                  <a:pt x="1167" y="6693"/>
                  <a:pt x="1131" y="6672"/>
                  <a:pt x="1067" y="6672"/>
                </a:cubicBezTo>
                <a:cubicBezTo>
                  <a:pt x="1001" y="6672"/>
                  <a:pt x="987" y="6643"/>
                  <a:pt x="943" y="6598"/>
                </a:cubicBezTo>
              </a:path>
              <a:path w="944" h="373">
                <a:moveTo>
                  <a:pt x="1240" y="6573"/>
                </a:moveTo>
                <a:cubicBezTo>
                  <a:pt x="1274" y="6619"/>
                  <a:pt x="1273" y="6611"/>
                  <a:pt x="1315" y="6648"/>
                </a:cubicBezTo>
                <a:cubicBezTo>
                  <a:pt x="1337" y="6670"/>
                  <a:pt x="1342" y="6678"/>
                  <a:pt x="1364" y="6672"/>
                </a:cubicBezTo>
                <a:cubicBezTo>
                  <a:pt x="1364" y="6621"/>
                  <a:pt x="1346" y="6599"/>
                  <a:pt x="1339" y="6548"/>
                </a:cubicBezTo>
                <a:cubicBezTo>
                  <a:pt x="1411" y="6548"/>
                  <a:pt x="1430" y="6563"/>
                  <a:pt x="1488" y="6598"/>
                </a:cubicBezTo>
                <a:cubicBezTo>
                  <a:pt x="1529" y="6618"/>
                  <a:pt x="1535" y="6627"/>
                  <a:pt x="1563" y="6623"/>
                </a:cubicBezTo>
                <a:cubicBezTo>
                  <a:pt x="1563" y="6555"/>
                  <a:pt x="1554" y="6512"/>
                  <a:pt x="1538" y="6449"/>
                </a:cubicBezTo>
                <a:cubicBezTo>
                  <a:pt x="1531" y="6419"/>
                  <a:pt x="1521" y="6405"/>
                  <a:pt x="1513" y="63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240" y="2313000"/>
            <a:ext cx="71640" cy="44280"/>
          </a:xfrm>
          <a:custGeom>
            <a:avLst/>
            <a:gdLst/>
            <a:ahLst/>
            <a:rect l="l" t="t" r="r" b="b"/>
            <a:pathLst>
              <a:path w="199" h="125">
                <a:moveTo>
                  <a:pt x="2084" y="6449"/>
                </a:moveTo>
                <a:cubicBezTo>
                  <a:pt x="2092" y="6449"/>
                  <a:pt x="2100" y="6449"/>
                  <a:pt x="2108" y="6449"/>
                </a:cubicBezTo>
                <a:cubicBezTo>
                  <a:pt x="2071" y="6420"/>
                  <a:pt x="2057" y="6424"/>
                  <a:pt x="2009" y="6424"/>
                </a:cubicBezTo>
                <a:cubicBezTo>
                  <a:pt x="1956" y="6424"/>
                  <a:pt x="1948" y="6436"/>
                  <a:pt x="1910" y="6474"/>
                </a:cubicBezTo>
              </a:path>
              <a:path w="199" h="125">
                <a:moveTo>
                  <a:pt x="2059" y="6548"/>
                </a:moveTo>
                <a:cubicBezTo>
                  <a:pt x="2034" y="6548"/>
                  <a:pt x="2009" y="6548"/>
                  <a:pt x="1984" y="65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1800" y="2224080"/>
            <a:ext cx="366480" cy="231840"/>
          </a:xfrm>
          <a:custGeom>
            <a:avLst/>
            <a:gdLst/>
            <a:ahLst/>
            <a:rect l="l" t="t" r="r" b="b"/>
            <a:pathLst>
              <a:path w="1018" h="646">
                <a:moveTo>
                  <a:pt x="2505" y="6325"/>
                </a:moveTo>
                <a:cubicBezTo>
                  <a:pt x="2513" y="6317"/>
                  <a:pt x="2522" y="6308"/>
                  <a:pt x="2530" y="6300"/>
                </a:cubicBezTo>
                <a:cubicBezTo>
                  <a:pt x="2530" y="6413"/>
                  <a:pt x="2528" y="6525"/>
                  <a:pt x="2555" y="6623"/>
                </a:cubicBezTo>
                <a:cubicBezTo>
                  <a:pt x="2555" y="6631"/>
                  <a:pt x="2555" y="6640"/>
                  <a:pt x="2555" y="6648"/>
                </a:cubicBezTo>
              </a:path>
              <a:path w="1018" h="646">
                <a:moveTo>
                  <a:pt x="2530" y="6350"/>
                </a:moveTo>
                <a:cubicBezTo>
                  <a:pt x="2530" y="6303"/>
                  <a:pt x="2531" y="6262"/>
                  <a:pt x="2555" y="6226"/>
                </a:cubicBezTo>
                <a:cubicBezTo>
                  <a:pt x="2586" y="6179"/>
                  <a:pt x="2648" y="6155"/>
                  <a:pt x="2704" y="6176"/>
                </a:cubicBezTo>
                <a:cubicBezTo>
                  <a:pt x="2761" y="6198"/>
                  <a:pt x="2774" y="6276"/>
                  <a:pt x="2778" y="6325"/>
                </a:cubicBezTo>
                <a:cubicBezTo>
                  <a:pt x="2784" y="6400"/>
                  <a:pt x="2738" y="6419"/>
                  <a:pt x="2679" y="6424"/>
                </a:cubicBezTo>
                <a:cubicBezTo>
                  <a:pt x="2654" y="6424"/>
                  <a:pt x="2646" y="6424"/>
                  <a:pt x="2629" y="6424"/>
                </a:cubicBezTo>
              </a:path>
              <a:path w="1018" h="646">
                <a:moveTo>
                  <a:pt x="2927" y="6424"/>
                </a:moveTo>
                <a:cubicBezTo>
                  <a:pt x="2919" y="6424"/>
                  <a:pt x="2910" y="6424"/>
                  <a:pt x="2902" y="6424"/>
                </a:cubicBezTo>
                <a:cubicBezTo>
                  <a:pt x="2913" y="6382"/>
                  <a:pt x="2947" y="6352"/>
                  <a:pt x="3001" y="6375"/>
                </a:cubicBezTo>
                <a:cubicBezTo>
                  <a:pt x="3065" y="6402"/>
                  <a:pt x="3051" y="6496"/>
                  <a:pt x="3051" y="6548"/>
                </a:cubicBezTo>
                <a:cubicBezTo>
                  <a:pt x="3051" y="6620"/>
                  <a:pt x="3050" y="6657"/>
                  <a:pt x="2977" y="6623"/>
                </a:cubicBezTo>
                <a:cubicBezTo>
                  <a:pt x="2892" y="6583"/>
                  <a:pt x="2860" y="6571"/>
                  <a:pt x="2853" y="6474"/>
                </a:cubicBezTo>
                <a:cubicBezTo>
                  <a:pt x="2853" y="6466"/>
                  <a:pt x="2853" y="6457"/>
                  <a:pt x="2853" y="6449"/>
                </a:cubicBezTo>
              </a:path>
              <a:path w="1018" h="646">
                <a:moveTo>
                  <a:pt x="3299" y="6400"/>
                </a:moveTo>
                <a:cubicBezTo>
                  <a:pt x="3273" y="6393"/>
                  <a:pt x="3231" y="6362"/>
                  <a:pt x="3225" y="6350"/>
                </a:cubicBezTo>
                <a:cubicBezTo>
                  <a:pt x="3205" y="6307"/>
                  <a:pt x="3249" y="6276"/>
                  <a:pt x="3274" y="6251"/>
                </a:cubicBezTo>
                <a:cubicBezTo>
                  <a:pt x="3317" y="6208"/>
                  <a:pt x="3372" y="6220"/>
                  <a:pt x="3423" y="6251"/>
                </a:cubicBezTo>
                <a:cubicBezTo>
                  <a:pt x="3474" y="6282"/>
                  <a:pt x="3514" y="6442"/>
                  <a:pt x="3522" y="6499"/>
                </a:cubicBezTo>
                <a:cubicBezTo>
                  <a:pt x="3536" y="6597"/>
                  <a:pt x="3490" y="6662"/>
                  <a:pt x="3398" y="6672"/>
                </a:cubicBezTo>
                <a:cubicBezTo>
                  <a:pt x="3340" y="6678"/>
                  <a:pt x="3269" y="6683"/>
                  <a:pt x="3225" y="6648"/>
                </a:cubicBezTo>
                <a:cubicBezTo>
                  <a:pt x="3193" y="6622"/>
                  <a:pt x="3200" y="6610"/>
                  <a:pt x="3200" y="6573"/>
                </a:cubicBezTo>
                <a:cubicBezTo>
                  <a:pt x="3219" y="6559"/>
                  <a:pt x="3269" y="6527"/>
                  <a:pt x="3299" y="6548"/>
                </a:cubicBezTo>
                <a:cubicBezTo>
                  <a:pt x="3369" y="6598"/>
                  <a:pt x="3387" y="6693"/>
                  <a:pt x="3398" y="6772"/>
                </a:cubicBezTo>
                <a:cubicBezTo>
                  <a:pt x="3398" y="6788"/>
                  <a:pt x="3398" y="6805"/>
                  <a:pt x="3398" y="68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90760" y="2197080"/>
            <a:ext cx="1046160" cy="303120"/>
          </a:xfrm>
          <a:custGeom>
            <a:avLst/>
            <a:gdLst/>
            <a:ahLst/>
            <a:rect l="l" t="t" r="r" b="b"/>
            <a:pathLst>
              <a:path w="2904" h="844">
                <a:moveTo>
                  <a:pt x="4142" y="6375"/>
                </a:moveTo>
                <a:cubicBezTo>
                  <a:pt x="4182" y="6362"/>
                  <a:pt x="4152" y="6363"/>
                  <a:pt x="4192" y="6350"/>
                </a:cubicBezTo>
                <a:cubicBezTo>
                  <a:pt x="4203" y="6395"/>
                  <a:pt x="4220" y="6433"/>
                  <a:pt x="4242" y="6474"/>
                </a:cubicBezTo>
                <a:cubicBezTo>
                  <a:pt x="4274" y="6535"/>
                  <a:pt x="4318" y="6575"/>
                  <a:pt x="4366" y="6623"/>
                </a:cubicBezTo>
                <a:cubicBezTo>
                  <a:pt x="4405" y="6583"/>
                  <a:pt x="4455" y="6531"/>
                  <a:pt x="4465" y="6474"/>
                </a:cubicBezTo>
                <a:cubicBezTo>
                  <a:pt x="4477" y="6407"/>
                  <a:pt x="4475" y="6358"/>
                  <a:pt x="4490" y="6300"/>
                </a:cubicBezTo>
              </a:path>
              <a:path w="2904" h="844">
                <a:moveTo>
                  <a:pt x="4589" y="6474"/>
                </a:moveTo>
                <a:cubicBezTo>
                  <a:pt x="4638" y="6513"/>
                  <a:pt x="4662" y="6544"/>
                  <a:pt x="4713" y="6499"/>
                </a:cubicBezTo>
                <a:cubicBezTo>
                  <a:pt x="4744" y="6471"/>
                  <a:pt x="4738" y="6462"/>
                  <a:pt x="4738" y="6424"/>
                </a:cubicBezTo>
                <a:cubicBezTo>
                  <a:pt x="4681" y="6424"/>
                  <a:pt x="4648" y="6421"/>
                  <a:pt x="4614" y="6474"/>
                </a:cubicBezTo>
                <a:cubicBezTo>
                  <a:pt x="4570" y="6544"/>
                  <a:pt x="4593" y="6607"/>
                  <a:pt x="4638" y="6672"/>
                </a:cubicBezTo>
                <a:cubicBezTo>
                  <a:pt x="4662" y="6707"/>
                  <a:pt x="4748" y="6710"/>
                  <a:pt x="4787" y="6697"/>
                </a:cubicBezTo>
                <a:cubicBezTo>
                  <a:pt x="4832" y="6682"/>
                  <a:pt x="4855" y="6655"/>
                  <a:pt x="4887" y="6623"/>
                </a:cubicBezTo>
              </a:path>
              <a:path w="2904" h="844">
                <a:moveTo>
                  <a:pt x="4961" y="6598"/>
                </a:moveTo>
                <a:cubicBezTo>
                  <a:pt x="4969" y="6606"/>
                  <a:pt x="4978" y="6615"/>
                  <a:pt x="4986" y="6623"/>
                </a:cubicBezTo>
                <a:cubicBezTo>
                  <a:pt x="4962" y="6591"/>
                  <a:pt x="4943" y="6534"/>
                  <a:pt x="4936" y="6499"/>
                </a:cubicBezTo>
                <a:cubicBezTo>
                  <a:pt x="4922" y="6429"/>
                  <a:pt x="4958" y="6424"/>
                  <a:pt x="5011" y="6424"/>
                </a:cubicBezTo>
                <a:cubicBezTo>
                  <a:pt x="5027" y="6424"/>
                  <a:pt x="5044" y="6424"/>
                  <a:pt x="5060" y="6424"/>
                </a:cubicBezTo>
              </a:path>
              <a:path w="2904" h="844">
                <a:moveTo>
                  <a:pt x="5234" y="6276"/>
                </a:moveTo>
                <a:cubicBezTo>
                  <a:pt x="5242" y="6268"/>
                  <a:pt x="5251" y="6259"/>
                  <a:pt x="5259" y="6251"/>
                </a:cubicBezTo>
                <a:cubicBezTo>
                  <a:pt x="5245" y="6306"/>
                  <a:pt x="5218" y="6360"/>
                  <a:pt x="5209" y="6424"/>
                </a:cubicBezTo>
                <a:cubicBezTo>
                  <a:pt x="5200" y="6487"/>
                  <a:pt x="5200" y="6569"/>
                  <a:pt x="5234" y="6623"/>
                </a:cubicBezTo>
                <a:cubicBezTo>
                  <a:pt x="5262" y="6651"/>
                  <a:pt x="5275" y="6660"/>
                  <a:pt x="5308" y="6648"/>
                </a:cubicBezTo>
              </a:path>
              <a:path w="2904" h="844">
                <a:moveTo>
                  <a:pt x="5407" y="6548"/>
                </a:moveTo>
                <a:cubicBezTo>
                  <a:pt x="5400" y="6493"/>
                  <a:pt x="5401" y="6429"/>
                  <a:pt x="5333" y="6424"/>
                </a:cubicBezTo>
                <a:cubicBezTo>
                  <a:pt x="5284" y="6421"/>
                  <a:pt x="5233" y="6424"/>
                  <a:pt x="5184" y="6424"/>
                </a:cubicBezTo>
              </a:path>
              <a:path w="2904" h="844">
                <a:moveTo>
                  <a:pt x="5432" y="6474"/>
                </a:moveTo>
                <a:cubicBezTo>
                  <a:pt x="5474" y="6516"/>
                  <a:pt x="5481" y="6524"/>
                  <a:pt x="5507" y="6548"/>
                </a:cubicBezTo>
              </a:path>
              <a:path w="2904" h="844">
                <a:moveTo>
                  <a:pt x="5457" y="6375"/>
                </a:moveTo>
                <a:cubicBezTo>
                  <a:pt x="5480" y="6352"/>
                  <a:pt x="5484" y="6344"/>
                  <a:pt x="5507" y="6350"/>
                </a:cubicBezTo>
              </a:path>
              <a:path w="2904" h="844">
                <a:moveTo>
                  <a:pt x="5705" y="6449"/>
                </a:moveTo>
                <a:cubicBezTo>
                  <a:pt x="5713" y="6449"/>
                  <a:pt x="5722" y="6449"/>
                  <a:pt x="5730" y="6449"/>
                </a:cubicBezTo>
                <a:cubicBezTo>
                  <a:pt x="5730" y="6506"/>
                  <a:pt x="5718" y="6555"/>
                  <a:pt x="5755" y="6598"/>
                </a:cubicBezTo>
                <a:cubicBezTo>
                  <a:pt x="5811" y="6663"/>
                  <a:pt x="5804" y="6642"/>
                  <a:pt x="5879" y="6623"/>
                </a:cubicBezTo>
                <a:cubicBezTo>
                  <a:pt x="5887" y="6623"/>
                  <a:pt x="5896" y="6623"/>
                  <a:pt x="5904" y="6623"/>
                </a:cubicBezTo>
              </a:path>
              <a:path w="2904" h="844">
                <a:moveTo>
                  <a:pt x="6003" y="6524"/>
                </a:moveTo>
                <a:cubicBezTo>
                  <a:pt x="6026" y="6501"/>
                  <a:pt x="6034" y="6497"/>
                  <a:pt x="6028" y="6474"/>
                </a:cubicBezTo>
                <a:cubicBezTo>
                  <a:pt x="5963" y="6490"/>
                  <a:pt x="5958" y="6533"/>
                  <a:pt x="5953" y="6598"/>
                </a:cubicBezTo>
                <a:cubicBezTo>
                  <a:pt x="5953" y="6623"/>
                  <a:pt x="5953" y="6631"/>
                  <a:pt x="5953" y="6648"/>
                </a:cubicBezTo>
                <a:cubicBezTo>
                  <a:pt x="6020" y="6631"/>
                  <a:pt x="6004" y="6586"/>
                  <a:pt x="6052" y="6548"/>
                </a:cubicBezTo>
                <a:cubicBezTo>
                  <a:pt x="6079" y="6527"/>
                  <a:pt x="6135" y="6558"/>
                  <a:pt x="6152" y="6573"/>
                </a:cubicBezTo>
                <a:cubicBezTo>
                  <a:pt x="6189" y="6607"/>
                  <a:pt x="6206" y="6622"/>
                  <a:pt x="6251" y="6648"/>
                </a:cubicBezTo>
              </a:path>
              <a:path w="2904" h="844">
                <a:moveTo>
                  <a:pt x="6400" y="6201"/>
                </a:moveTo>
                <a:cubicBezTo>
                  <a:pt x="6400" y="6143"/>
                  <a:pt x="6400" y="6135"/>
                  <a:pt x="6400" y="6102"/>
                </a:cubicBezTo>
                <a:cubicBezTo>
                  <a:pt x="6457" y="6122"/>
                  <a:pt x="6406" y="6138"/>
                  <a:pt x="6400" y="6176"/>
                </a:cubicBezTo>
                <a:cubicBezTo>
                  <a:pt x="6378" y="6322"/>
                  <a:pt x="6381" y="6541"/>
                  <a:pt x="6424" y="6672"/>
                </a:cubicBezTo>
                <a:cubicBezTo>
                  <a:pt x="6424" y="6680"/>
                  <a:pt x="6424" y="6689"/>
                  <a:pt x="6424" y="6697"/>
                </a:cubicBezTo>
              </a:path>
              <a:path w="2904" h="844">
                <a:moveTo>
                  <a:pt x="6548" y="6176"/>
                </a:moveTo>
                <a:cubicBezTo>
                  <a:pt x="6548" y="6116"/>
                  <a:pt x="6572" y="6236"/>
                  <a:pt x="6573" y="6251"/>
                </a:cubicBezTo>
                <a:cubicBezTo>
                  <a:pt x="6584" y="6381"/>
                  <a:pt x="6567" y="6500"/>
                  <a:pt x="6598" y="6623"/>
                </a:cubicBezTo>
                <a:cubicBezTo>
                  <a:pt x="6598" y="6631"/>
                  <a:pt x="6598" y="6640"/>
                  <a:pt x="6598" y="6648"/>
                </a:cubicBezTo>
              </a:path>
              <a:path w="2904" h="844">
                <a:moveTo>
                  <a:pt x="6796" y="6499"/>
                </a:moveTo>
                <a:cubicBezTo>
                  <a:pt x="6802" y="6541"/>
                  <a:pt x="6803" y="6595"/>
                  <a:pt x="6846" y="6598"/>
                </a:cubicBezTo>
                <a:cubicBezTo>
                  <a:pt x="6903" y="6602"/>
                  <a:pt x="6935" y="6553"/>
                  <a:pt x="6995" y="6573"/>
                </a:cubicBezTo>
                <a:cubicBezTo>
                  <a:pt x="7085" y="6603"/>
                  <a:pt x="7050" y="6751"/>
                  <a:pt x="7020" y="6821"/>
                </a:cubicBezTo>
                <a:cubicBezTo>
                  <a:pt x="6955" y="6971"/>
                  <a:pt x="6805" y="6945"/>
                  <a:pt x="6672" y="6945"/>
                </a:cubicBezTo>
                <a:cubicBezTo>
                  <a:pt x="6581" y="6945"/>
                  <a:pt x="6557" y="6945"/>
                  <a:pt x="6499" y="69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57240" y="2490840"/>
            <a:ext cx="849600" cy="322200"/>
          </a:xfrm>
          <a:custGeom>
            <a:avLst/>
            <a:gdLst/>
            <a:ahLst/>
            <a:rect l="l" t="t" r="r" b="b"/>
            <a:pathLst>
              <a:path w="2358" h="893">
                <a:moveTo>
                  <a:pt x="5234" y="7218"/>
                </a:moveTo>
                <a:cubicBezTo>
                  <a:pt x="5211" y="7241"/>
                  <a:pt x="5203" y="7245"/>
                  <a:pt x="5209" y="7268"/>
                </a:cubicBezTo>
                <a:cubicBezTo>
                  <a:pt x="5194" y="7263"/>
                  <a:pt x="5143" y="7227"/>
                  <a:pt x="5159" y="7193"/>
                </a:cubicBezTo>
                <a:cubicBezTo>
                  <a:pt x="5185" y="7136"/>
                  <a:pt x="5235" y="7116"/>
                  <a:pt x="5283" y="7144"/>
                </a:cubicBezTo>
                <a:cubicBezTo>
                  <a:pt x="5336" y="7175"/>
                  <a:pt x="5370" y="7286"/>
                  <a:pt x="5358" y="7342"/>
                </a:cubicBezTo>
                <a:cubicBezTo>
                  <a:pt x="5349" y="7387"/>
                  <a:pt x="5309" y="7435"/>
                  <a:pt x="5259" y="7417"/>
                </a:cubicBezTo>
                <a:cubicBezTo>
                  <a:pt x="5196" y="7394"/>
                  <a:pt x="5190" y="7371"/>
                  <a:pt x="5159" y="7317"/>
                </a:cubicBezTo>
              </a:path>
              <a:path w="2358" h="893">
                <a:moveTo>
                  <a:pt x="5457" y="7317"/>
                </a:moveTo>
                <a:cubicBezTo>
                  <a:pt x="5521" y="7354"/>
                  <a:pt x="5552" y="7365"/>
                  <a:pt x="5556" y="7441"/>
                </a:cubicBezTo>
                <a:cubicBezTo>
                  <a:pt x="5563" y="7564"/>
                  <a:pt x="5556" y="7690"/>
                  <a:pt x="5556" y="7813"/>
                </a:cubicBezTo>
              </a:path>
              <a:path w="2358" h="893">
                <a:moveTo>
                  <a:pt x="5556" y="7516"/>
                </a:moveTo>
                <a:cubicBezTo>
                  <a:pt x="5556" y="7435"/>
                  <a:pt x="5546" y="7366"/>
                  <a:pt x="5581" y="7293"/>
                </a:cubicBezTo>
                <a:cubicBezTo>
                  <a:pt x="5605" y="7242"/>
                  <a:pt x="5673" y="7161"/>
                  <a:pt x="5730" y="7218"/>
                </a:cubicBezTo>
                <a:cubicBezTo>
                  <a:pt x="5748" y="7236"/>
                  <a:pt x="5770" y="7338"/>
                  <a:pt x="5755" y="7367"/>
                </a:cubicBezTo>
                <a:cubicBezTo>
                  <a:pt x="5728" y="7422"/>
                  <a:pt x="5683" y="7417"/>
                  <a:pt x="5631" y="7417"/>
                </a:cubicBezTo>
                <a:cubicBezTo>
                  <a:pt x="5606" y="7417"/>
                  <a:pt x="5598" y="7417"/>
                  <a:pt x="5581" y="7417"/>
                </a:cubicBezTo>
              </a:path>
              <a:path w="2358" h="893">
                <a:moveTo>
                  <a:pt x="5854" y="7342"/>
                </a:moveTo>
                <a:cubicBezTo>
                  <a:pt x="5891" y="7407"/>
                  <a:pt x="5904" y="7417"/>
                  <a:pt x="5904" y="7491"/>
                </a:cubicBezTo>
                <a:cubicBezTo>
                  <a:pt x="5904" y="7542"/>
                  <a:pt x="5904" y="7750"/>
                  <a:pt x="5904" y="7714"/>
                </a:cubicBezTo>
              </a:path>
              <a:path w="2358" h="893">
                <a:moveTo>
                  <a:pt x="5879" y="7417"/>
                </a:moveTo>
                <a:cubicBezTo>
                  <a:pt x="5879" y="7315"/>
                  <a:pt x="5860" y="7245"/>
                  <a:pt x="5928" y="7169"/>
                </a:cubicBezTo>
                <a:cubicBezTo>
                  <a:pt x="5959" y="7135"/>
                  <a:pt x="6013" y="7141"/>
                  <a:pt x="6028" y="7193"/>
                </a:cubicBezTo>
                <a:cubicBezTo>
                  <a:pt x="6040" y="7236"/>
                  <a:pt x="6042" y="7386"/>
                  <a:pt x="6003" y="7392"/>
                </a:cubicBezTo>
                <a:cubicBezTo>
                  <a:pt x="5958" y="7392"/>
                  <a:pt x="5945" y="7395"/>
                  <a:pt x="5928" y="7367"/>
                </a:cubicBezTo>
              </a:path>
              <a:path w="2358" h="893">
                <a:moveTo>
                  <a:pt x="6152" y="7317"/>
                </a:moveTo>
                <a:cubicBezTo>
                  <a:pt x="6152" y="7342"/>
                  <a:pt x="6152" y="7350"/>
                  <a:pt x="6152" y="7367"/>
                </a:cubicBezTo>
                <a:cubicBezTo>
                  <a:pt x="6180" y="7348"/>
                  <a:pt x="6174" y="7291"/>
                  <a:pt x="6226" y="7268"/>
                </a:cubicBezTo>
                <a:cubicBezTo>
                  <a:pt x="6278" y="7245"/>
                  <a:pt x="6336" y="7296"/>
                  <a:pt x="6350" y="7342"/>
                </a:cubicBezTo>
                <a:cubicBezTo>
                  <a:pt x="6364" y="7389"/>
                  <a:pt x="6350" y="7433"/>
                  <a:pt x="6325" y="7466"/>
                </a:cubicBezTo>
                <a:cubicBezTo>
                  <a:pt x="6264" y="7450"/>
                  <a:pt x="6241" y="7415"/>
                  <a:pt x="6201" y="7367"/>
                </a:cubicBezTo>
                <a:cubicBezTo>
                  <a:pt x="6193" y="7359"/>
                  <a:pt x="6184" y="7350"/>
                  <a:pt x="6176" y="7342"/>
                </a:cubicBezTo>
              </a:path>
              <a:path w="2358" h="893">
                <a:moveTo>
                  <a:pt x="6573" y="7268"/>
                </a:moveTo>
                <a:cubicBezTo>
                  <a:pt x="6614" y="7248"/>
                  <a:pt x="6630" y="7250"/>
                  <a:pt x="6623" y="7218"/>
                </a:cubicBezTo>
                <a:cubicBezTo>
                  <a:pt x="6616" y="7196"/>
                  <a:pt x="6584" y="7173"/>
                  <a:pt x="6548" y="7193"/>
                </a:cubicBezTo>
                <a:cubicBezTo>
                  <a:pt x="6497" y="7222"/>
                  <a:pt x="6489" y="7253"/>
                  <a:pt x="6524" y="7293"/>
                </a:cubicBezTo>
                <a:cubicBezTo>
                  <a:pt x="6550" y="7322"/>
                  <a:pt x="6589" y="7356"/>
                  <a:pt x="6623" y="7367"/>
                </a:cubicBezTo>
                <a:cubicBezTo>
                  <a:pt x="6648" y="7367"/>
                  <a:pt x="6656" y="7367"/>
                  <a:pt x="6648" y="7392"/>
                </a:cubicBezTo>
                <a:cubicBezTo>
                  <a:pt x="6635" y="7430"/>
                  <a:pt x="6618" y="7417"/>
                  <a:pt x="6573" y="7417"/>
                </a:cubicBezTo>
                <a:cubicBezTo>
                  <a:pt x="6525" y="7417"/>
                  <a:pt x="6485" y="7399"/>
                  <a:pt x="6474" y="7367"/>
                </a:cubicBezTo>
              </a:path>
              <a:path w="2358" h="893">
                <a:moveTo>
                  <a:pt x="6772" y="7193"/>
                </a:moveTo>
                <a:cubicBezTo>
                  <a:pt x="6790" y="7262"/>
                  <a:pt x="6796" y="7298"/>
                  <a:pt x="6796" y="7367"/>
                </a:cubicBezTo>
              </a:path>
              <a:path w="2358" h="893">
                <a:moveTo>
                  <a:pt x="6747" y="7069"/>
                </a:moveTo>
                <a:cubicBezTo>
                  <a:pt x="6753" y="7005"/>
                  <a:pt x="6772" y="6980"/>
                  <a:pt x="6772" y="6921"/>
                </a:cubicBezTo>
              </a:path>
              <a:path w="2358" h="893">
                <a:moveTo>
                  <a:pt x="6970" y="6945"/>
                </a:moveTo>
                <a:cubicBezTo>
                  <a:pt x="6978" y="6937"/>
                  <a:pt x="6987" y="6929"/>
                  <a:pt x="6995" y="6921"/>
                </a:cubicBezTo>
                <a:cubicBezTo>
                  <a:pt x="6980" y="6995"/>
                  <a:pt x="6932" y="7067"/>
                  <a:pt x="6921" y="7144"/>
                </a:cubicBezTo>
                <a:cubicBezTo>
                  <a:pt x="6909" y="7230"/>
                  <a:pt x="6902" y="7365"/>
                  <a:pt x="6945" y="7441"/>
                </a:cubicBezTo>
                <a:cubicBezTo>
                  <a:pt x="6973" y="7469"/>
                  <a:pt x="6987" y="7478"/>
                  <a:pt x="7020" y="7466"/>
                </a:cubicBezTo>
              </a:path>
              <a:path w="2358" h="893">
                <a:moveTo>
                  <a:pt x="7144" y="7218"/>
                </a:moveTo>
                <a:cubicBezTo>
                  <a:pt x="7106" y="7124"/>
                  <a:pt x="7115" y="7119"/>
                  <a:pt x="7020" y="7119"/>
                </a:cubicBezTo>
                <a:cubicBezTo>
                  <a:pt x="6971" y="7119"/>
                  <a:pt x="6941" y="7135"/>
                  <a:pt x="6896" y="7144"/>
                </a:cubicBezTo>
              </a:path>
              <a:path w="2358" h="893">
                <a:moveTo>
                  <a:pt x="6945" y="7243"/>
                </a:moveTo>
                <a:cubicBezTo>
                  <a:pt x="7052" y="7249"/>
                  <a:pt x="7145" y="7284"/>
                  <a:pt x="7243" y="7243"/>
                </a:cubicBezTo>
                <a:cubicBezTo>
                  <a:pt x="7307" y="7216"/>
                  <a:pt x="7344" y="7168"/>
                  <a:pt x="7317" y="7094"/>
                </a:cubicBezTo>
                <a:cubicBezTo>
                  <a:pt x="7309" y="7086"/>
                  <a:pt x="7301" y="7077"/>
                  <a:pt x="7293" y="7069"/>
                </a:cubicBezTo>
                <a:cubicBezTo>
                  <a:pt x="7234" y="7084"/>
                  <a:pt x="7229" y="7131"/>
                  <a:pt x="7243" y="7193"/>
                </a:cubicBezTo>
                <a:cubicBezTo>
                  <a:pt x="7271" y="7322"/>
                  <a:pt x="7304" y="7364"/>
                  <a:pt x="7417" y="7417"/>
                </a:cubicBezTo>
                <a:cubicBezTo>
                  <a:pt x="7465" y="7440"/>
                  <a:pt x="7479" y="7448"/>
                  <a:pt x="7516" y="74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8578" t="53526" r="5146" b="1602"/>
          <a:stretch/>
        </p:blipFill>
        <p:spPr>
          <a:xfrm>
            <a:off x="0" y="0"/>
            <a:ext cx="9144000" cy="6546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46040" y="1660680"/>
            <a:ext cx="598680" cy="312480"/>
          </a:xfrm>
          <a:custGeom>
            <a:avLst/>
            <a:gdLst/>
            <a:ahLst/>
            <a:rect l="l" t="t" r="r" b="b"/>
            <a:pathLst>
              <a:path w="1663" h="869">
                <a:moveTo>
                  <a:pt x="1265" y="4837"/>
                </a:moveTo>
                <a:cubicBezTo>
                  <a:pt x="1287" y="4785"/>
                  <a:pt x="1290" y="4767"/>
                  <a:pt x="1290" y="4713"/>
                </a:cubicBezTo>
                <a:cubicBezTo>
                  <a:pt x="1290" y="4705"/>
                  <a:pt x="1290" y="4696"/>
                  <a:pt x="1290" y="4688"/>
                </a:cubicBezTo>
                <a:cubicBezTo>
                  <a:pt x="1256" y="4733"/>
                  <a:pt x="1245" y="4777"/>
                  <a:pt x="1240" y="4837"/>
                </a:cubicBezTo>
                <a:cubicBezTo>
                  <a:pt x="1237" y="4873"/>
                  <a:pt x="1248" y="4924"/>
                  <a:pt x="1290" y="4936"/>
                </a:cubicBezTo>
                <a:cubicBezTo>
                  <a:pt x="1364" y="4957"/>
                  <a:pt x="1468" y="4944"/>
                  <a:pt x="1538" y="4986"/>
                </a:cubicBezTo>
                <a:cubicBezTo>
                  <a:pt x="1589" y="5017"/>
                  <a:pt x="1664" y="5079"/>
                  <a:pt x="1687" y="5135"/>
                </a:cubicBezTo>
                <a:cubicBezTo>
                  <a:pt x="1687" y="5143"/>
                  <a:pt x="1687" y="5151"/>
                  <a:pt x="1687" y="5159"/>
                </a:cubicBezTo>
                <a:cubicBezTo>
                  <a:pt x="1625" y="5208"/>
                  <a:pt x="1591" y="5209"/>
                  <a:pt x="1513" y="5209"/>
                </a:cubicBezTo>
                <a:cubicBezTo>
                  <a:pt x="1428" y="5209"/>
                  <a:pt x="1360" y="5205"/>
                  <a:pt x="1290" y="5184"/>
                </a:cubicBezTo>
                <a:cubicBezTo>
                  <a:pt x="1282" y="5184"/>
                  <a:pt x="1273" y="5184"/>
                  <a:pt x="1265" y="5184"/>
                </a:cubicBezTo>
              </a:path>
              <a:path w="1663" h="869">
                <a:moveTo>
                  <a:pt x="1687" y="4713"/>
                </a:moveTo>
                <a:cubicBezTo>
                  <a:pt x="1695" y="4705"/>
                  <a:pt x="1704" y="4696"/>
                  <a:pt x="1712" y="4688"/>
                </a:cubicBezTo>
                <a:cubicBezTo>
                  <a:pt x="1634" y="4704"/>
                  <a:pt x="1603" y="4723"/>
                  <a:pt x="1538" y="4762"/>
                </a:cubicBezTo>
                <a:cubicBezTo>
                  <a:pt x="1491" y="4790"/>
                  <a:pt x="1442" y="4803"/>
                  <a:pt x="1389" y="4812"/>
                </a:cubicBezTo>
              </a:path>
              <a:path w="1663" h="869">
                <a:moveTo>
                  <a:pt x="1935" y="5159"/>
                </a:moveTo>
                <a:cubicBezTo>
                  <a:pt x="1935" y="5201"/>
                  <a:pt x="1935" y="5209"/>
                  <a:pt x="1935" y="5234"/>
                </a:cubicBezTo>
              </a:path>
              <a:path w="1663" h="869">
                <a:moveTo>
                  <a:pt x="2133" y="4812"/>
                </a:moveTo>
                <a:cubicBezTo>
                  <a:pt x="2133" y="4770"/>
                  <a:pt x="2125" y="4754"/>
                  <a:pt x="2158" y="4762"/>
                </a:cubicBezTo>
                <a:cubicBezTo>
                  <a:pt x="2158" y="4826"/>
                  <a:pt x="2176" y="4874"/>
                  <a:pt x="2183" y="4936"/>
                </a:cubicBezTo>
                <a:cubicBezTo>
                  <a:pt x="2193" y="5019"/>
                  <a:pt x="2190" y="5081"/>
                  <a:pt x="2208" y="5159"/>
                </a:cubicBezTo>
                <a:cubicBezTo>
                  <a:pt x="2208" y="5167"/>
                  <a:pt x="2208" y="5176"/>
                  <a:pt x="2208" y="5184"/>
                </a:cubicBezTo>
              </a:path>
              <a:path w="1663" h="869">
                <a:moveTo>
                  <a:pt x="2356" y="4713"/>
                </a:moveTo>
                <a:cubicBezTo>
                  <a:pt x="2378" y="4669"/>
                  <a:pt x="2381" y="4657"/>
                  <a:pt x="2406" y="4638"/>
                </a:cubicBezTo>
                <a:cubicBezTo>
                  <a:pt x="2406" y="4567"/>
                  <a:pt x="2382" y="4758"/>
                  <a:pt x="2381" y="4762"/>
                </a:cubicBezTo>
                <a:cubicBezTo>
                  <a:pt x="2355" y="4875"/>
                  <a:pt x="2340" y="4973"/>
                  <a:pt x="2381" y="5085"/>
                </a:cubicBezTo>
                <a:cubicBezTo>
                  <a:pt x="2402" y="5142"/>
                  <a:pt x="2490" y="5204"/>
                  <a:pt x="2555" y="5184"/>
                </a:cubicBezTo>
                <a:cubicBezTo>
                  <a:pt x="2603" y="5169"/>
                  <a:pt x="2617" y="5074"/>
                  <a:pt x="2604" y="5035"/>
                </a:cubicBezTo>
                <a:cubicBezTo>
                  <a:pt x="2585" y="4976"/>
                  <a:pt x="2544" y="4939"/>
                  <a:pt x="2480" y="4961"/>
                </a:cubicBezTo>
                <a:cubicBezTo>
                  <a:pt x="2436" y="4976"/>
                  <a:pt x="2413" y="5004"/>
                  <a:pt x="2381" y="5035"/>
                </a:cubicBezTo>
              </a:path>
              <a:path w="1663" h="869">
                <a:moveTo>
                  <a:pt x="2729" y="5159"/>
                </a:moveTo>
                <a:cubicBezTo>
                  <a:pt x="2830" y="5210"/>
                  <a:pt x="2929" y="5242"/>
                  <a:pt x="2902" y="5383"/>
                </a:cubicBezTo>
                <a:cubicBezTo>
                  <a:pt x="2877" y="5432"/>
                  <a:pt x="2869" y="5449"/>
                  <a:pt x="2853" y="54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24000" y="1598760"/>
            <a:ext cx="615960" cy="231480"/>
          </a:xfrm>
          <a:custGeom>
            <a:avLst/>
            <a:gdLst/>
            <a:ahLst/>
            <a:rect l="l" t="t" r="r" b="b"/>
            <a:pathLst>
              <a:path w="1713" h="646">
                <a:moveTo>
                  <a:pt x="3646" y="5035"/>
                </a:moveTo>
                <a:cubicBezTo>
                  <a:pt x="3646" y="5011"/>
                  <a:pt x="3646" y="5002"/>
                  <a:pt x="3646" y="4986"/>
                </a:cubicBezTo>
                <a:cubicBezTo>
                  <a:pt x="3572" y="4986"/>
                  <a:pt x="3517" y="4995"/>
                  <a:pt x="3448" y="5011"/>
                </a:cubicBezTo>
                <a:cubicBezTo>
                  <a:pt x="3420" y="5011"/>
                  <a:pt x="3409" y="5013"/>
                  <a:pt x="3398" y="5035"/>
                </a:cubicBezTo>
              </a:path>
              <a:path w="1713" h="646">
                <a:moveTo>
                  <a:pt x="3820" y="4539"/>
                </a:moveTo>
                <a:cubicBezTo>
                  <a:pt x="3820" y="4472"/>
                  <a:pt x="3820" y="4578"/>
                  <a:pt x="3820" y="4589"/>
                </a:cubicBezTo>
                <a:cubicBezTo>
                  <a:pt x="3820" y="4671"/>
                  <a:pt x="3868" y="4758"/>
                  <a:pt x="3894" y="4837"/>
                </a:cubicBezTo>
                <a:cubicBezTo>
                  <a:pt x="3918" y="4909"/>
                  <a:pt x="3925" y="4932"/>
                  <a:pt x="3969" y="4961"/>
                </a:cubicBezTo>
              </a:path>
              <a:path w="1713" h="646">
                <a:moveTo>
                  <a:pt x="4242" y="4986"/>
                </a:moveTo>
                <a:cubicBezTo>
                  <a:pt x="4266" y="4986"/>
                  <a:pt x="4275" y="4986"/>
                  <a:pt x="4291" y="4986"/>
                </a:cubicBezTo>
              </a:path>
              <a:path w="1713" h="646">
                <a:moveTo>
                  <a:pt x="4390" y="4663"/>
                </a:moveTo>
                <a:cubicBezTo>
                  <a:pt x="4390" y="4622"/>
                  <a:pt x="4382" y="4606"/>
                  <a:pt x="4415" y="4614"/>
                </a:cubicBezTo>
                <a:cubicBezTo>
                  <a:pt x="4415" y="4680"/>
                  <a:pt x="4452" y="4721"/>
                  <a:pt x="4465" y="4787"/>
                </a:cubicBezTo>
                <a:cubicBezTo>
                  <a:pt x="4480" y="4865"/>
                  <a:pt x="4491" y="4942"/>
                  <a:pt x="4539" y="5011"/>
                </a:cubicBezTo>
                <a:cubicBezTo>
                  <a:pt x="4562" y="5033"/>
                  <a:pt x="4570" y="5038"/>
                  <a:pt x="4564" y="5060"/>
                </a:cubicBezTo>
              </a:path>
              <a:path w="1713" h="646">
                <a:moveTo>
                  <a:pt x="4787" y="4539"/>
                </a:moveTo>
                <a:cubicBezTo>
                  <a:pt x="4821" y="4505"/>
                  <a:pt x="4851" y="4484"/>
                  <a:pt x="4862" y="4440"/>
                </a:cubicBezTo>
                <a:cubicBezTo>
                  <a:pt x="4848" y="4523"/>
                  <a:pt x="4849" y="4604"/>
                  <a:pt x="4837" y="4688"/>
                </a:cubicBezTo>
                <a:cubicBezTo>
                  <a:pt x="4821" y="4796"/>
                  <a:pt x="4823" y="4910"/>
                  <a:pt x="4887" y="5011"/>
                </a:cubicBezTo>
                <a:cubicBezTo>
                  <a:pt x="4920" y="5063"/>
                  <a:pt x="5011" y="5124"/>
                  <a:pt x="5060" y="5060"/>
                </a:cubicBezTo>
                <a:cubicBezTo>
                  <a:pt x="5117" y="4986"/>
                  <a:pt x="5119" y="4919"/>
                  <a:pt x="5085" y="4837"/>
                </a:cubicBezTo>
                <a:cubicBezTo>
                  <a:pt x="5063" y="4786"/>
                  <a:pt x="5016" y="4767"/>
                  <a:pt x="4961" y="4787"/>
                </a:cubicBezTo>
                <a:cubicBezTo>
                  <a:pt x="4917" y="4809"/>
                  <a:pt x="4906" y="4812"/>
                  <a:pt x="4887" y="48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46880" y="3581280"/>
            <a:ext cx="189000" cy="150840"/>
          </a:xfrm>
          <a:custGeom>
            <a:avLst/>
            <a:gdLst/>
            <a:ahLst/>
            <a:rect l="l" t="t" r="r" b="b"/>
            <a:pathLst>
              <a:path w="522" h="422">
                <a:moveTo>
                  <a:pt x="17983" y="10096"/>
                </a:moveTo>
                <a:cubicBezTo>
                  <a:pt x="17940" y="10128"/>
                  <a:pt x="17952" y="10127"/>
                  <a:pt x="17909" y="10096"/>
                </a:cubicBezTo>
                <a:cubicBezTo>
                  <a:pt x="17920" y="10053"/>
                  <a:pt x="17949" y="10030"/>
                  <a:pt x="17983" y="9996"/>
                </a:cubicBezTo>
                <a:cubicBezTo>
                  <a:pt x="18020" y="9958"/>
                  <a:pt x="18115" y="9954"/>
                  <a:pt x="18157" y="9996"/>
                </a:cubicBezTo>
                <a:cubicBezTo>
                  <a:pt x="18217" y="10057"/>
                  <a:pt x="18182" y="10202"/>
                  <a:pt x="18157" y="10269"/>
                </a:cubicBezTo>
                <a:cubicBezTo>
                  <a:pt x="18136" y="10327"/>
                  <a:pt x="18079" y="10389"/>
                  <a:pt x="18008" y="10368"/>
                </a:cubicBezTo>
                <a:cubicBezTo>
                  <a:pt x="18000" y="10360"/>
                  <a:pt x="17991" y="10352"/>
                  <a:pt x="17983" y="10344"/>
                </a:cubicBezTo>
              </a:path>
              <a:path w="522" h="422">
                <a:moveTo>
                  <a:pt x="18306" y="10021"/>
                </a:moveTo>
                <a:cubicBezTo>
                  <a:pt x="18387" y="9977"/>
                  <a:pt x="18465" y="9910"/>
                  <a:pt x="18380" y="9996"/>
                </a:cubicBezTo>
                <a:cubicBezTo>
                  <a:pt x="18304" y="10073"/>
                  <a:pt x="18251" y="10133"/>
                  <a:pt x="18231" y="10244"/>
                </a:cubicBezTo>
                <a:cubicBezTo>
                  <a:pt x="18217" y="10320"/>
                  <a:pt x="18251" y="10311"/>
                  <a:pt x="18306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3606840"/>
            <a:ext cx="81000" cy="73080"/>
          </a:xfrm>
          <a:custGeom>
            <a:avLst/>
            <a:gdLst/>
            <a:ahLst/>
            <a:rect l="l" t="t" r="r" b="b"/>
            <a:pathLst>
              <a:path w="224" h="200">
                <a:moveTo>
                  <a:pt x="19050" y="10046"/>
                </a:moveTo>
                <a:cubicBezTo>
                  <a:pt x="18996" y="10046"/>
                  <a:pt x="18981" y="10024"/>
                  <a:pt x="18926" y="10021"/>
                </a:cubicBezTo>
                <a:cubicBezTo>
                  <a:pt x="18894" y="10019"/>
                  <a:pt x="18860" y="10021"/>
                  <a:pt x="18827" y="10021"/>
                </a:cubicBezTo>
              </a:path>
              <a:path w="224" h="200">
                <a:moveTo>
                  <a:pt x="18976" y="10145"/>
                </a:moveTo>
                <a:cubicBezTo>
                  <a:pt x="18984" y="10153"/>
                  <a:pt x="18992" y="10162"/>
                  <a:pt x="19000" y="10170"/>
                </a:cubicBezTo>
                <a:cubicBezTo>
                  <a:pt x="18970" y="10178"/>
                  <a:pt x="18905" y="10183"/>
                  <a:pt x="18876" y="10195"/>
                </a:cubicBezTo>
                <a:cubicBezTo>
                  <a:pt x="18868" y="10203"/>
                  <a:pt x="18860" y="10212"/>
                  <a:pt x="18852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8200" y="3616200"/>
            <a:ext cx="98640" cy="19080"/>
          </a:xfrm>
          <a:custGeom>
            <a:avLst/>
            <a:gdLst/>
            <a:ahLst/>
            <a:rect l="l" t="t" r="r" b="b"/>
            <a:pathLst>
              <a:path w="274" h="51">
                <a:moveTo>
                  <a:pt x="19521" y="10071"/>
                </a:moveTo>
                <a:cubicBezTo>
                  <a:pt x="19496" y="10071"/>
                  <a:pt x="19488" y="10071"/>
                  <a:pt x="19496" y="10096"/>
                </a:cubicBezTo>
                <a:cubicBezTo>
                  <a:pt x="19550" y="10096"/>
                  <a:pt x="19597" y="10090"/>
                  <a:pt x="19645" y="10071"/>
                </a:cubicBezTo>
                <a:cubicBezTo>
                  <a:pt x="19696" y="10051"/>
                  <a:pt x="19715" y="10046"/>
                  <a:pt x="19769" y="10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24840" y="3473280"/>
            <a:ext cx="106200" cy="142920"/>
          </a:xfrm>
          <a:custGeom>
            <a:avLst/>
            <a:gdLst/>
            <a:ahLst/>
            <a:rect l="l" t="t" r="r" b="b"/>
            <a:pathLst>
              <a:path w="299" h="398">
                <a:moveTo>
                  <a:pt x="20117" y="9699"/>
                </a:moveTo>
                <a:cubicBezTo>
                  <a:pt x="20117" y="9682"/>
                  <a:pt x="20117" y="9666"/>
                  <a:pt x="20117" y="9649"/>
                </a:cubicBezTo>
                <a:cubicBezTo>
                  <a:pt x="20077" y="9676"/>
                  <a:pt x="20070" y="9758"/>
                  <a:pt x="20067" y="9823"/>
                </a:cubicBezTo>
                <a:cubicBezTo>
                  <a:pt x="20064" y="9889"/>
                  <a:pt x="20067" y="9955"/>
                  <a:pt x="20067" y="10021"/>
                </a:cubicBezTo>
              </a:path>
              <a:path w="299" h="398">
                <a:moveTo>
                  <a:pt x="20315" y="10046"/>
                </a:moveTo>
                <a:cubicBezTo>
                  <a:pt x="20340" y="10046"/>
                  <a:pt x="20348" y="10046"/>
                  <a:pt x="20365" y="10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39040" y="3446640"/>
            <a:ext cx="17280" cy="169560"/>
          </a:xfrm>
          <a:custGeom>
            <a:avLst/>
            <a:gdLst/>
            <a:ahLst/>
            <a:rect l="l" t="t" r="r" b="b"/>
            <a:pathLst>
              <a:path w="51" h="472">
                <a:moveTo>
                  <a:pt x="20662" y="9624"/>
                </a:moveTo>
                <a:cubicBezTo>
                  <a:pt x="20682" y="9584"/>
                  <a:pt x="20681" y="9568"/>
                  <a:pt x="20712" y="9575"/>
                </a:cubicBezTo>
                <a:cubicBezTo>
                  <a:pt x="20699" y="9627"/>
                  <a:pt x="20687" y="9660"/>
                  <a:pt x="20687" y="9723"/>
                </a:cubicBezTo>
                <a:cubicBezTo>
                  <a:pt x="20687" y="9823"/>
                  <a:pt x="20663" y="9964"/>
                  <a:pt x="20712" y="10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72240" y="3429000"/>
            <a:ext cx="108000" cy="241200"/>
          </a:xfrm>
          <a:custGeom>
            <a:avLst/>
            <a:gdLst/>
            <a:ahLst/>
            <a:rect l="l" t="t" r="r" b="b"/>
            <a:pathLst>
              <a:path w="299" h="671">
                <a:moveTo>
                  <a:pt x="21084" y="9575"/>
                </a:moveTo>
                <a:cubicBezTo>
                  <a:pt x="21104" y="9534"/>
                  <a:pt x="21102" y="9518"/>
                  <a:pt x="21134" y="9525"/>
                </a:cubicBezTo>
                <a:cubicBezTo>
                  <a:pt x="21120" y="9582"/>
                  <a:pt x="21078" y="9635"/>
                  <a:pt x="21059" y="9699"/>
                </a:cubicBezTo>
                <a:cubicBezTo>
                  <a:pt x="21022" y="9826"/>
                  <a:pt x="21035" y="9960"/>
                  <a:pt x="21109" y="10071"/>
                </a:cubicBezTo>
                <a:cubicBezTo>
                  <a:pt x="21169" y="10161"/>
                  <a:pt x="21244" y="10192"/>
                  <a:pt x="21332" y="10170"/>
                </a:cubicBezTo>
                <a:cubicBezTo>
                  <a:pt x="21332" y="10096"/>
                  <a:pt x="21350" y="10011"/>
                  <a:pt x="21307" y="9947"/>
                </a:cubicBezTo>
                <a:cubicBezTo>
                  <a:pt x="21240" y="9848"/>
                  <a:pt x="21178" y="9905"/>
                  <a:pt x="21109" y="9947"/>
                </a:cubicBezTo>
                <a:cubicBezTo>
                  <a:pt x="21092" y="9955"/>
                  <a:pt x="21076" y="9963"/>
                  <a:pt x="21059" y="9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62800" y="3911760"/>
            <a:ext cx="295200" cy="214200"/>
          </a:xfrm>
          <a:custGeom>
            <a:avLst/>
            <a:gdLst/>
            <a:ahLst/>
            <a:rect l="l" t="t" r="r" b="b"/>
            <a:pathLst>
              <a:path w="820" h="597">
                <a:moveTo>
                  <a:pt x="18281" y="11013"/>
                </a:moveTo>
                <a:cubicBezTo>
                  <a:pt x="18253" y="11013"/>
                  <a:pt x="18242" y="11011"/>
                  <a:pt x="18231" y="10988"/>
                </a:cubicBezTo>
                <a:cubicBezTo>
                  <a:pt x="18243" y="10952"/>
                  <a:pt x="18309" y="10937"/>
                  <a:pt x="18355" y="10914"/>
                </a:cubicBezTo>
                <a:cubicBezTo>
                  <a:pt x="18398" y="10892"/>
                  <a:pt x="18529" y="10825"/>
                  <a:pt x="18579" y="10864"/>
                </a:cubicBezTo>
                <a:cubicBezTo>
                  <a:pt x="18605" y="10884"/>
                  <a:pt x="18616" y="10983"/>
                  <a:pt x="18604" y="11013"/>
                </a:cubicBezTo>
                <a:cubicBezTo>
                  <a:pt x="18584" y="11060"/>
                  <a:pt x="18514" y="11080"/>
                  <a:pt x="18479" y="11112"/>
                </a:cubicBezTo>
                <a:cubicBezTo>
                  <a:pt x="18437" y="11150"/>
                  <a:pt x="18461" y="11184"/>
                  <a:pt x="18504" y="11212"/>
                </a:cubicBezTo>
                <a:cubicBezTo>
                  <a:pt x="18545" y="11238"/>
                  <a:pt x="18622" y="11292"/>
                  <a:pt x="18628" y="11336"/>
                </a:cubicBezTo>
                <a:cubicBezTo>
                  <a:pt x="18639" y="11411"/>
                  <a:pt x="18626" y="11431"/>
                  <a:pt x="18554" y="11435"/>
                </a:cubicBezTo>
                <a:cubicBezTo>
                  <a:pt x="18490" y="11439"/>
                  <a:pt x="18413" y="11410"/>
                  <a:pt x="18355" y="11385"/>
                </a:cubicBezTo>
                <a:cubicBezTo>
                  <a:pt x="18339" y="11377"/>
                  <a:pt x="18322" y="11369"/>
                  <a:pt x="18306" y="11361"/>
                </a:cubicBezTo>
              </a:path>
              <a:path w="820" h="597">
                <a:moveTo>
                  <a:pt x="18827" y="11212"/>
                </a:moveTo>
                <a:cubicBezTo>
                  <a:pt x="18802" y="11179"/>
                  <a:pt x="18781" y="11167"/>
                  <a:pt x="18777" y="11137"/>
                </a:cubicBezTo>
                <a:cubicBezTo>
                  <a:pt x="18772" y="11094"/>
                  <a:pt x="18839" y="11047"/>
                  <a:pt x="18876" y="11038"/>
                </a:cubicBezTo>
                <a:cubicBezTo>
                  <a:pt x="18968" y="11016"/>
                  <a:pt x="19035" y="11109"/>
                  <a:pt x="19050" y="11187"/>
                </a:cubicBezTo>
                <a:cubicBezTo>
                  <a:pt x="19068" y="11280"/>
                  <a:pt x="19054" y="11375"/>
                  <a:pt x="18976" y="11435"/>
                </a:cubicBezTo>
                <a:cubicBezTo>
                  <a:pt x="18905" y="11490"/>
                  <a:pt x="18826" y="11451"/>
                  <a:pt x="18777" y="11385"/>
                </a:cubicBezTo>
                <a:cubicBezTo>
                  <a:pt x="18769" y="11369"/>
                  <a:pt x="18760" y="11352"/>
                  <a:pt x="18752" y="113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7920" y="4027320"/>
            <a:ext cx="160200" cy="44640"/>
          </a:xfrm>
          <a:custGeom>
            <a:avLst/>
            <a:gdLst/>
            <a:ahLst/>
            <a:rect l="l" t="t" r="r" b="b"/>
            <a:pathLst>
              <a:path w="448" h="125">
                <a:moveTo>
                  <a:pt x="19521" y="11311"/>
                </a:moveTo>
                <a:cubicBezTo>
                  <a:pt x="19533" y="11275"/>
                  <a:pt x="19557" y="11278"/>
                  <a:pt x="19596" y="11261"/>
                </a:cubicBezTo>
                <a:cubicBezTo>
                  <a:pt x="19679" y="11226"/>
                  <a:pt x="19778" y="11216"/>
                  <a:pt x="19869" y="11212"/>
                </a:cubicBezTo>
                <a:cubicBezTo>
                  <a:pt x="19920" y="11212"/>
                  <a:pt x="19939" y="11211"/>
                  <a:pt x="19968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66040" y="3884760"/>
            <a:ext cx="490680" cy="214200"/>
          </a:xfrm>
          <a:custGeom>
            <a:avLst/>
            <a:gdLst/>
            <a:ahLst/>
            <a:rect l="l" t="t" r="r" b="b"/>
            <a:pathLst>
              <a:path w="1365" h="596">
                <a:moveTo>
                  <a:pt x="21010" y="10840"/>
                </a:moveTo>
                <a:cubicBezTo>
                  <a:pt x="21018" y="10823"/>
                  <a:pt x="21026" y="10807"/>
                  <a:pt x="21034" y="10790"/>
                </a:cubicBezTo>
                <a:cubicBezTo>
                  <a:pt x="20922" y="10847"/>
                  <a:pt x="20904" y="10879"/>
                  <a:pt x="20836" y="10988"/>
                </a:cubicBezTo>
                <a:cubicBezTo>
                  <a:pt x="20756" y="11116"/>
                  <a:pt x="20737" y="11186"/>
                  <a:pt x="20737" y="11336"/>
                </a:cubicBezTo>
                <a:cubicBezTo>
                  <a:pt x="20737" y="11352"/>
                  <a:pt x="20737" y="11369"/>
                  <a:pt x="20737" y="11385"/>
                </a:cubicBezTo>
              </a:path>
              <a:path w="1365" h="596">
                <a:moveTo>
                  <a:pt x="21233" y="10889"/>
                </a:moveTo>
                <a:cubicBezTo>
                  <a:pt x="21272" y="10850"/>
                  <a:pt x="21273" y="10834"/>
                  <a:pt x="21307" y="10840"/>
                </a:cubicBezTo>
                <a:cubicBezTo>
                  <a:pt x="21269" y="10906"/>
                  <a:pt x="21241" y="10968"/>
                  <a:pt x="21208" y="11038"/>
                </a:cubicBezTo>
                <a:cubicBezTo>
                  <a:pt x="21179" y="11099"/>
                  <a:pt x="21165" y="11158"/>
                  <a:pt x="21208" y="11212"/>
                </a:cubicBezTo>
                <a:cubicBezTo>
                  <a:pt x="21245" y="11258"/>
                  <a:pt x="21328" y="11237"/>
                  <a:pt x="21382" y="11237"/>
                </a:cubicBezTo>
                <a:cubicBezTo>
                  <a:pt x="21445" y="11237"/>
                  <a:pt x="21490" y="11212"/>
                  <a:pt x="21555" y="11212"/>
                </a:cubicBezTo>
                <a:cubicBezTo>
                  <a:pt x="21597" y="11212"/>
                  <a:pt x="21605" y="11212"/>
                  <a:pt x="21630" y="11212"/>
                </a:cubicBezTo>
              </a:path>
              <a:path w="1365" h="596">
                <a:moveTo>
                  <a:pt x="21530" y="11112"/>
                </a:moveTo>
                <a:cubicBezTo>
                  <a:pt x="21490" y="11092"/>
                  <a:pt x="21483" y="11084"/>
                  <a:pt x="21456" y="11088"/>
                </a:cubicBezTo>
                <a:cubicBezTo>
                  <a:pt x="21442" y="11156"/>
                  <a:pt x="21431" y="11212"/>
                  <a:pt x="21431" y="11286"/>
                </a:cubicBezTo>
                <a:cubicBezTo>
                  <a:pt x="21431" y="11336"/>
                  <a:pt x="21431" y="11352"/>
                  <a:pt x="21431" y="11385"/>
                </a:cubicBezTo>
              </a:path>
              <a:path w="1365" h="596">
                <a:moveTo>
                  <a:pt x="22051" y="11013"/>
                </a:moveTo>
                <a:cubicBezTo>
                  <a:pt x="22059" y="11013"/>
                  <a:pt x="22068" y="11013"/>
                  <a:pt x="22076" y="11013"/>
                </a:cubicBezTo>
                <a:cubicBezTo>
                  <a:pt x="22034" y="11056"/>
                  <a:pt x="21964" y="11072"/>
                  <a:pt x="21927" y="11112"/>
                </a:cubicBezTo>
                <a:cubicBezTo>
                  <a:pt x="21900" y="11142"/>
                  <a:pt x="21867" y="11184"/>
                  <a:pt x="21853" y="11212"/>
                </a:cubicBezTo>
              </a:path>
              <a:path w="1365" h="596">
                <a:moveTo>
                  <a:pt x="22101" y="11237"/>
                </a:moveTo>
                <a:cubicBezTo>
                  <a:pt x="22087" y="11183"/>
                  <a:pt x="22054" y="11164"/>
                  <a:pt x="22002" y="11137"/>
                </a:cubicBezTo>
                <a:cubicBezTo>
                  <a:pt x="21934" y="11101"/>
                  <a:pt x="21869" y="11076"/>
                  <a:pt x="21803" y="110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099280" y="3776760"/>
            <a:ext cx="768600" cy="322200"/>
          </a:xfrm>
          <a:custGeom>
            <a:avLst/>
            <a:gdLst/>
            <a:ahLst/>
            <a:rect l="l" t="t" r="r" b="b"/>
            <a:pathLst>
              <a:path w="2134" h="894">
                <a:moveTo>
                  <a:pt x="22498" y="11137"/>
                </a:moveTo>
                <a:cubicBezTo>
                  <a:pt x="22498" y="11112"/>
                  <a:pt x="22498" y="11104"/>
                  <a:pt x="22498" y="11088"/>
                </a:cubicBezTo>
                <a:cubicBezTo>
                  <a:pt x="22546" y="11088"/>
                  <a:pt x="22604" y="11077"/>
                  <a:pt x="22647" y="11063"/>
                </a:cubicBezTo>
                <a:cubicBezTo>
                  <a:pt x="22706" y="11043"/>
                  <a:pt x="22732" y="11038"/>
                  <a:pt x="22796" y="11038"/>
                </a:cubicBezTo>
              </a:path>
              <a:path w="2134" h="894">
                <a:moveTo>
                  <a:pt x="23068" y="10815"/>
                </a:moveTo>
                <a:cubicBezTo>
                  <a:pt x="23076" y="10807"/>
                  <a:pt x="23085" y="10798"/>
                  <a:pt x="23093" y="10790"/>
                </a:cubicBezTo>
                <a:cubicBezTo>
                  <a:pt x="23093" y="10863"/>
                  <a:pt x="23071" y="10915"/>
                  <a:pt x="23068" y="10988"/>
                </a:cubicBezTo>
                <a:cubicBezTo>
                  <a:pt x="23065" y="11066"/>
                  <a:pt x="23069" y="11116"/>
                  <a:pt x="23093" y="11187"/>
                </a:cubicBezTo>
              </a:path>
              <a:path w="2134" h="894">
                <a:moveTo>
                  <a:pt x="23341" y="11162"/>
                </a:moveTo>
                <a:cubicBezTo>
                  <a:pt x="23384" y="11162"/>
                  <a:pt x="23379" y="11152"/>
                  <a:pt x="23391" y="11187"/>
                </a:cubicBezTo>
              </a:path>
              <a:path w="2134" h="894">
                <a:moveTo>
                  <a:pt x="23639" y="10840"/>
                </a:moveTo>
                <a:cubicBezTo>
                  <a:pt x="23659" y="10799"/>
                  <a:pt x="23668" y="10772"/>
                  <a:pt x="23664" y="10815"/>
                </a:cubicBezTo>
                <a:cubicBezTo>
                  <a:pt x="23652" y="10863"/>
                  <a:pt x="23623" y="10910"/>
                  <a:pt x="23614" y="10964"/>
                </a:cubicBezTo>
                <a:cubicBezTo>
                  <a:pt x="23603" y="11029"/>
                  <a:pt x="23627" y="11078"/>
                  <a:pt x="23639" y="11137"/>
                </a:cubicBezTo>
              </a:path>
              <a:path w="2134" h="894">
                <a:moveTo>
                  <a:pt x="24061" y="10716"/>
                </a:moveTo>
                <a:cubicBezTo>
                  <a:pt x="24072" y="10706"/>
                  <a:pt x="24181" y="10600"/>
                  <a:pt x="24110" y="10666"/>
                </a:cubicBezTo>
                <a:cubicBezTo>
                  <a:pt x="24034" y="10737"/>
                  <a:pt x="23977" y="10835"/>
                  <a:pt x="23961" y="10939"/>
                </a:cubicBezTo>
                <a:cubicBezTo>
                  <a:pt x="23948" y="11023"/>
                  <a:pt x="24027" y="11114"/>
                  <a:pt x="24110" y="11137"/>
                </a:cubicBezTo>
                <a:cubicBezTo>
                  <a:pt x="24162" y="11152"/>
                  <a:pt x="24206" y="11110"/>
                  <a:pt x="24209" y="11063"/>
                </a:cubicBezTo>
                <a:cubicBezTo>
                  <a:pt x="24213" y="11005"/>
                  <a:pt x="24166" y="10954"/>
                  <a:pt x="24110" y="10939"/>
                </a:cubicBezTo>
                <a:cubicBezTo>
                  <a:pt x="24061" y="10939"/>
                  <a:pt x="24044" y="10939"/>
                  <a:pt x="24011" y="10939"/>
                </a:cubicBezTo>
              </a:path>
              <a:path w="2134" h="894">
                <a:moveTo>
                  <a:pt x="24333" y="10492"/>
                </a:moveTo>
                <a:cubicBezTo>
                  <a:pt x="24560" y="10525"/>
                  <a:pt x="24607" y="10590"/>
                  <a:pt x="24631" y="10840"/>
                </a:cubicBezTo>
                <a:cubicBezTo>
                  <a:pt x="24646" y="11003"/>
                  <a:pt x="24610" y="11181"/>
                  <a:pt x="24507" y="11311"/>
                </a:cubicBezTo>
                <a:cubicBezTo>
                  <a:pt x="24482" y="11336"/>
                  <a:pt x="24458" y="11360"/>
                  <a:pt x="24433" y="113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56200" y="4010040"/>
            <a:ext cx="1285920" cy="446040"/>
          </a:xfrm>
          <a:custGeom>
            <a:avLst/>
            <a:gdLst/>
            <a:ahLst/>
            <a:rect l="l" t="t" r="r" b="b"/>
            <a:pathLst>
              <a:path w="3573" h="1242">
                <a:moveTo>
                  <a:pt x="17537" y="11286"/>
                </a:moveTo>
                <a:cubicBezTo>
                  <a:pt x="17560" y="11241"/>
                  <a:pt x="17527" y="11221"/>
                  <a:pt x="17462" y="11212"/>
                </a:cubicBezTo>
                <a:cubicBezTo>
                  <a:pt x="17366" y="11199"/>
                  <a:pt x="17261" y="11190"/>
                  <a:pt x="17165" y="11187"/>
                </a:cubicBezTo>
                <a:cubicBezTo>
                  <a:pt x="17011" y="11182"/>
                  <a:pt x="16867" y="11192"/>
                  <a:pt x="16718" y="11212"/>
                </a:cubicBezTo>
                <a:cubicBezTo>
                  <a:pt x="16649" y="11221"/>
                  <a:pt x="16603" y="11202"/>
                  <a:pt x="16545" y="11237"/>
                </a:cubicBezTo>
              </a:path>
              <a:path w="3573" h="1242">
                <a:moveTo>
                  <a:pt x="17512" y="11162"/>
                </a:moveTo>
                <a:cubicBezTo>
                  <a:pt x="17524" y="11166"/>
                  <a:pt x="17567" y="11213"/>
                  <a:pt x="17537" y="11237"/>
                </a:cubicBezTo>
                <a:cubicBezTo>
                  <a:pt x="17494" y="11271"/>
                  <a:pt x="17477" y="11283"/>
                  <a:pt x="17438" y="11336"/>
                </a:cubicBezTo>
                <a:cubicBezTo>
                  <a:pt x="17405" y="11380"/>
                  <a:pt x="17388" y="11377"/>
                  <a:pt x="17388" y="11435"/>
                </a:cubicBezTo>
                <a:cubicBezTo>
                  <a:pt x="17453" y="11419"/>
                  <a:pt x="17440" y="11376"/>
                  <a:pt x="17487" y="11336"/>
                </a:cubicBezTo>
                <a:cubicBezTo>
                  <a:pt x="17494" y="11330"/>
                  <a:pt x="17583" y="11272"/>
                  <a:pt x="17537" y="11237"/>
                </a:cubicBezTo>
                <a:cubicBezTo>
                  <a:pt x="17509" y="11215"/>
                  <a:pt x="17449" y="11183"/>
                  <a:pt x="17413" y="11162"/>
                </a:cubicBezTo>
                <a:cubicBezTo>
                  <a:pt x="17396" y="11154"/>
                  <a:pt x="17380" y="11145"/>
                  <a:pt x="17363" y="11137"/>
                </a:cubicBezTo>
              </a:path>
              <a:path w="3573" h="1242">
                <a:moveTo>
                  <a:pt x="17512" y="11981"/>
                </a:moveTo>
                <a:cubicBezTo>
                  <a:pt x="17438" y="11981"/>
                  <a:pt x="17363" y="11981"/>
                  <a:pt x="17289" y="11981"/>
                </a:cubicBezTo>
              </a:path>
              <a:path w="3573" h="1242">
                <a:moveTo>
                  <a:pt x="17462" y="12105"/>
                </a:moveTo>
                <a:cubicBezTo>
                  <a:pt x="17501" y="12143"/>
                  <a:pt x="17518" y="12145"/>
                  <a:pt x="17512" y="12179"/>
                </a:cubicBezTo>
                <a:cubicBezTo>
                  <a:pt x="17468" y="12223"/>
                  <a:pt x="17431" y="12248"/>
                  <a:pt x="17363" y="12229"/>
                </a:cubicBezTo>
                <a:cubicBezTo>
                  <a:pt x="17323" y="12209"/>
                  <a:pt x="17317" y="12200"/>
                  <a:pt x="17289" y="12204"/>
                </a:cubicBezTo>
              </a:path>
              <a:path w="3573" h="1242">
                <a:moveTo>
                  <a:pt x="17983" y="11906"/>
                </a:moveTo>
                <a:cubicBezTo>
                  <a:pt x="17942" y="11864"/>
                  <a:pt x="17916" y="11856"/>
                  <a:pt x="17959" y="11807"/>
                </a:cubicBezTo>
                <a:cubicBezTo>
                  <a:pt x="18002" y="11758"/>
                  <a:pt x="18106" y="11772"/>
                  <a:pt x="18157" y="11807"/>
                </a:cubicBezTo>
                <a:cubicBezTo>
                  <a:pt x="18209" y="11843"/>
                  <a:pt x="18280" y="11884"/>
                  <a:pt x="18256" y="11956"/>
                </a:cubicBezTo>
                <a:cubicBezTo>
                  <a:pt x="18227" y="12042"/>
                  <a:pt x="18193" y="12025"/>
                  <a:pt x="18132" y="12055"/>
                </a:cubicBezTo>
                <a:cubicBezTo>
                  <a:pt x="18124" y="12063"/>
                  <a:pt x="18115" y="12072"/>
                  <a:pt x="18107" y="12080"/>
                </a:cubicBezTo>
                <a:cubicBezTo>
                  <a:pt x="18123" y="12144"/>
                  <a:pt x="18153" y="12118"/>
                  <a:pt x="18207" y="12154"/>
                </a:cubicBezTo>
                <a:cubicBezTo>
                  <a:pt x="18249" y="12182"/>
                  <a:pt x="18256" y="12208"/>
                  <a:pt x="18256" y="12254"/>
                </a:cubicBezTo>
                <a:cubicBezTo>
                  <a:pt x="18256" y="12315"/>
                  <a:pt x="18179" y="12316"/>
                  <a:pt x="18132" y="12303"/>
                </a:cubicBezTo>
                <a:cubicBezTo>
                  <a:pt x="18083" y="12278"/>
                  <a:pt x="18066" y="12270"/>
                  <a:pt x="18033" y="12254"/>
                </a:cubicBezTo>
              </a:path>
              <a:path w="3573" h="1242">
                <a:moveTo>
                  <a:pt x="18380" y="12030"/>
                </a:moveTo>
                <a:cubicBezTo>
                  <a:pt x="18484" y="11958"/>
                  <a:pt x="18447" y="11956"/>
                  <a:pt x="18529" y="11956"/>
                </a:cubicBezTo>
                <a:cubicBezTo>
                  <a:pt x="18511" y="12000"/>
                  <a:pt x="18476" y="12063"/>
                  <a:pt x="18455" y="12105"/>
                </a:cubicBezTo>
                <a:cubicBezTo>
                  <a:pt x="18425" y="12164"/>
                  <a:pt x="18418" y="12189"/>
                  <a:pt x="18504" y="12204"/>
                </a:cubicBezTo>
                <a:cubicBezTo>
                  <a:pt x="18616" y="12224"/>
                  <a:pt x="18740" y="12213"/>
                  <a:pt x="18852" y="12229"/>
                </a:cubicBezTo>
                <a:cubicBezTo>
                  <a:pt x="18859" y="12230"/>
                  <a:pt x="18982" y="12248"/>
                  <a:pt x="18976" y="12254"/>
                </a:cubicBezTo>
                <a:cubicBezTo>
                  <a:pt x="18969" y="12261"/>
                  <a:pt x="18911" y="12254"/>
                  <a:pt x="18901" y="12254"/>
                </a:cubicBezTo>
              </a:path>
              <a:path w="3573" h="1242">
                <a:moveTo>
                  <a:pt x="18777" y="12129"/>
                </a:moveTo>
                <a:cubicBezTo>
                  <a:pt x="18755" y="12107"/>
                  <a:pt x="18750" y="12099"/>
                  <a:pt x="18728" y="12105"/>
                </a:cubicBezTo>
                <a:cubicBezTo>
                  <a:pt x="18728" y="12171"/>
                  <a:pt x="18728" y="12237"/>
                  <a:pt x="18728" y="12303"/>
                </a:cubicBezTo>
              </a:path>
              <a:path w="3573" h="1242">
                <a:moveTo>
                  <a:pt x="19075" y="12378"/>
                </a:moveTo>
                <a:cubicBezTo>
                  <a:pt x="19133" y="12378"/>
                  <a:pt x="19141" y="12378"/>
                  <a:pt x="19174" y="12378"/>
                </a:cubicBezTo>
              </a:path>
              <a:path w="3573" h="1242">
                <a:moveTo>
                  <a:pt x="19521" y="11881"/>
                </a:moveTo>
                <a:cubicBezTo>
                  <a:pt x="19548" y="11828"/>
                  <a:pt x="19571" y="11792"/>
                  <a:pt x="19571" y="11733"/>
                </a:cubicBezTo>
                <a:cubicBezTo>
                  <a:pt x="19507" y="11748"/>
                  <a:pt x="19483" y="11802"/>
                  <a:pt x="19447" y="11857"/>
                </a:cubicBezTo>
                <a:cubicBezTo>
                  <a:pt x="19400" y="11928"/>
                  <a:pt x="19333" y="12013"/>
                  <a:pt x="19348" y="12105"/>
                </a:cubicBezTo>
                <a:cubicBezTo>
                  <a:pt x="19356" y="12155"/>
                  <a:pt x="19392" y="12254"/>
                  <a:pt x="19447" y="12278"/>
                </a:cubicBezTo>
                <a:cubicBezTo>
                  <a:pt x="19455" y="12278"/>
                  <a:pt x="19464" y="12278"/>
                  <a:pt x="19472" y="12278"/>
                </a:cubicBezTo>
                <a:cubicBezTo>
                  <a:pt x="19496" y="12220"/>
                  <a:pt x="19515" y="12182"/>
                  <a:pt x="19472" y="12129"/>
                </a:cubicBezTo>
                <a:cubicBezTo>
                  <a:pt x="19447" y="12105"/>
                  <a:pt x="19438" y="12097"/>
                  <a:pt x="19422" y="12080"/>
                </a:cubicBezTo>
              </a:path>
              <a:path w="3573" h="1242">
                <a:moveTo>
                  <a:pt x="19745" y="11881"/>
                </a:moveTo>
                <a:cubicBezTo>
                  <a:pt x="19784" y="11842"/>
                  <a:pt x="19800" y="11811"/>
                  <a:pt x="19794" y="11857"/>
                </a:cubicBezTo>
                <a:cubicBezTo>
                  <a:pt x="19751" y="11910"/>
                  <a:pt x="19709" y="11988"/>
                  <a:pt x="19695" y="12055"/>
                </a:cubicBezTo>
                <a:cubicBezTo>
                  <a:pt x="19679" y="12128"/>
                  <a:pt x="19695" y="12179"/>
                  <a:pt x="19769" y="12204"/>
                </a:cubicBezTo>
                <a:cubicBezTo>
                  <a:pt x="19862" y="12235"/>
                  <a:pt x="20016" y="12204"/>
                  <a:pt x="20117" y="12204"/>
                </a:cubicBezTo>
              </a:path>
              <a:path w="3573" h="1242">
                <a:moveTo>
                  <a:pt x="20067" y="12129"/>
                </a:moveTo>
                <a:cubicBezTo>
                  <a:pt x="20026" y="12110"/>
                  <a:pt x="20020" y="12102"/>
                  <a:pt x="19993" y="12105"/>
                </a:cubicBezTo>
                <a:cubicBezTo>
                  <a:pt x="19983" y="12184"/>
                  <a:pt x="19968" y="12244"/>
                  <a:pt x="19968" y="12328"/>
                </a:cubicBezTo>
                <a:cubicBezTo>
                  <a:pt x="19968" y="12336"/>
                  <a:pt x="19968" y="12345"/>
                  <a:pt x="19968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0680" y="5429160"/>
            <a:ext cx="465120" cy="473040"/>
          </a:xfrm>
          <a:custGeom>
            <a:avLst/>
            <a:gdLst/>
            <a:ahLst/>
            <a:rect l="l" t="t" r="r" b="b"/>
            <a:pathLst>
              <a:path w="1291" h="1316">
                <a:moveTo>
                  <a:pt x="2406" y="16173"/>
                </a:moveTo>
                <a:cubicBezTo>
                  <a:pt x="2380" y="16234"/>
                  <a:pt x="2422" y="16236"/>
                  <a:pt x="2332" y="16247"/>
                </a:cubicBezTo>
                <a:cubicBezTo>
                  <a:pt x="2234" y="16259"/>
                  <a:pt x="2136" y="16289"/>
                  <a:pt x="2034" y="16272"/>
                </a:cubicBezTo>
                <a:cubicBezTo>
                  <a:pt x="1943" y="16257"/>
                  <a:pt x="1833" y="16206"/>
                  <a:pt x="1761" y="16148"/>
                </a:cubicBezTo>
                <a:cubicBezTo>
                  <a:pt x="1670" y="16074"/>
                  <a:pt x="1615" y="15951"/>
                  <a:pt x="1563" y="15850"/>
                </a:cubicBezTo>
                <a:cubicBezTo>
                  <a:pt x="1504" y="15735"/>
                  <a:pt x="1467" y="15633"/>
                  <a:pt x="1463" y="15503"/>
                </a:cubicBezTo>
                <a:cubicBezTo>
                  <a:pt x="1459" y="15380"/>
                  <a:pt x="1488" y="15261"/>
                  <a:pt x="1612" y="15205"/>
                </a:cubicBezTo>
                <a:cubicBezTo>
                  <a:pt x="1737" y="15149"/>
                  <a:pt x="1905" y="15135"/>
                  <a:pt x="2034" y="15180"/>
                </a:cubicBezTo>
                <a:cubicBezTo>
                  <a:pt x="2168" y="15227"/>
                  <a:pt x="2323" y="15313"/>
                  <a:pt x="2431" y="15404"/>
                </a:cubicBezTo>
                <a:cubicBezTo>
                  <a:pt x="2520" y="15479"/>
                  <a:pt x="2632" y="15581"/>
                  <a:pt x="2654" y="15701"/>
                </a:cubicBezTo>
                <a:cubicBezTo>
                  <a:pt x="2673" y="15802"/>
                  <a:pt x="2603" y="15940"/>
                  <a:pt x="2555" y="16024"/>
                </a:cubicBezTo>
                <a:cubicBezTo>
                  <a:pt x="2495" y="16130"/>
                  <a:pt x="2380" y="16181"/>
                  <a:pt x="2282" y="16247"/>
                </a:cubicBezTo>
                <a:cubicBezTo>
                  <a:pt x="2194" y="16306"/>
                  <a:pt x="2091" y="16342"/>
                  <a:pt x="1984" y="16346"/>
                </a:cubicBezTo>
                <a:cubicBezTo>
                  <a:pt x="1869" y="16351"/>
                  <a:pt x="1821" y="16310"/>
                  <a:pt x="1736" y="16247"/>
                </a:cubicBezTo>
                <a:cubicBezTo>
                  <a:pt x="1639" y="16175"/>
                  <a:pt x="1573" y="16081"/>
                  <a:pt x="1513" y="15974"/>
                </a:cubicBezTo>
                <a:cubicBezTo>
                  <a:pt x="1447" y="15858"/>
                  <a:pt x="1430" y="15728"/>
                  <a:pt x="1389" y="15602"/>
                </a:cubicBezTo>
                <a:cubicBezTo>
                  <a:pt x="1355" y="15496"/>
                  <a:pt x="1361" y="15406"/>
                  <a:pt x="1414" y="15304"/>
                </a:cubicBezTo>
                <a:cubicBezTo>
                  <a:pt x="1464" y="15207"/>
                  <a:pt x="1579" y="15106"/>
                  <a:pt x="1687" y="15081"/>
                </a:cubicBezTo>
                <a:cubicBezTo>
                  <a:pt x="1806" y="15054"/>
                  <a:pt x="1994" y="15071"/>
                  <a:pt x="2108" y="15106"/>
                </a:cubicBezTo>
                <a:cubicBezTo>
                  <a:pt x="2249" y="15150"/>
                  <a:pt x="2416" y="15230"/>
                  <a:pt x="2505" y="15354"/>
                </a:cubicBezTo>
                <a:cubicBezTo>
                  <a:pt x="2602" y="15489"/>
                  <a:pt x="2621" y="15639"/>
                  <a:pt x="2604" y="15801"/>
                </a:cubicBezTo>
                <a:cubicBezTo>
                  <a:pt x="2588" y="15953"/>
                  <a:pt x="2516" y="16137"/>
                  <a:pt x="2406" y="16247"/>
                </a:cubicBezTo>
                <a:cubicBezTo>
                  <a:pt x="2327" y="16327"/>
                  <a:pt x="2194" y="16381"/>
                  <a:pt x="2084" y="16396"/>
                </a:cubicBezTo>
                <a:cubicBezTo>
                  <a:pt x="2059" y="16396"/>
                  <a:pt x="2034" y="16396"/>
                  <a:pt x="2009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5206" t="7124" r="7536" b="49357"/>
          <a:stretch/>
        </p:blipFill>
        <p:spPr>
          <a:xfrm>
            <a:off x="0" y="0"/>
            <a:ext cx="8545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5206" t="50646" r="7536" b="5266"/>
          <a:stretch/>
        </p:blipFill>
        <p:spPr>
          <a:xfrm>
            <a:off x="0" y="0"/>
            <a:ext cx="8545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11088" t="7315" r="1654" b="65815"/>
          <a:stretch/>
        </p:blipFill>
        <p:spPr>
          <a:xfrm>
            <a:off x="0" y="0"/>
            <a:ext cx="9144000" cy="3876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35040" y="4010040"/>
            <a:ext cx="546120" cy="312840"/>
          </a:xfrm>
          <a:custGeom>
            <a:avLst/>
            <a:gdLst/>
            <a:ahLst/>
            <a:rect l="l" t="t" r="r" b="b"/>
            <a:pathLst>
              <a:path w="1514" h="869">
                <a:moveTo>
                  <a:pt x="4341" y="11584"/>
                </a:moveTo>
                <a:cubicBezTo>
                  <a:pt x="4296" y="11584"/>
                  <a:pt x="4270" y="11586"/>
                  <a:pt x="4266" y="11534"/>
                </a:cubicBezTo>
                <a:cubicBezTo>
                  <a:pt x="4259" y="11439"/>
                  <a:pt x="4320" y="11406"/>
                  <a:pt x="4390" y="11361"/>
                </a:cubicBezTo>
                <a:cubicBezTo>
                  <a:pt x="4474" y="11307"/>
                  <a:pt x="4536" y="11240"/>
                  <a:pt x="4614" y="11336"/>
                </a:cubicBezTo>
                <a:cubicBezTo>
                  <a:pt x="4668" y="11403"/>
                  <a:pt x="4635" y="11513"/>
                  <a:pt x="4614" y="11584"/>
                </a:cubicBezTo>
                <a:cubicBezTo>
                  <a:pt x="4584" y="11686"/>
                  <a:pt x="4517" y="11766"/>
                  <a:pt x="4465" y="11857"/>
                </a:cubicBezTo>
                <a:cubicBezTo>
                  <a:pt x="4435" y="11910"/>
                  <a:pt x="4440" y="11945"/>
                  <a:pt x="4440" y="12005"/>
                </a:cubicBezTo>
                <a:cubicBezTo>
                  <a:pt x="4521" y="12005"/>
                  <a:pt x="4585" y="11990"/>
                  <a:pt x="4663" y="11981"/>
                </a:cubicBezTo>
                <a:cubicBezTo>
                  <a:pt x="4746" y="11972"/>
                  <a:pt x="4872" y="12013"/>
                  <a:pt x="4936" y="11956"/>
                </a:cubicBezTo>
                <a:cubicBezTo>
                  <a:pt x="4944" y="11948"/>
                  <a:pt x="4953" y="11939"/>
                  <a:pt x="4961" y="11931"/>
                </a:cubicBezTo>
              </a:path>
              <a:path w="1514" h="869">
                <a:moveTo>
                  <a:pt x="5209" y="11336"/>
                </a:moveTo>
                <a:cubicBezTo>
                  <a:pt x="5245" y="11284"/>
                  <a:pt x="5266" y="11254"/>
                  <a:pt x="5308" y="11212"/>
                </a:cubicBezTo>
                <a:cubicBezTo>
                  <a:pt x="5277" y="11253"/>
                  <a:pt x="5254" y="11309"/>
                  <a:pt x="5234" y="11361"/>
                </a:cubicBezTo>
                <a:cubicBezTo>
                  <a:pt x="5213" y="11414"/>
                  <a:pt x="5179" y="11516"/>
                  <a:pt x="5234" y="11559"/>
                </a:cubicBezTo>
                <a:cubicBezTo>
                  <a:pt x="5306" y="11615"/>
                  <a:pt x="5379" y="11611"/>
                  <a:pt x="5457" y="11633"/>
                </a:cubicBezTo>
                <a:cubicBezTo>
                  <a:pt x="5517" y="11650"/>
                  <a:pt x="5590" y="11723"/>
                  <a:pt x="5606" y="11782"/>
                </a:cubicBezTo>
                <a:cubicBezTo>
                  <a:pt x="5624" y="11846"/>
                  <a:pt x="5605" y="11917"/>
                  <a:pt x="5531" y="11931"/>
                </a:cubicBezTo>
                <a:cubicBezTo>
                  <a:pt x="5440" y="11948"/>
                  <a:pt x="5319" y="11937"/>
                  <a:pt x="5234" y="11906"/>
                </a:cubicBezTo>
                <a:cubicBezTo>
                  <a:pt x="5190" y="11884"/>
                  <a:pt x="5179" y="11881"/>
                  <a:pt x="5159" y="11857"/>
                </a:cubicBezTo>
              </a:path>
              <a:path w="1514" h="869">
                <a:moveTo>
                  <a:pt x="5730" y="11237"/>
                </a:moveTo>
                <a:cubicBezTo>
                  <a:pt x="5767" y="11180"/>
                  <a:pt x="5784" y="11177"/>
                  <a:pt x="5779" y="11137"/>
                </a:cubicBezTo>
                <a:cubicBezTo>
                  <a:pt x="5674" y="11137"/>
                  <a:pt x="5585" y="11138"/>
                  <a:pt x="5482" y="11162"/>
                </a:cubicBezTo>
                <a:cubicBezTo>
                  <a:pt x="5449" y="11170"/>
                  <a:pt x="5416" y="11179"/>
                  <a:pt x="5383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0760" y="4133880"/>
            <a:ext cx="465120" cy="144360"/>
          </a:xfrm>
          <a:custGeom>
            <a:avLst/>
            <a:gdLst/>
            <a:ahLst/>
            <a:rect l="l" t="t" r="r" b="b"/>
            <a:pathLst>
              <a:path w="1291" h="397">
                <a:moveTo>
                  <a:pt x="7565" y="11559"/>
                </a:moveTo>
                <a:cubicBezTo>
                  <a:pt x="7604" y="11520"/>
                  <a:pt x="7621" y="11519"/>
                  <a:pt x="7615" y="11485"/>
                </a:cubicBezTo>
                <a:cubicBezTo>
                  <a:pt x="7548" y="11485"/>
                  <a:pt x="7511" y="11504"/>
                  <a:pt x="7466" y="11559"/>
                </a:cubicBezTo>
                <a:cubicBezTo>
                  <a:pt x="7400" y="11640"/>
                  <a:pt x="7364" y="11737"/>
                  <a:pt x="7417" y="11832"/>
                </a:cubicBezTo>
                <a:cubicBezTo>
                  <a:pt x="7425" y="11840"/>
                  <a:pt x="7433" y="11849"/>
                  <a:pt x="7441" y="11857"/>
                </a:cubicBezTo>
                <a:cubicBezTo>
                  <a:pt x="7498" y="11816"/>
                  <a:pt x="7528" y="11771"/>
                  <a:pt x="7565" y="11708"/>
                </a:cubicBezTo>
                <a:cubicBezTo>
                  <a:pt x="7573" y="11691"/>
                  <a:pt x="7582" y="11675"/>
                  <a:pt x="7590" y="11658"/>
                </a:cubicBezTo>
                <a:cubicBezTo>
                  <a:pt x="7627" y="11670"/>
                  <a:pt x="7642" y="11735"/>
                  <a:pt x="7665" y="11782"/>
                </a:cubicBezTo>
                <a:cubicBezTo>
                  <a:pt x="7693" y="11838"/>
                  <a:pt x="7732" y="11867"/>
                  <a:pt x="7789" y="11881"/>
                </a:cubicBezTo>
              </a:path>
              <a:path w="1291" h="397">
                <a:moveTo>
                  <a:pt x="7938" y="11683"/>
                </a:moveTo>
                <a:cubicBezTo>
                  <a:pt x="7959" y="11748"/>
                  <a:pt x="7967" y="11764"/>
                  <a:pt x="7962" y="11807"/>
                </a:cubicBezTo>
                <a:cubicBezTo>
                  <a:pt x="7962" y="11864"/>
                  <a:pt x="7916" y="11700"/>
                  <a:pt x="7913" y="11683"/>
                </a:cubicBezTo>
                <a:cubicBezTo>
                  <a:pt x="7903" y="11633"/>
                  <a:pt x="7908" y="11588"/>
                  <a:pt x="7962" y="11584"/>
                </a:cubicBezTo>
                <a:cubicBezTo>
                  <a:pt x="8019" y="11580"/>
                  <a:pt x="8079" y="11584"/>
                  <a:pt x="8136" y="11584"/>
                </a:cubicBezTo>
              </a:path>
              <a:path w="1291" h="397">
                <a:moveTo>
                  <a:pt x="8210" y="11609"/>
                </a:moveTo>
                <a:cubicBezTo>
                  <a:pt x="8248" y="11646"/>
                  <a:pt x="8277" y="11679"/>
                  <a:pt x="8334" y="11683"/>
                </a:cubicBezTo>
                <a:cubicBezTo>
                  <a:pt x="8397" y="11687"/>
                  <a:pt x="8476" y="11662"/>
                  <a:pt x="8458" y="11584"/>
                </a:cubicBezTo>
                <a:cubicBezTo>
                  <a:pt x="8437" y="11540"/>
                  <a:pt x="8434" y="11528"/>
                  <a:pt x="8409" y="11509"/>
                </a:cubicBezTo>
                <a:cubicBezTo>
                  <a:pt x="8329" y="11529"/>
                  <a:pt x="8271" y="11580"/>
                  <a:pt x="8310" y="11683"/>
                </a:cubicBezTo>
                <a:cubicBezTo>
                  <a:pt x="8349" y="11786"/>
                  <a:pt x="8440" y="11896"/>
                  <a:pt x="8558" y="11881"/>
                </a:cubicBezTo>
                <a:cubicBezTo>
                  <a:pt x="8618" y="11852"/>
                  <a:pt x="8644" y="11837"/>
                  <a:pt x="8682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46680" y="4027320"/>
            <a:ext cx="9360" cy="204840"/>
          </a:xfrm>
          <a:custGeom>
            <a:avLst/>
            <a:gdLst/>
            <a:ahLst/>
            <a:rect l="l" t="t" r="r" b="b"/>
            <a:pathLst>
              <a:path w="25" h="571">
                <a:moveTo>
                  <a:pt x="10988" y="11237"/>
                </a:moveTo>
                <a:cubicBezTo>
                  <a:pt x="10988" y="11220"/>
                  <a:pt x="10988" y="11204"/>
                  <a:pt x="10988" y="11187"/>
                </a:cubicBezTo>
                <a:cubicBezTo>
                  <a:pt x="10988" y="11283"/>
                  <a:pt x="10967" y="11364"/>
                  <a:pt x="10964" y="11460"/>
                </a:cubicBezTo>
                <a:cubicBezTo>
                  <a:pt x="10961" y="11559"/>
                  <a:pt x="10964" y="11658"/>
                  <a:pt x="10964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06880" y="4000680"/>
            <a:ext cx="501480" cy="231480"/>
          </a:xfrm>
          <a:custGeom>
            <a:avLst/>
            <a:gdLst/>
            <a:ahLst/>
            <a:rect l="l" t="t" r="r" b="b"/>
            <a:pathLst>
              <a:path w="1390" h="646">
                <a:moveTo>
                  <a:pt x="11435" y="11212"/>
                </a:moveTo>
                <a:cubicBezTo>
                  <a:pt x="11473" y="11155"/>
                  <a:pt x="11490" y="11152"/>
                  <a:pt x="11485" y="11112"/>
                </a:cubicBezTo>
                <a:cubicBezTo>
                  <a:pt x="11439" y="11158"/>
                  <a:pt x="11414" y="11170"/>
                  <a:pt x="11410" y="11237"/>
                </a:cubicBezTo>
                <a:cubicBezTo>
                  <a:pt x="11405" y="11324"/>
                  <a:pt x="11434" y="11343"/>
                  <a:pt x="11509" y="11385"/>
                </a:cubicBezTo>
                <a:cubicBezTo>
                  <a:pt x="11565" y="11416"/>
                  <a:pt x="11680" y="11467"/>
                  <a:pt x="11708" y="11534"/>
                </a:cubicBezTo>
                <a:cubicBezTo>
                  <a:pt x="11735" y="11599"/>
                  <a:pt x="11700" y="11667"/>
                  <a:pt x="11633" y="11683"/>
                </a:cubicBezTo>
                <a:cubicBezTo>
                  <a:pt x="11566" y="11699"/>
                  <a:pt x="11470" y="11635"/>
                  <a:pt x="11410" y="11609"/>
                </a:cubicBezTo>
              </a:path>
              <a:path w="1390" h="646">
                <a:moveTo>
                  <a:pt x="11782" y="11187"/>
                </a:moveTo>
                <a:cubicBezTo>
                  <a:pt x="11799" y="11170"/>
                  <a:pt x="11815" y="11154"/>
                  <a:pt x="11832" y="11137"/>
                </a:cubicBezTo>
                <a:cubicBezTo>
                  <a:pt x="11735" y="11137"/>
                  <a:pt x="11652" y="11125"/>
                  <a:pt x="11559" y="11112"/>
                </a:cubicBezTo>
                <a:cubicBezTo>
                  <a:pt x="11509" y="11112"/>
                  <a:pt x="11493" y="11112"/>
                  <a:pt x="11460" y="11112"/>
                </a:cubicBezTo>
              </a:path>
              <a:path w="1390" h="646">
                <a:moveTo>
                  <a:pt x="12278" y="11609"/>
                </a:moveTo>
                <a:cubicBezTo>
                  <a:pt x="12235" y="11609"/>
                  <a:pt x="12239" y="11610"/>
                  <a:pt x="12204" y="11584"/>
                </a:cubicBezTo>
                <a:cubicBezTo>
                  <a:pt x="12204" y="11543"/>
                  <a:pt x="12209" y="11505"/>
                  <a:pt x="12254" y="11485"/>
                </a:cubicBezTo>
                <a:cubicBezTo>
                  <a:pt x="12324" y="11454"/>
                  <a:pt x="12372" y="11499"/>
                  <a:pt x="12378" y="11559"/>
                </a:cubicBezTo>
                <a:cubicBezTo>
                  <a:pt x="12382" y="11608"/>
                  <a:pt x="12395" y="11734"/>
                  <a:pt x="12328" y="11757"/>
                </a:cubicBezTo>
                <a:cubicBezTo>
                  <a:pt x="12259" y="11781"/>
                  <a:pt x="12212" y="11706"/>
                  <a:pt x="12204" y="11658"/>
                </a:cubicBezTo>
                <a:cubicBezTo>
                  <a:pt x="12204" y="11650"/>
                  <a:pt x="12204" y="11641"/>
                  <a:pt x="12204" y="11633"/>
                </a:cubicBezTo>
              </a:path>
              <a:path w="1390" h="646">
                <a:moveTo>
                  <a:pt x="12452" y="11609"/>
                </a:moveTo>
                <a:cubicBezTo>
                  <a:pt x="12524" y="11625"/>
                  <a:pt x="12590" y="11657"/>
                  <a:pt x="12650" y="11609"/>
                </a:cubicBezTo>
                <a:cubicBezTo>
                  <a:pt x="12696" y="11572"/>
                  <a:pt x="12716" y="11506"/>
                  <a:pt x="12750" y="11460"/>
                </a:cubicBezTo>
                <a:cubicBezTo>
                  <a:pt x="12774" y="11435"/>
                  <a:pt x="12782" y="11426"/>
                  <a:pt x="12799" y="114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0760" y="4044960"/>
            <a:ext cx="492120" cy="233280"/>
          </a:xfrm>
          <a:custGeom>
            <a:avLst/>
            <a:gdLst/>
            <a:ahLst/>
            <a:rect l="l" t="t" r="r" b="b"/>
            <a:pathLst>
              <a:path w="1365" h="645">
                <a:moveTo>
                  <a:pt x="13891" y="11534"/>
                </a:moveTo>
                <a:cubicBezTo>
                  <a:pt x="13940" y="11501"/>
                  <a:pt x="13928" y="11497"/>
                  <a:pt x="13965" y="11485"/>
                </a:cubicBezTo>
              </a:path>
              <a:path w="1365" h="645">
                <a:moveTo>
                  <a:pt x="13965" y="11460"/>
                </a:moveTo>
                <a:cubicBezTo>
                  <a:pt x="13965" y="11386"/>
                  <a:pt x="13965" y="11311"/>
                  <a:pt x="13965" y="11237"/>
                </a:cubicBezTo>
                <a:cubicBezTo>
                  <a:pt x="13910" y="11304"/>
                  <a:pt x="13897" y="11397"/>
                  <a:pt x="13891" y="11485"/>
                </a:cubicBezTo>
                <a:cubicBezTo>
                  <a:pt x="13882" y="11613"/>
                  <a:pt x="13890" y="11737"/>
                  <a:pt x="13915" y="11857"/>
                </a:cubicBezTo>
                <a:cubicBezTo>
                  <a:pt x="13915" y="11865"/>
                  <a:pt x="13915" y="11873"/>
                  <a:pt x="13915" y="11881"/>
                </a:cubicBezTo>
              </a:path>
              <a:path w="1365" h="645">
                <a:moveTo>
                  <a:pt x="13965" y="11683"/>
                </a:moveTo>
                <a:cubicBezTo>
                  <a:pt x="14011" y="11746"/>
                  <a:pt x="14065" y="11854"/>
                  <a:pt x="14163" y="11832"/>
                </a:cubicBezTo>
                <a:cubicBezTo>
                  <a:pt x="14236" y="11816"/>
                  <a:pt x="14277" y="11700"/>
                  <a:pt x="14263" y="11633"/>
                </a:cubicBezTo>
                <a:cubicBezTo>
                  <a:pt x="14250" y="11571"/>
                  <a:pt x="14232" y="11584"/>
                  <a:pt x="14188" y="11584"/>
                </a:cubicBezTo>
                <a:cubicBezTo>
                  <a:pt x="14160" y="11667"/>
                  <a:pt x="14146" y="11747"/>
                  <a:pt x="14188" y="11832"/>
                </a:cubicBezTo>
                <a:cubicBezTo>
                  <a:pt x="14217" y="11890"/>
                  <a:pt x="14303" y="11853"/>
                  <a:pt x="14337" y="11832"/>
                </a:cubicBezTo>
              </a:path>
              <a:path w="1365" h="645">
                <a:moveTo>
                  <a:pt x="14635" y="11534"/>
                </a:moveTo>
                <a:cubicBezTo>
                  <a:pt x="14655" y="11494"/>
                  <a:pt x="14664" y="11488"/>
                  <a:pt x="14660" y="11460"/>
                </a:cubicBezTo>
                <a:cubicBezTo>
                  <a:pt x="14588" y="11460"/>
                  <a:pt x="14550" y="11477"/>
                  <a:pt x="14486" y="11509"/>
                </a:cubicBezTo>
                <a:cubicBezTo>
                  <a:pt x="14413" y="11545"/>
                  <a:pt x="14422" y="11607"/>
                  <a:pt x="14486" y="11658"/>
                </a:cubicBezTo>
                <a:cubicBezTo>
                  <a:pt x="14560" y="11717"/>
                  <a:pt x="14655" y="11755"/>
                  <a:pt x="14734" y="11807"/>
                </a:cubicBezTo>
                <a:cubicBezTo>
                  <a:pt x="14791" y="11845"/>
                  <a:pt x="14784" y="11822"/>
                  <a:pt x="14784" y="11881"/>
                </a:cubicBezTo>
                <a:cubicBezTo>
                  <a:pt x="14710" y="11881"/>
                  <a:pt x="14657" y="11867"/>
                  <a:pt x="14585" y="11857"/>
                </a:cubicBezTo>
                <a:cubicBezTo>
                  <a:pt x="14545" y="11852"/>
                  <a:pt x="14501" y="11857"/>
                  <a:pt x="14461" y="11857"/>
                </a:cubicBezTo>
              </a:path>
              <a:path w="1365" h="645">
                <a:moveTo>
                  <a:pt x="15106" y="11509"/>
                </a:moveTo>
                <a:cubicBezTo>
                  <a:pt x="15135" y="11442"/>
                  <a:pt x="15145" y="11416"/>
                  <a:pt x="15056" y="11410"/>
                </a:cubicBezTo>
                <a:cubicBezTo>
                  <a:pt x="15040" y="11410"/>
                  <a:pt x="15023" y="11410"/>
                  <a:pt x="15007" y="11410"/>
                </a:cubicBezTo>
                <a:cubicBezTo>
                  <a:pt x="15007" y="11493"/>
                  <a:pt x="15011" y="11511"/>
                  <a:pt x="15081" y="11559"/>
                </a:cubicBezTo>
                <a:cubicBezTo>
                  <a:pt x="15120" y="11585"/>
                  <a:pt x="15259" y="11666"/>
                  <a:pt x="15255" y="11733"/>
                </a:cubicBezTo>
                <a:cubicBezTo>
                  <a:pt x="15249" y="11841"/>
                  <a:pt x="15068" y="11807"/>
                  <a:pt x="15007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84200" y="4643280"/>
            <a:ext cx="428760" cy="250920"/>
          </a:xfrm>
          <a:custGeom>
            <a:avLst/>
            <a:gdLst/>
            <a:ahLst/>
            <a:rect l="l" t="t" r="r" b="b"/>
            <a:pathLst>
              <a:path w="1191" h="696">
                <a:moveTo>
                  <a:pt x="4167" y="12973"/>
                </a:moveTo>
                <a:cubicBezTo>
                  <a:pt x="4211" y="12951"/>
                  <a:pt x="4223" y="12948"/>
                  <a:pt x="4242" y="12923"/>
                </a:cubicBezTo>
                <a:cubicBezTo>
                  <a:pt x="4163" y="12876"/>
                  <a:pt x="4139" y="12898"/>
                  <a:pt x="4068" y="12948"/>
                </a:cubicBezTo>
                <a:cubicBezTo>
                  <a:pt x="3964" y="13021"/>
                  <a:pt x="3875" y="13062"/>
                  <a:pt x="3845" y="13196"/>
                </a:cubicBezTo>
                <a:cubicBezTo>
                  <a:pt x="3821" y="13301"/>
                  <a:pt x="3868" y="13315"/>
                  <a:pt x="3944" y="13345"/>
                </a:cubicBezTo>
                <a:cubicBezTo>
                  <a:pt x="4020" y="13375"/>
                  <a:pt x="4095" y="13369"/>
                  <a:pt x="4167" y="13419"/>
                </a:cubicBezTo>
                <a:cubicBezTo>
                  <a:pt x="4197" y="13449"/>
                  <a:pt x="4208" y="13463"/>
                  <a:pt x="4217" y="13494"/>
                </a:cubicBezTo>
                <a:cubicBezTo>
                  <a:pt x="4171" y="13539"/>
                  <a:pt x="4158" y="13543"/>
                  <a:pt x="4093" y="13543"/>
                </a:cubicBezTo>
                <a:cubicBezTo>
                  <a:pt x="4032" y="13543"/>
                  <a:pt x="3981" y="13516"/>
                  <a:pt x="3994" y="13444"/>
                </a:cubicBezTo>
                <a:cubicBezTo>
                  <a:pt x="4012" y="13339"/>
                  <a:pt x="4061" y="13187"/>
                  <a:pt x="4118" y="13097"/>
                </a:cubicBezTo>
                <a:cubicBezTo>
                  <a:pt x="4142" y="13072"/>
                  <a:pt x="4150" y="13063"/>
                  <a:pt x="4167" y="13047"/>
                </a:cubicBezTo>
              </a:path>
              <a:path w="1191" h="696">
                <a:moveTo>
                  <a:pt x="4564" y="13122"/>
                </a:moveTo>
                <a:cubicBezTo>
                  <a:pt x="4616" y="13061"/>
                  <a:pt x="4614" y="13085"/>
                  <a:pt x="4614" y="13022"/>
                </a:cubicBezTo>
                <a:cubicBezTo>
                  <a:pt x="4596" y="13034"/>
                  <a:pt x="4537" y="13151"/>
                  <a:pt x="4539" y="13196"/>
                </a:cubicBezTo>
                <a:cubicBezTo>
                  <a:pt x="4543" y="13274"/>
                  <a:pt x="4626" y="13321"/>
                  <a:pt x="4688" y="13345"/>
                </a:cubicBezTo>
                <a:cubicBezTo>
                  <a:pt x="4766" y="13376"/>
                  <a:pt x="4841" y="13405"/>
                  <a:pt x="4911" y="13444"/>
                </a:cubicBezTo>
                <a:cubicBezTo>
                  <a:pt x="4958" y="13470"/>
                  <a:pt x="4996" y="13526"/>
                  <a:pt x="4936" y="13568"/>
                </a:cubicBezTo>
                <a:cubicBezTo>
                  <a:pt x="4879" y="13608"/>
                  <a:pt x="4753" y="13608"/>
                  <a:pt x="4688" y="13593"/>
                </a:cubicBezTo>
                <a:cubicBezTo>
                  <a:pt x="4671" y="13585"/>
                  <a:pt x="4655" y="13576"/>
                  <a:pt x="4638" y="13568"/>
                </a:cubicBezTo>
              </a:path>
              <a:path w="1191" h="696">
                <a:moveTo>
                  <a:pt x="4986" y="13022"/>
                </a:moveTo>
                <a:cubicBezTo>
                  <a:pt x="5024" y="12946"/>
                  <a:pt x="5058" y="12931"/>
                  <a:pt x="5011" y="12898"/>
                </a:cubicBezTo>
                <a:cubicBezTo>
                  <a:pt x="4927" y="12912"/>
                  <a:pt x="4844" y="12946"/>
                  <a:pt x="4762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78040" y="4687920"/>
            <a:ext cx="393840" cy="135000"/>
          </a:xfrm>
          <a:custGeom>
            <a:avLst/>
            <a:gdLst/>
            <a:ahLst/>
            <a:rect l="l" t="t" r="r" b="b"/>
            <a:pathLst>
              <a:path w="1093" h="374">
                <a:moveTo>
                  <a:pt x="7615" y="13122"/>
                </a:moveTo>
                <a:cubicBezTo>
                  <a:pt x="7667" y="13061"/>
                  <a:pt x="7665" y="13085"/>
                  <a:pt x="7665" y="13022"/>
                </a:cubicBezTo>
                <a:cubicBezTo>
                  <a:pt x="7616" y="13022"/>
                  <a:pt x="7552" y="13035"/>
                  <a:pt x="7516" y="13072"/>
                </a:cubicBezTo>
                <a:cubicBezTo>
                  <a:pt x="7439" y="13153"/>
                  <a:pt x="7441" y="13242"/>
                  <a:pt x="7441" y="13345"/>
                </a:cubicBezTo>
                <a:cubicBezTo>
                  <a:pt x="7511" y="13345"/>
                  <a:pt x="7500" y="13326"/>
                  <a:pt x="7541" y="13271"/>
                </a:cubicBezTo>
                <a:cubicBezTo>
                  <a:pt x="7575" y="13225"/>
                  <a:pt x="7596" y="13205"/>
                  <a:pt x="7640" y="13246"/>
                </a:cubicBezTo>
                <a:cubicBezTo>
                  <a:pt x="7669" y="13273"/>
                  <a:pt x="7732" y="13383"/>
                  <a:pt x="7764" y="13395"/>
                </a:cubicBezTo>
                <a:cubicBezTo>
                  <a:pt x="7780" y="13395"/>
                  <a:pt x="7797" y="13395"/>
                  <a:pt x="7813" y="13395"/>
                </a:cubicBezTo>
              </a:path>
              <a:path w="1093" h="374">
                <a:moveTo>
                  <a:pt x="7888" y="13271"/>
                </a:moveTo>
                <a:cubicBezTo>
                  <a:pt x="7888" y="13313"/>
                  <a:pt x="7878" y="13308"/>
                  <a:pt x="7913" y="13320"/>
                </a:cubicBezTo>
                <a:cubicBezTo>
                  <a:pt x="7879" y="13275"/>
                  <a:pt x="7866" y="13231"/>
                  <a:pt x="7863" y="13171"/>
                </a:cubicBezTo>
                <a:cubicBezTo>
                  <a:pt x="7863" y="13130"/>
                  <a:pt x="7863" y="13122"/>
                  <a:pt x="7863" y="13097"/>
                </a:cubicBezTo>
                <a:cubicBezTo>
                  <a:pt x="7917" y="13097"/>
                  <a:pt x="7964" y="13103"/>
                  <a:pt x="8012" y="13122"/>
                </a:cubicBezTo>
                <a:cubicBezTo>
                  <a:pt x="8073" y="13145"/>
                  <a:pt x="8169" y="13169"/>
                  <a:pt x="8235" y="13146"/>
                </a:cubicBezTo>
                <a:cubicBezTo>
                  <a:pt x="8277" y="13131"/>
                  <a:pt x="8260" y="13080"/>
                  <a:pt x="8260" y="13047"/>
                </a:cubicBezTo>
                <a:cubicBezTo>
                  <a:pt x="8190" y="13047"/>
                  <a:pt x="8166" y="13024"/>
                  <a:pt x="8161" y="13097"/>
                </a:cubicBezTo>
                <a:cubicBezTo>
                  <a:pt x="8155" y="13189"/>
                  <a:pt x="8245" y="13277"/>
                  <a:pt x="8334" y="13295"/>
                </a:cubicBezTo>
                <a:cubicBezTo>
                  <a:pt x="8405" y="13309"/>
                  <a:pt x="8469" y="13292"/>
                  <a:pt x="8533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19680" y="4491000"/>
            <a:ext cx="349200" cy="295200"/>
          </a:xfrm>
          <a:custGeom>
            <a:avLst/>
            <a:gdLst/>
            <a:ahLst/>
            <a:rect l="l" t="t" r="r" b="b"/>
            <a:pathLst>
              <a:path w="969" h="819">
                <a:moveTo>
                  <a:pt x="11013" y="12675"/>
                </a:moveTo>
                <a:cubicBezTo>
                  <a:pt x="10972" y="12675"/>
                  <a:pt x="10930" y="12675"/>
                  <a:pt x="10889" y="12675"/>
                </a:cubicBezTo>
                <a:cubicBezTo>
                  <a:pt x="10889" y="12630"/>
                  <a:pt x="10882" y="12610"/>
                  <a:pt x="10914" y="12576"/>
                </a:cubicBezTo>
                <a:cubicBezTo>
                  <a:pt x="10987" y="12498"/>
                  <a:pt x="11058" y="12482"/>
                  <a:pt x="11162" y="12477"/>
                </a:cubicBezTo>
                <a:cubicBezTo>
                  <a:pt x="11179" y="12477"/>
                  <a:pt x="11195" y="12477"/>
                  <a:pt x="11212" y="12477"/>
                </a:cubicBezTo>
                <a:cubicBezTo>
                  <a:pt x="11254" y="12614"/>
                  <a:pt x="11224" y="12695"/>
                  <a:pt x="11162" y="12824"/>
                </a:cubicBezTo>
                <a:cubicBezTo>
                  <a:pt x="11100" y="12955"/>
                  <a:pt x="11010" y="13070"/>
                  <a:pt x="10939" y="13196"/>
                </a:cubicBezTo>
                <a:cubicBezTo>
                  <a:pt x="10915" y="13244"/>
                  <a:pt x="10907" y="13258"/>
                  <a:pt x="10914" y="13295"/>
                </a:cubicBezTo>
                <a:cubicBezTo>
                  <a:pt x="10993" y="13280"/>
                  <a:pt x="11040" y="13229"/>
                  <a:pt x="11112" y="13196"/>
                </a:cubicBezTo>
                <a:cubicBezTo>
                  <a:pt x="11193" y="13158"/>
                  <a:pt x="11280" y="13148"/>
                  <a:pt x="11361" y="13122"/>
                </a:cubicBezTo>
                <a:cubicBezTo>
                  <a:pt x="11377" y="13114"/>
                  <a:pt x="11394" y="13105"/>
                  <a:pt x="11410" y="13097"/>
                </a:cubicBezTo>
              </a:path>
              <a:path w="969" h="819">
                <a:moveTo>
                  <a:pt x="11485" y="12923"/>
                </a:moveTo>
                <a:cubicBezTo>
                  <a:pt x="11485" y="12854"/>
                  <a:pt x="11470" y="12821"/>
                  <a:pt x="11534" y="12774"/>
                </a:cubicBezTo>
                <a:cubicBezTo>
                  <a:pt x="11606" y="12721"/>
                  <a:pt x="11702" y="12703"/>
                  <a:pt x="11782" y="12750"/>
                </a:cubicBezTo>
                <a:cubicBezTo>
                  <a:pt x="11894" y="12816"/>
                  <a:pt x="11873" y="13022"/>
                  <a:pt x="11832" y="13122"/>
                </a:cubicBezTo>
                <a:cubicBezTo>
                  <a:pt x="11791" y="13222"/>
                  <a:pt x="11675" y="13252"/>
                  <a:pt x="11584" y="13196"/>
                </a:cubicBezTo>
                <a:cubicBezTo>
                  <a:pt x="11490" y="13137"/>
                  <a:pt x="11476" y="13064"/>
                  <a:pt x="11509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4660920"/>
            <a:ext cx="223560" cy="179280"/>
          </a:xfrm>
          <a:custGeom>
            <a:avLst/>
            <a:gdLst/>
            <a:ahLst/>
            <a:rect l="l" t="t" r="r" b="b"/>
            <a:pathLst>
              <a:path w="621" h="497">
                <a:moveTo>
                  <a:pt x="12601" y="13295"/>
                </a:moveTo>
                <a:cubicBezTo>
                  <a:pt x="12568" y="13284"/>
                  <a:pt x="12561" y="13241"/>
                  <a:pt x="12576" y="13196"/>
                </a:cubicBezTo>
                <a:cubicBezTo>
                  <a:pt x="12607" y="13102"/>
                  <a:pt x="12693" y="13100"/>
                  <a:pt x="12750" y="13171"/>
                </a:cubicBezTo>
                <a:cubicBezTo>
                  <a:pt x="12808" y="13243"/>
                  <a:pt x="12807" y="13316"/>
                  <a:pt x="12774" y="13395"/>
                </a:cubicBezTo>
                <a:cubicBezTo>
                  <a:pt x="12729" y="13502"/>
                  <a:pt x="12614" y="13421"/>
                  <a:pt x="12551" y="13370"/>
                </a:cubicBezTo>
                <a:cubicBezTo>
                  <a:pt x="12488" y="13319"/>
                  <a:pt x="12502" y="13294"/>
                  <a:pt x="12502" y="13221"/>
                </a:cubicBezTo>
              </a:path>
              <a:path w="621" h="497">
                <a:moveTo>
                  <a:pt x="12874" y="13221"/>
                </a:moveTo>
                <a:cubicBezTo>
                  <a:pt x="12915" y="13263"/>
                  <a:pt x="12924" y="13283"/>
                  <a:pt x="12973" y="13295"/>
                </a:cubicBezTo>
                <a:cubicBezTo>
                  <a:pt x="12987" y="13226"/>
                  <a:pt x="12990" y="13138"/>
                  <a:pt x="13022" y="13072"/>
                </a:cubicBezTo>
                <a:cubicBezTo>
                  <a:pt x="13069" y="13003"/>
                  <a:pt x="13081" y="12983"/>
                  <a:pt x="13122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9240" y="4527720"/>
            <a:ext cx="482760" cy="241200"/>
          </a:xfrm>
          <a:custGeom>
            <a:avLst/>
            <a:gdLst/>
            <a:ahLst/>
            <a:rect l="l" t="t" r="r" b="b"/>
            <a:pathLst>
              <a:path w="1340" h="671">
                <a:moveTo>
                  <a:pt x="14734" y="12700"/>
                </a:moveTo>
                <a:cubicBezTo>
                  <a:pt x="14741" y="12627"/>
                  <a:pt x="14745" y="12631"/>
                  <a:pt x="14759" y="12576"/>
                </a:cubicBezTo>
                <a:cubicBezTo>
                  <a:pt x="14702" y="12633"/>
                  <a:pt x="14679" y="12694"/>
                  <a:pt x="14660" y="12774"/>
                </a:cubicBezTo>
                <a:cubicBezTo>
                  <a:pt x="14627" y="12911"/>
                  <a:pt x="14610" y="13031"/>
                  <a:pt x="14610" y="13171"/>
                </a:cubicBezTo>
                <a:cubicBezTo>
                  <a:pt x="14610" y="13213"/>
                  <a:pt x="14610" y="13221"/>
                  <a:pt x="14610" y="13246"/>
                </a:cubicBezTo>
              </a:path>
              <a:path w="1340" h="671">
                <a:moveTo>
                  <a:pt x="14635" y="13097"/>
                </a:moveTo>
                <a:cubicBezTo>
                  <a:pt x="14698" y="13073"/>
                  <a:pt x="14748" y="13090"/>
                  <a:pt x="14808" y="13072"/>
                </a:cubicBezTo>
                <a:cubicBezTo>
                  <a:pt x="14867" y="13055"/>
                  <a:pt x="14929" y="12990"/>
                  <a:pt x="14908" y="12923"/>
                </a:cubicBezTo>
                <a:cubicBezTo>
                  <a:pt x="14900" y="12915"/>
                  <a:pt x="14891" y="12906"/>
                  <a:pt x="14883" y="12898"/>
                </a:cubicBezTo>
                <a:cubicBezTo>
                  <a:pt x="14809" y="12916"/>
                  <a:pt x="14833" y="12977"/>
                  <a:pt x="14833" y="13047"/>
                </a:cubicBezTo>
                <a:cubicBezTo>
                  <a:pt x="14833" y="13119"/>
                  <a:pt x="14855" y="13200"/>
                  <a:pt x="14932" y="13221"/>
                </a:cubicBezTo>
                <a:cubicBezTo>
                  <a:pt x="15001" y="13239"/>
                  <a:pt x="15037" y="13185"/>
                  <a:pt x="15081" y="13146"/>
                </a:cubicBezTo>
              </a:path>
              <a:path w="1340" h="671">
                <a:moveTo>
                  <a:pt x="15329" y="12799"/>
                </a:moveTo>
                <a:cubicBezTo>
                  <a:pt x="15354" y="12791"/>
                  <a:pt x="15379" y="12782"/>
                  <a:pt x="15404" y="12774"/>
                </a:cubicBezTo>
                <a:cubicBezTo>
                  <a:pt x="15372" y="12782"/>
                  <a:pt x="15320" y="12813"/>
                  <a:pt x="15304" y="12849"/>
                </a:cubicBezTo>
                <a:cubicBezTo>
                  <a:pt x="15289" y="12882"/>
                  <a:pt x="15406" y="12997"/>
                  <a:pt x="15429" y="13022"/>
                </a:cubicBezTo>
                <a:cubicBezTo>
                  <a:pt x="15457" y="13052"/>
                  <a:pt x="15469" y="13060"/>
                  <a:pt x="15478" y="13097"/>
                </a:cubicBezTo>
                <a:cubicBezTo>
                  <a:pt x="15409" y="13097"/>
                  <a:pt x="15341" y="13110"/>
                  <a:pt x="15280" y="13072"/>
                </a:cubicBezTo>
                <a:cubicBezTo>
                  <a:pt x="15272" y="13064"/>
                  <a:pt x="15263" y="13055"/>
                  <a:pt x="15255" y="13047"/>
                </a:cubicBezTo>
              </a:path>
              <a:path w="1340" h="671">
                <a:moveTo>
                  <a:pt x="15875" y="12824"/>
                </a:moveTo>
                <a:cubicBezTo>
                  <a:pt x="15895" y="12784"/>
                  <a:pt x="15904" y="12777"/>
                  <a:pt x="15900" y="12750"/>
                </a:cubicBezTo>
                <a:cubicBezTo>
                  <a:pt x="15855" y="12750"/>
                  <a:pt x="15801" y="12753"/>
                  <a:pt x="15776" y="12799"/>
                </a:cubicBezTo>
                <a:cubicBezTo>
                  <a:pt x="15738" y="12868"/>
                  <a:pt x="15875" y="12919"/>
                  <a:pt x="15900" y="12948"/>
                </a:cubicBezTo>
                <a:cubicBezTo>
                  <a:pt x="15931" y="12984"/>
                  <a:pt x="15976" y="13062"/>
                  <a:pt x="15925" y="13097"/>
                </a:cubicBezTo>
                <a:cubicBezTo>
                  <a:pt x="15870" y="13125"/>
                  <a:pt x="15847" y="13133"/>
                  <a:pt x="15801" y="131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09840" y="5160960"/>
            <a:ext cx="357120" cy="339840"/>
          </a:xfrm>
          <a:custGeom>
            <a:avLst/>
            <a:gdLst/>
            <a:ahLst/>
            <a:rect l="l" t="t" r="r" b="b"/>
            <a:pathLst>
              <a:path w="993" h="944">
                <a:moveTo>
                  <a:pt x="4539" y="14387"/>
                </a:moveTo>
                <a:cubicBezTo>
                  <a:pt x="4580" y="14367"/>
                  <a:pt x="4596" y="14369"/>
                  <a:pt x="4589" y="14337"/>
                </a:cubicBezTo>
                <a:cubicBezTo>
                  <a:pt x="4496" y="14349"/>
                  <a:pt x="4415" y="14398"/>
                  <a:pt x="4341" y="14461"/>
                </a:cubicBezTo>
                <a:cubicBezTo>
                  <a:pt x="4258" y="14532"/>
                  <a:pt x="4153" y="14663"/>
                  <a:pt x="4192" y="14784"/>
                </a:cubicBezTo>
                <a:cubicBezTo>
                  <a:pt x="4234" y="14912"/>
                  <a:pt x="4391" y="14928"/>
                  <a:pt x="4490" y="14982"/>
                </a:cubicBezTo>
                <a:cubicBezTo>
                  <a:pt x="4578" y="15030"/>
                  <a:pt x="4641" y="15091"/>
                  <a:pt x="4663" y="15180"/>
                </a:cubicBezTo>
                <a:cubicBezTo>
                  <a:pt x="4581" y="15253"/>
                  <a:pt x="4527" y="15276"/>
                  <a:pt x="4415" y="15280"/>
                </a:cubicBezTo>
                <a:cubicBezTo>
                  <a:pt x="4318" y="15283"/>
                  <a:pt x="4296" y="15270"/>
                  <a:pt x="4217" y="15230"/>
                </a:cubicBezTo>
              </a:path>
              <a:path w="993" h="944">
                <a:moveTo>
                  <a:pt x="4961" y="15056"/>
                </a:moveTo>
                <a:cubicBezTo>
                  <a:pt x="4921" y="15056"/>
                  <a:pt x="4881" y="15051"/>
                  <a:pt x="4862" y="15007"/>
                </a:cubicBezTo>
                <a:cubicBezTo>
                  <a:pt x="4831" y="14938"/>
                  <a:pt x="4945" y="14889"/>
                  <a:pt x="4986" y="14883"/>
                </a:cubicBezTo>
                <a:cubicBezTo>
                  <a:pt x="5072" y="14869"/>
                  <a:pt x="5184" y="14962"/>
                  <a:pt x="5184" y="15056"/>
                </a:cubicBezTo>
                <a:cubicBezTo>
                  <a:pt x="5184" y="15090"/>
                  <a:pt x="5087" y="15138"/>
                  <a:pt x="5060" y="15131"/>
                </a:cubicBezTo>
                <a:cubicBezTo>
                  <a:pt x="5011" y="15106"/>
                  <a:pt x="4994" y="15097"/>
                  <a:pt x="4961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44840" y="5180040"/>
            <a:ext cx="36360" cy="249120"/>
          </a:xfrm>
          <a:custGeom>
            <a:avLst/>
            <a:gdLst/>
            <a:ahLst/>
            <a:rect l="l" t="t" r="r" b="b"/>
            <a:pathLst>
              <a:path w="101" h="695">
                <a:moveTo>
                  <a:pt x="7069" y="14412"/>
                </a:moveTo>
                <a:cubicBezTo>
                  <a:pt x="7086" y="14404"/>
                  <a:pt x="7102" y="14395"/>
                  <a:pt x="7119" y="14387"/>
                </a:cubicBezTo>
                <a:cubicBezTo>
                  <a:pt x="7161" y="14457"/>
                  <a:pt x="7144" y="14550"/>
                  <a:pt x="7144" y="14635"/>
                </a:cubicBezTo>
                <a:cubicBezTo>
                  <a:pt x="7144" y="14782"/>
                  <a:pt x="7123" y="14943"/>
                  <a:pt x="7169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5040" y="5106960"/>
            <a:ext cx="920880" cy="268200"/>
          </a:xfrm>
          <a:custGeom>
            <a:avLst/>
            <a:gdLst/>
            <a:ahLst/>
            <a:rect l="l" t="t" r="r" b="b"/>
            <a:pathLst>
              <a:path w="2556" h="745">
                <a:moveTo>
                  <a:pt x="7516" y="14461"/>
                </a:moveTo>
                <a:cubicBezTo>
                  <a:pt x="7524" y="14445"/>
                  <a:pt x="7533" y="14428"/>
                  <a:pt x="7541" y="14412"/>
                </a:cubicBezTo>
                <a:cubicBezTo>
                  <a:pt x="7541" y="14482"/>
                  <a:pt x="7521" y="14541"/>
                  <a:pt x="7516" y="14610"/>
                </a:cubicBezTo>
                <a:cubicBezTo>
                  <a:pt x="7511" y="14673"/>
                  <a:pt x="7517" y="14717"/>
                  <a:pt x="7590" y="14734"/>
                </a:cubicBezTo>
                <a:cubicBezTo>
                  <a:pt x="7683" y="14756"/>
                  <a:pt x="7730" y="14743"/>
                  <a:pt x="7789" y="14808"/>
                </a:cubicBezTo>
                <a:cubicBezTo>
                  <a:pt x="7820" y="14843"/>
                  <a:pt x="7822" y="14912"/>
                  <a:pt x="7764" y="14932"/>
                </a:cubicBezTo>
                <a:cubicBezTo>
                  <a:pt x="7698" y="14955"/>
                  <a:pt x="7602" y="14930"/>
                  <a:pt x="7541" y="14908"/>
                </a:cubicBezTo>
              </a:path>
              <a:path w="2556" h="745">
                <a:moveTo>
                  <a:pt x="7962" y="14337"/>
                </a:moveTo>
                <a:cubicBezTo>
                  <a:pt x="7982" y="14297"/>
                  <a:pt x="8001" y="14281"/>
                  <a:pt x="7962" y="14288"/>
                </a:cubicBezTo>
                <a:cubicBezTo>
                  <a:pt x="7892" y="14316"/>
                  <a:pt x="7821" y="14359"/>
                  <a:pt x="7739" y="14387"/>
                </a:cubicBezTo>
                <a:cubicBezTo>
                  <a:pt x="7672" y="14410"/>
                  <a:pt x="7654" y="14415"/>
                  <a:pt x="7615" y="14436"/>
                </a:cubicBezTo>
              </a:path>
              <a:path w="2556" h="745">
                <a:moveTo>
                  <a:pt x="8285" y="14784"/>
                </a:moveTo>
                <a:cubicBezTo>
                  <a:pt x="8230" y="14784"/>
                  <a:pt x="8314" y="14765"/>
                  <a:pt x="8334" y="14759"/>
                </a:cubicBezTo>
                <a:cubicBezTo>
                  <a:pt x="8434" y="14727"/>
                  <a:pt x="8527" y="14734"/>
                  <a:pt x="8632" y="14734"/>
                </a:cubicBezTo>
                <a:cubicBezTo>
                  <a:pt x="8685" y="14734"/>
                  <a:pt x="8741" y="14715"/>
                  <a:pt x="8756" y="14759"/>
                </a:cubicBezTo>
              </a:path>
              <a:path w="2556" h="745">
                <a:moveTo>
                  <a:pt x="9079" y="14412"/>
                </a:moveTo>
                <a:cubicBezTo>
                  <a:pt x="9057" y="14378"/>
                  <a:pt x="9013" y="14355"/>
                  <a:pt x="9029" y="14312"/>
                </a:cubicBezTo>
                <a:cubicBezTo>
                  <a:pt x="9051" y="14250"/>
                  <a:pt x="9114" y="14202"/>
                  <a:pt x="9178" y="14188"/>
                </a:cubicBezTo>
                <a:cubicBezTo>
                  <a:pt x="9243" y="14173"/>
                  <a:pt x="9304" y="14174"/>
                  <a:pt x="9327" y="14238"/>
                </a:cubicBezTo>
                <a:cubicBezTo>
                  <a:pt x="9341" y="14277"/>
                  <a:pt x="9276" y="14404"/>
                  <a:pt x="9252" y="14436"/>
                </a:cubicBezTo>
                <a:cubicBezTo>
                  <a:pt x="9201" y="14506"/>
                  <a:pt x="9137" y="14577"/>
                  <a:pt x="9128" y="14660"/>
                </a:cubicBezTo>
                <a:cubicBezTo>
                  <a:pt x="9128" y="14709"/>
                  <a:pt x="9128" y="14726"/>
                  <a:pt x="9128" y="14759"/>
                </a:cubicBezTo>
                <a:cubicBezTo>
                  <a:pt x="9202" y="14759"/>
                  <a:pt x="9256" y="14761"/>
                  <a:pt x="9327" y="14734"/>
                </a:cubicBezTo>
                <a:cubicBezTo>
                  <a:pt x="9388" y="14710"/>
                  <a:pt x="9450" y="14675"/>
                  <a:pt x="9500" y="14635"/>
                </a:cubicBezTo>
              </a:path>
              <a:path w="2556" h="745">
                <a:moveTo>
                  <a:pt x="9699" y="14486"/>
                </a:moveTo>
                <a:cubicBezTo>
                  <a:pt x="9723" y="14427"/>
                  <a:pt x="9732" y="14394"/>
                  <a:pt x="9748" y="14337"/>
                </a:cubicBezTo>
                <a:cubicBezTo>
                  <a:pt x="9772" y="14252"/>
                  <a:pt x="9823" y="14168"/>
                  <a:pt x="9922" y="14188"/>
                </a:cubicBezTo>
                <a:cubicBezTo>
                  <a:pt x="10021" y="14208"/>
                  <a:pt x="10062" y="14379"/>
                  <a:pt x="10071" y="14461"/>
                </a:cubicBezTo>
                <a:cubicBezTo>
                  <a:pt x="10083" y="14566"/>
                  <a:pt x="10048" y="14678"/>
                  <a:pt x="9922" y="14660"/>
                </a:cubicBezTo>
                <a:cubicBezTo>
                  <a:pt x="9864" y="14652"/>
                  <a:pt x="9813" y="14595"/>
                  <a:pt x="9773" y="145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6880" y="5081760"/>
            <a:ext cx="600120" cy="204480"/>
          </a:xfrm>
          <a:custGeom>
            <a:avLst/>
            <a:gdLst/>
            <a:ahLst/>
            <a:rect l="l" t="t" r="r" b="b"/>
            <a:pathLst>
              <a:path w="1663" h="571">
                <a:moveTo>
                  <a:pt x="11410" y="14412"/>
                </a:moveTo>
                <a:cubicBezTo>
                  <a:pt x="11418" y="14404"/>
                  <a:pt x="11427" y="14395"/>
                  <a:pt x="11435" y="14387"/>
                </a:cubicBezTo>
                <a:cubicBezTo>
                  <a:pt x="11435" y="14458"/>
                  <a:pt x="11435" y="14678"/>
                  <a:pt x="11435" y="14660"/>
                </a:cubicBezTo>
                <a:cubicBezTo>
                  <a:pt x="11463" y="14614"/>
                  <a:pt x="11463" y="14527"/>
                  <a:pt x="11509" y="14486"/>
                </a:cubicBezTo>
                <a:cubicBezTo>
                  <a:pt x="11517" y="14486"/>
                  <a:pt x="11526" y="14486"/>
                  <a:pt x="11534" y="14486"/>
                </a:cubicBezTo>
                <a:cubicBezTo>
                  <a:pt x="11568" y="14528"/>
                  <a:pt x="11594" y="14570"/>
                  <a:pt x="11633" y="14610"/>
                </a:cubicBezTo>
                <a:cubicBezTo>
                  <a:pt x="11686" y="14557"/>
                  <a:pt x="11670" y="14523"/>
                  <a:pt x="11708" y="14461"/>
                </a:cubicBezTo>
                <a:cubicBezTo>
                  <a:pt x="11716" y="14453"/>
                  <a:pt x="11725" y="14444"/>
                  <a:pt x="11733" y="14436"/>
                </a:cubicBezTo>
                <a:cubicBezTo>
                  <a:pt x="11809" y="14456"/>
                  <a:pt x="11825" y="14517"/>
                  <a:pt x="11857" y="14585"/>
                </a:cubicBezTo>
                <a:cubicBezTo>
                  <a:pt x="11878" y="14629"/>
                  <a:pt x="11881" y="14641"/>
                  <a:pt x="11906" y="14660"/>
                </a:cubicBezTo>
              </a:path>
              <a:path w="1663" h="571">
                <a:moveTo>
                  <a:pt x="12005" y="14560"/>
                </a:moveTo>
                <a:cubicBezTo>
                  <a:pt x="12005" y="14544"/>
                  <a:pt x="12005" y="14527"/>
                  <a:pt x="12005" y="14511"/>
                </a:cubicBezTo>
                <a:cubicBezTo>
                  <a:pt x="12046" y="14521"/>
                  <a:pt x="12062" y="14555"/>
                  <a:pt x="12105" y="14560"/>
                </a:cubicBezTo>
                <a:cubicBezTo>
                  <a:pt x="12161" y="14566"/>
                  <a:pt x="12171" y="14502"/>
                  <a:pt x="12179" y="14461"/>
                </a:cubicBezTo>
              </a:path>
              <a:path w="1663" h="571">
                <a:moveTo>
                  <a:pt x="12477" y="14337"/>
                </a:moveTo>
                <a:cubicBezTo>
                  <a:pt x="12493" y="14337"/>
                  <a:pt x="12510" y="14337"/>
                  <a:pt x="12526" y="14337"/>
                </a:cubicBezTo>
                <a:cubicBezTo>
                  <a:pt x="12515" y="14373"/>
                  <a:pt x="12473" y="14367"/>
                  <a:pt x="12452" y="14412"/>
                </a:cubicBezTo>
                <a:cubicBezTo>
                  <a:pt x="12426" y="14469"/>
                  <a:pt x="12471" y="14485"/>
                  <a:pt x="12502" y="14511"/>
                </a:cubicBezTo>
                <a:cubicBezTo>
                  <a:pt x="12542" y="14544"/>
                  <a:pt x="12551" y="14561"/>
                  <a:pt x="12551" y="14610"/>
                </a:cubicBezTo>
                <a:cubicBezTo>
                  <a:pt x="12551" y="14618"/>
                  <a:pt x="12551" y="14627"/>
                  <a:pt x="12551" y="14635"/>
                </a:cubicBezTo>
                <a:cubicBezTo>
                  <a:pt x="12458" y="14635"/>
                  <a:pt x="12454" y="14632"/>
                  <a:pt x="12378" y="14585"/>
                </a:cubicBezTo>
                <a:cubicBezTo>
                  <a:pt x="12328" y="14560"/>
                  <a:pt x="12312" y="14552"/>
                  <a:pt x="12303" y="14511"/>
                </a:cubicBezTo>
              </a:path>
              <a:path w="1663" h="571">
                <a:moveTo>
                  <a:pt x="12750" y="14188"/>
                </a:moveTo>
                <a:cubicBezTo>
                  <a:pt x="12775" y="14163"/>
                  <a:pt x="12799" y="14139"/>
                  <a:pt x="12824" y="14114"/>
                </a:cubicBezTo>
                <a:cubicBezTo>
                  <a:pt x="12814" y="14193"/>
                  <a:pt x="12748" y="14283"/>
                  <a:pt x="12750" y="14362"/>
                </a:cubicBezTo>
                <a:cubicBezTo>
                  <a:pt x="12753" y="14478"/>
                  <a:pt x="12806" y="14530"/>
                  <a:pt x="12874" y="14610"/>
                </a:cubicBezTo>
              </a:path>
              <a:path w="1663" h="571">
                <a:moveTo>
                  <a:pt x="13072" y="14436"/>
                </a:moveTo>
                <a:cubicBezTo>
                  <a:pt x="12980" y="14371"/>
                  <a:pt x="12955" y="14337"/>
                  <a:pt x="12849" y="14337"/>
                </a:cubicBezTo>
                <a:cubicBezTo>
                  <a:pt x="12784" y="14337"/>
                  <a:pt x="12799" y="14335"/>
                  <a:pt x="12799" y="143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67200" y="5027760"/>
            <a:ext cx="241200" cy="268200"/>
          </a:xfrm>
          <a:custGeom>
            <a:avLst/>
            <a:gdLst/>
            <a:ahLst/>
            <a:rect l="l" t="t" r="r" b="b"/>
            <a:pathLst>
              <a:path w="670" h="745">
                <a:moveTo>
                  <a:pt x="13643" y="14163"/>
                </a:moveTo>
                <a:cubicBezTo>
                  <a:pt x="13643" y="14097"/>
                  <a:pt x="13643" y="14031"/>
                  <a:pt x="13643" y="13965"/>
                </a:cubicBezTo>
                <a:cubicBezTo>
                  <a:pt x="13626" y="14035"/>
                  <a:pt x="13586" y="14109"/>
                  <a:pt x="13568" y="14188"/>
                </a:cubicBezTo>
                <a:cubicBezTo>
                  <a:pt x="13537" y="14325"/>
                  <a:pt x="13519" y="14445"/>
                  <a:pt x="13519" y="14585"/>
                </a:cubicBezTo>
                <a:cubicBezTo>
                  <a:pt x="13519" y="14610"/>
                  <a:pt x="13519" y="14618"/>
                  <a:pt x="13543" y="14610"/>
                </a:cubicBezTo>
                <a:cubicBezTo>
                  <a:pt x="13590" y="14583"/>
                  <a:pt x="13644" y="14530"/>
                  <a:pt x="13692" y="14511"/>
                </a:cubicBezTo>
                <a:cubicBezTo>
                  <a:pt x="13700" y="14511"/>
                  <a:pt x="13709" y="14511"/>
                  <a:pt x="13717" y="14511"/>
                </a:cubicBezTo>
                <a:cubicBezTo>
                  <a:pt x="13748" y="14551"/>
                  <a:pt x="13764" y="14614"/>
                  <a:pt x="13717" y="14660"/>
                </a:cubicBezTo>
                <a:cubicBezTo>
                  <a:pt x="13674" y="14702"/>
                  <a:pt x="13624" y="14709"/>
                  <a:pt x="13568" y="14709"/>
                </a:cubicBezTo>
              </a:path>
              <a:path w="670" h="745">
                <a:moveTo>
                  <a:pt x="13717" y="14635"/>
                </a:moveTo>
                <a:cubicBezTo>
                  <a:pt x="13846" y="14567"/>
                  <a:pt x="13969" y="14533"/>
                  <a:pt x="14015" y="14387"/>
                </a:cubicBezTo>
                <a:cubicBezTo>
                  <a:pt x="14015" y="14359"/>
                  <a:pt x="14013" y="14348"/>
                  <a:pt x="13990" y="14337"/>
                </a:cubicBezTo>
                <a:cubicBezTo>
                  <a:pt x="13914" y="14359"/>
                  <a:pt x="13895" y="14397"/>
                  <a:pt x="13891" y="14486"/>
                </a:cubicBezTo>
                <a:cubicBezTo>
                  <a:pt x="13886" y="14599"/>
                  <a:pt x="13925" y="14672"/>
                  <a:pt x="14039" y="14709"/>
                </a:cubicBezTo>
                <a:cubicBezTo>
                  <a:pt x="14105" y="14731"/>
                  <a:pt x="14147" y="14671"/>
                  <a:pt x="14188" y="146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26080" y="4991040"/>
            <a:ext cx="357120" cy="260280"/>
          </a:xfrm>
          <a:custGeom>
            <a:avLst/>
            <a:gdLst/>
            <a:ahLst/>
            <a:rect l="l" t="t" r="r" b="b"/>
            <a:pathLst>
              <a:path w="993" h="720">
                <a:moveTo>
                  <a:pt x="15875" y="14039"/>
                </a:moveTo>
                <a:cubicBezTo>
                  <a:pt x="15903" y="13993"/>
                  <a:pt x="15944" y="13942"/>
                  <a:pt x="15949" y="13891"/>
                </a:cubicBezTo>
                <a:cubicBezTo>
                  <a:pt x="15949" y="13883"/>
                  <a:pt x="15949" y="13874"/>
                  <a:pt x="15949" y="13866"/>
                </a:cubicBezTo>
                <a:cubicBezTo>
                  <a:pt x="15858" y="13866"/>
                  <a:pt x="15840" y="13901"/>
                  <a:pt x="15776" y="13965"/>
                </a:cubicBezTo>
                <a:cubicBezTo>
                  <a:pt x="15664" y="14076"/>
                  <a:pt x="15609" y="14226"/>
                  <a:pt x="15627" y="14387"/>
                </a:cubicBezTo>
                <a:cubicBezTo>
                  <a:pt x="15637" y="14476"/>
                  <a:pt x="15672" y="14521"/>
                  <a:pt x="15726" y="14585"/>
                </a:cubicBezTo>
                <a:cubicBezTo>
                  <a:pt x="15825" y="14536"/>
                  <a:pt x="15844" y="14527"/>
                  <a:pt x="15850" y="14412"/>
                </a:cubicBezTo>
                <a:cubicBezTo>
                  <a:pt x="15853" y="14344"/>
                  <a:pt x="15788" y="14264"/>
                  <a:pt x="15726" y="14238"/>
                </a:cubicBezTo>
                <a:cubicBezTo>
                  <a:pt x="15701" y="14238"/>
                  <a:pt x="15693" y="14238"/>
                  <a:pt x="15677" y="14238"/>
                </a:cubicBezTo>
              </a:path>
              <a:path w="993" h="720">
                <a:moveTo>
                  <a:pt x="16222" y="14213"/>
                </a:moveTo>
                <a:cubicBezTo>
                  <a:pt x="16222" y="14179"/>
                  <a:pt x="16229" y="14137"/>
                  <a:pt x="16247" y="14114"/>
                </a:cubicBezTo>
                <a:cubicBezTo>
                  <a:pt x="16307" y="14038"/>
                  <a:pt x="16407" y="14005"/>
                  <a:pt x="16495" y="14064"/>
                </a:cubicBezTo>
                <a:cubicBezTo>
                  <a:pt x="16604" y="14137"/>
                  <a:pt x="16662" y="14285"/>
                  <a:pt x="16619" y="14412"/>
                </a:cubicBezTo>
                <a:cubicBezTo>
                  <a:pt x="16580" y="14527"/>
                  <a:pt x="16430" y="14533"/>
                  <a:pt x="16346" y="14461"/>
                </a:cubicBezTo>
                <a:cubicBezTo>
                  <a:pt x="16260" y="14387"/>
                  <a:pt x="16247" y="14292"/>
                  <a:pt x="16247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1088" t="33498" r="1654" b="54102"/>
          <a:stretch/>
        </p:blipFill>
        <p:spPr>
          <a:xfrm>
            <a:off x="0" y="0"/>
            <a:ext cx="8991720" cy="175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11088" t="48657" r="1654" b="31365"/>
          <a:stretch/>
        </p:blipFill>
        <p:spPr>
          <a:xfrm>
            <a:off x="0" y="2514600"/>
            <a:ext cx="7010280" cy="2209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95760" y="1677960"/>
            <a:ext cx="428400" cy="196920"/>
          </a:xfrm>
          <a:custGeom>
            <a:avLst/>
            <a:gdLst/>
            <a:ahLst/>
            <a:rect l="l" t="t" r="r" b="b"/>
            <a:pathLst>
              <a:path w="1191" h="547">
                <a:moveTo>
                  <a:pt x="7813" y="4887"/>
                </a:moveTo>
                <a:cubicBezTo>
                  <a:pt x="7789" y="4887"/>
                  <a:pt x="7780" y="4887"/>
                  <a:pt x="7764" y="4887"/>
                </a:cubicBezTo>
                <a:cubicBezTo>
                  <a:pt x="7764" y="4865"/>
                  <a:pt x="7774" y="4793"/>
                  <a:pt x="7789" y="4787"/>
                </a:cubicBezTo>
                <a:cubicBezTo>
                  <a:pt x="7820" y="4775"/>
                  <a:pt x="7903" y="4727"/>
                  <a:pt x="7938" y="4738"/>
                </a:cubicBezTo>
                <a:cubicBezTo>
                  <a:pt x="7963" y="4746"/>
                  <a:pt x="8053" y="4806"/>
                  <a:pt x="8062" y="4837"/>
                </a:cubicBezTo>
                <a:cubicBezTo>
                  <a:pt x="8081" y="4903"/>
                  <a:pt x="8049" y="4982"/>
                  <a:pt x="8012" y="5035"/>
                </a:cubicBezTo>
                <a:cubicBezTo>
                  <a:pt x="7985" y="5074"/>
                  <a:pt x="7943" y="5113"/>
                  <a:pt x="7938" y="5159"/>
                </a:cubicBezTo>
                <a:cubicBezTo>
                  <a:pt x="7938" y="5184"/>
                  <a:pt x="7938" y="5192"/>
                  <a:pt x="7938" y="5209"/>
                </a:cubicBezTo>
                <a:cubicBezTo>
                  <a:pt x="7976" y="5199"/>
                  <a:pt x="8023" y="5197"/>
                  <a:pt x="8062" y="5184"/>
                </a:cubicBezTo>
                <a:cubicBezTo>
                  <a:pt x="8116" y="5166"/>
                  <a:pt x="8131" y="5159"/>
                  <a:pt x="8186" y="5159"/>
                </a:cubicBezTo>
                <a:cubicBezTo>
                  <a:pt x="8194" y="5159"/>
                  <a:pt x="8202" y="5159"/>
                  <a:pt x="8210" y="5159"/>
                </a:cubicBezTo>
              </a:path>
              <a:path w="1191" h="547">
                <a:moveTo>
                  <a:pt x="8384" y="5135"/>
                </a:moveTo>
                <a:cubicBezTo>
                  <a:pt x="8407" y="5112"/>
                  <a:pt x="8411" y="5104"/>
                  <a:pt x="8434" y="5110"/>
                </a:cubicBezTo>
              </a:path>
              <a:path w="1191" h="547">
                <a:moveTo>
                  <a:pt x="8657" y="4862"/>
                </a:moveTo>
                <a:cubicBezTo>
                  <a:pt x="8677" y="4821"/>
                  <a:pt x="8686" y="4815"/>
                  <a:pt x="8682" y="4787"/>
                </a:cubicBezTo>
                <a:cubicBezTo>
                  <a:pt x="8636" y="4833"/>
                  <a:pt x="8613" y="4845"/>
                  <a:pt x="8607" y="4911"/>
                </a:cubicBezTo>
                <a:cubicBezTo>
                  <a:pt x="8603" y="4960"/>
                  <a:pt x="8634" y="4998"/>
                  <a:pt x="8682" y="5011"/>
                </a:cubicBezTo>
                <a:cubicBezTo>
                  <a:pt x="8750" y="5029"/>
                  <a:pt x="8771" y="5034"/>
                  <a:pt x="8830" y="5060"/>
                </a:cubicBezTo>
                <a:cubicBezTo>
                  <a:pt x="8872" y="5079"/>
                  <a:pt x="8892" y="5085"/>
                  <a:pt x="8905" y="5135"/>
                </a:cubicBezTo>
                <a:cubicBezTo>
                  <a:pt x="8881" y="5170"/>
                  <a:pt x="8837" y="5159"/>
                  <a:pt x="8781" y="5159"/>
                </a:cubicBezTo>
                <a:cubicBezTo>
                  <a:pt x="8722" y="5159"/>
                  <a:pt x="8676" y="5143"/>
                  <a:pt x="8632" y="5110"/>
                </a:cubicBezTo>
              </a:path>
              <a:path w="1191" h="547">
                <a:moveTo>
                  <a:pt x="8905" y="4738"/>
                </a:moveTo>
                <a:cubicBezTo>
                  <a:pt x="8921" y="4721"/>
                  <a:pt x="8938" y="4705"/>
                  <a:pt x="8954" y="4688"/>
                </a:cubicBezTo>
                <a:cubicBezTo>
                  <a:pt x="8902" y="4648"/>
                  <a:pt x="8868" y="4660"/>
                  <a:pt x="8806" y="4688"/>
                </a:cubicBezTo>
                <a:cubicBezTo>
                  <a:pt x="8789" y="4696"/>
                  <a:pt x="8773" y="4705"/>
                  <a:pt x="8756" y="47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94120" y="1625760"/>
            <a:ext cx="419040" cy="196560"/>
          </a:xfrm>
          <a:custGeom>
            <a:avLst/>
            <a:gdLst/>
            <a:ahLst/>
            <a:rect l="l" t="t" r="r" b="b"/>
            <a:pathLst>
              <a:path w="1167" h="547">
                <a:moveTo>
                  <a:pt x="10815" y="4713"/>
                </a:moveTo>
                <a:cubicBezTo>
                  <a:pt x="10815" y="4706"/>
                  <a:pt x="10814" y="4686"/>
                  <a:pt x="10864" y="4663"/>
                </a:cubicBezTo>
                <a:cubicBezTo>
                  <a:pt x="10918" y="4638"/>
                  <a:pt x="10977" y="4638"/>
                  <a:pt x="11038" y="4638"/>
                </a:cubicBezTo>
                <a:cubicBezTo>
                  <a:pt x="11088" y="4638"/>
                  <a:pt x="11133" y="4663"/>
                  <a:pt x="11137" y="4713"/>
                </a:cubicBezTo>
                <a:cubicBezTo>
                  <a:pt x="11142" y="4776"/>
                  <a:pt x="11150" y="4858"/>
                  <a:pt x="11112" y="4911"/>
                </a:cubicBezTo>
                <a:cubicBezTo>
                  <a:pt x="11086" y="4948"/>
                  <a:pt x="11032" y="4993"/>
                  <a:pt x="11013" y="5035"/>
                </a:cubicBezTo>
                <a:cubicBezTo>
                  <a:pt x="11013" y="5043"/>
                  <a:pt x="11013" y="5052"/>
                  <a:pt x="11013" y="5060"/>
                </a:cubicBezTo>
              </a:path>
              <a:path w="1167" h="547">
                <a:moveTo>
                  <a:pt x="11311" y="4911"/>
                </a:moveTo>
                <a:cubicBezTo>
                  <a:pt x="11372" y="4911"/>
                  <a:pt x="11388" y="4902"/>
                  <a:pt x="11410" y="4936"/>
                </a:cubicBezTo>
              </a:path>
              <a:path w="1167" h="547">
                <a:moveTo>
                  <a:pt x="11708" y="4638"/>
                </a:moveTo>
                <a:cubicBezTo>
                  <a:pt x="11722" y="4556"/>
                  <a:pt x="11715" y="4619"/>
                  <a:pt x="11733" y="4564"/>
                </a:cubicBezTo>
                <a:cubicBezTo>
                  <a:pt x="11706" y="4573"/>
                  <a:pt x="11686" y="4598"/>
                  <a:pt x="11683" y="4638"/>
                </a:cubicBezTo>
                <a:cubicBezTo>
                  <a:pt x="11678" y="4707"/>
                  <a:pt x="11687" y="4715"/>
                  <a:pt x="11733" y="4762"/>
                </a:cubicBezTo>
                <a:cubicBezTo>
                  <a:pt x="11786" y="4815"/>
                  <a:pt x="11829" y="4786"/>
                  <a:pt x="11881" y="4812"/>
                </a:cubicBezTo>
                <a:cubicBezTo>
                  <a:pt x="11924" y="4834"/>
                  <a:pt x="11931" y="4869"/>
                  <a:pt x="11931" y="4911"/>
                </a:cubicBezTo>
                <a:cubicBezTo>
                  <a:pt x="11931" y="4982"/>
                  <a:pt x="11858" y="4961"/>
                  <a:pt x="11807" y="4961"/>
                </a:cubicBezTo>
                <a:cubicBezTo>
                  <a:pt x="11762" y="4961"/>
                  <a:pt x="11657" y="4984"/>
                  <a:pt x="11633" y="4936"/>
                </a:cubicBezTo>
                <a:cubicBezTo>
                  <a:pt x="11633" y="4928"/>
                  <a:pt x="11633" y="4919"/>
                  <a:pt x="11633" y="4911"/>
                </a:cubicBezTo>
              </a:path>
              <a:path w="1167" h="547">
                <a:moveTo>
                  <a:pt x="11956" y="4539"/>
                </a:moveTo>
                <a:cubicBezTo>
                  <a:pt x="11964" y="4531"/>
                  <a:pt x="11973" y="4522"/>
                  <a:pt x="11981" y="4514"/>
                </a:cubicBezTo>
                <a:cubicBezTo>
                  <a:pt x="11908" y="4514"/>
                  <a:pt x="11850" y="4528"/>
                  <a:pt x="11782" y="4539"/>
                </a:cubicBezTo>
                <a:cubicBezTo>
                  <a:pt x="11766" y="4539"/>
                  <a:pt x="11749" y="4539"/>
                  <a:pt x="11733" y="4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10120" y="1643040"/>
            <a:ext cx="642960" cy="179280"/>
          </a:xfrm>
          <a:custGeom>
            <a:avLst/>
            <a:gdLst/>
            <a:ahLst/>
            <a:rect l="l" t="t" r="r" b="b"/>
            <a:pathLst>
              <a:path w="1787" h="497">
                <a:moveTo>
                  <a:pt x="13915" y="4762"/>
                </a:moveTo>
                <a:cubicBezTo>
                  <a:pt x="13923" y="4754"/>
                  <a:pt x="13932" y="4746"/>
                  <a:pt x="13940" y="4738"/>
                </a:cubicBezTo>
                <a:cubicBezTo>
                  <a:pt x="13973" y="4781"/>
                  <a:pt x="13965" y="4804"/>
                  <a:pt x="13965" y="4862"/>
                </a:cubicBezTo>
                <a:cubicBezTo>
                  <a:pt x="13965" y="4920"/>
                  <a:pt x="13965" y="4977"/>
                  <a:pt x="13965" y="5035"/>
                </a:cubicBezTo>
              </a:path>
              <a:path w="1787" h="497">
                <a:moveTo>
                  <a:pt x="14263" y="4787"/>
                </a:moveTo>
                <a:cubicBezTo>
                  <a:pt x="14232" y="4745"/>
                  <a:pt x="14226" y="4730"/>
                  <a:pt x="14263" y="4688"/>
                </a:cubicBezTo>
                <a:cubicBezTo>
                  <a:pt x="14306" y="4640"/>
                  <a:pt x="14323" y="4638"/>
                  <a:pt x="14387" y="4638"/>
                </a:cubicBezTo>
                <a:cubicBezTo>
                  <a:pt x="14450" y="4638"/>
                  <a:pt x="14436" y="4690"/>
                  <a:pt x="14436" y="4738"/>
                </a:cubicBezTo>
                <a:cubicBezTo>
                  <a:pt x="14436" y="4821"/>
                  <a:pt x="14386" y="4840"/>
                  <a:pt x="14362" y="4911"/>
                </a:cubicBezTo>
                <a:cubicBezTo>
                  <a:pt x="14353" y="4939"/>
                  <a:pt x="14308" y="5019"/>
                  <a:pt x="14362" y="5035"/>
                </a:cubicBezTo>
                <a:cubicBezTo>
                  <a:pt x="14421" y="5053"/>
                  <a:pt x="14469" y="5060"/>
                  <a:pt x="14536" y="5060"/>
                </a:cubicBezTo>
                <a:cubicBezTo>
                  <a:pt x="14585" y="5060"/>
                  <a:pt x="14635" y="5060"/>
                  <a:pt x="14684" y="5060"/>
                </a:cubicBezTo>
              </a:path>
              <a:path w="1787" h="497">
                <a:moveTo>
                  <a:pt x="14883" y="5011"/>
                </a:moveTo>
                <a:cubicBezTo>
                  <a:pt x="14891" y="5011"/>
                  <a:pt x="14900" y="5011"/>
                  <a:pt x="14908" y="5011"/>
                </a:cubicBezTo>
              </a:path>
              <a:path w="1787" h="497">
                <a:moveTo>
                  <a:pt x="15180" y="4638"/>
                </a:moveTo>
                <a:cubicBezTo>
                  <a:pt x="15211" y="4567"/>
                  <a:pt x="15203" y="4547"/>
                  <a:pt x="15180" y="4614"/>
                </a:cubicBezTo>
                <a:cubicBezTo>
                  <a:pt x="15168" y="4650"/>
                  <a:pt x="15139" y="4720"/>
                  <a:pt x="15156" y="4762"/>
                </a:cubicBezTo>
                <a:cubicBezTo>
                  <a:pt x="15170" y="4797"/>
                  <a:pt x="15246" y="4854"/>
                  <a:pt x="15280" y="4862"/>
                </a:cubicBezTo>
                <a:cubicBezTo>
                  <a:pt x="15356" y="4880"/>
                  <a:pt x="15406" y="4861"/>
                  <a:pt x="15478" y="4911"/>
                </a:cubicBezTo>
                <a:cubicBezTo>
                  <a:pt x="15504" y="4929"/>
                  <a:pt x="15549" y="4974"/>
                  <a:pt x="15528" y="5011"/>
                </a:cubicBezTo>
                <a:cubicBezTo>
                  <a:pt x="15506" y="5049"/>
                  <a:pt x="15391" y="5054"/>
                  <a:pt x="15354" y="5060"/>
                </a:cubicBezTo>
                <a:cubicBezTo>
                  <a:pt x="15302" y="5068"/>
                  <a:pt x="15223" y="5060"/>
                  <a:pt x="15180" y="5035"/>
                </a:cubicBezTo>
                <a:cubicBezTo>
                  <a:pt x="15172" y="5027"/>
                  <a:pt x="15164" y="5019"/>
                  <a:pt x="15156" y="5011"/>
                </a:cubicBezTo>
              </a:path>
              <a:path w="1787" h="497">
                <a:moveTo>
                  <a:pt x="15602" y="4738"/>
                </a:moveTo>
                <a:cubicBezTo>
                  <a:pt x="15642" y="4702"/>
                  <a:pt x="15745" y="4638"/>
                  <a:pt x="15652" y="4663"/>
                </a:cubicBezTo>
                <a:cubicBezTo>
                  <a:pt x="15577" y="4688"/>
                  <a:pt x="15553" y="4696"/>
                  <a:pt x="15503" y="47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57960" y="1660680"/>
            <a:ext cx="233280" cy="161640"/>
          </a:xfrm>
          <a:custGeom>
            <a:avLst/>
            <a:gdLst/>
            <a:ahLst/>
            <a:rect l="l" t="t" r="r" b="b"/>
            <a:pathLst>
              <a:path w="646" h="447">
                <a:moveTo>
                  <a:pt x="17661" y="4663"/>
                </a:moveTo>
                <a:cubicBezTo>
                  <a:pt x="17700" y="4689"/>
                  <a:pt x="17686" y="4751"/>
                  <a:pt x="17686" y="4812"/>
                </a:cubicBezTo>
                <a:cubicBezTo>
                  <a:pt x="17686" y="4895"/>
                  <a:pt x="17686" y="4977"/>
                  <a:pt x="17686" y="5060"/>
                </a:cubicBezTo>
              </a:path>
              <a:path w="646" h="447">
                <a:moveTo>
                  <a:pt x="17785" y="4614"/>
                </a:moveTo>
                <a:cubicBezTo>
                  <a:pt x="17808" y="4630"/>
                  <a:pt x="17851" y="4656"/>
                  <a:pt x="17884" y="4638"/>
                </a:cubicBezTo>
                <a:cubicBezTo>
                  <a:pt x="17935" y="4611"/>
                  <a:pt x="17971" y="4614"/>
                  <a:pt x="18033" y="4614"/>
                </a:cubicBezTo>
                <a:cubicBezTo>
                  <a:pt x="18058" y="4614"/>
                  <a:pt x="18066" y="4614"/>
                  <a:pt x="18083" y="4614"/>
                </a:cubicBezTo>
                <a:cubicBezTo>
                  <a:pt x="18083" y="4679"/>
                  <a:pt x="18085" y="4726"/>
                  <a:pt x="18058" y="4787"/>
                </a:cubicBezTo>
                <a:cubicBezTo>
                  <a:pt x="18031" y="4846"/>
                  <a:pt x="18013" y="4900"/>
                  <a:pt x="18008" y="4961"/>
                </a:cubicBezTo>
                <a:cubicBezTo>
                  <a:pt x="18008" y="4986"/>
                  <a:pt x="18008" y="4994"/>
                  <a:pt x="18008" y="5011"/>
                </a:cubicBezTo>
              </a:path>
              <a:path w="646" h="447">
                <a:moveTo>
                  <a:pt x="18231" y="4936"/>
                </a:moveTo>
                <a:cubicBezTo>
                  <a:pt x="18273" y="4936"/>
                  <a:pt x="18281" y="4936"/>
                  <a:pt x="18306" y="49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15080" y="1643040"/>
            <a:ext cx="142920" cy="125280"/>
          </a:xfrm>
          <a:custGeom>
            <a:avLst/>
            <a:gdLst/>
            <a:ahLst/>
            <a:rect l="l" t="t" r="r" b="b"/>
            <a:pathLst>
              <a:path w="398" h="348">
                <a:moveTo>
                  <a:pt x="18678" y="4688"/>
                </a:moveTo>
                <a:cubicBezTo>
                  <a:pt x="18695" y="4648"/>
                  <a:pt x="18767" y="4608"/>
                  <a:pt x="18728" y="4589"/>
                </a:cubicBezTo>
                <a:cubicBezTo>
                  <a:pt x="18693" y="4571"/>
                  <a:pt x="18659" y="4609"/>
                  <a:pt x="18653" y="4638"/>
                </a:cubicBezTo>
                <a:cubicBezTo>
                  <a:pt x="18636" y="4719"/>
                  <a:pt x="18720" y="4734"/>
                  <a:pt x="18777" y="4762"/>
                </a:cubicBezTo>
                <a:cubicBezTo>
                  <a:pt x="18828" y="4787"/>
                  <a:pt x="18894" y="4801"/>
                  <a:pt x="18901" y="4862"/>
                </a:cubicBezTo>
                <a:cubicBezTo>
                  <a:pt x="18904" y="4892"/>
                  <a:pt x="18858" y="4909"/>
                  <a:pt x="18827" y="4911"/>
                </a:cubicBezTo>
                <a:cubicBezTo>
                  <a:pt x="18778" y="4914"/>
                  <a:pt x="18727" y="4911"/>
                  <a:pt x="18678" y="4911"/>
                </a:cubicBezTo>
              </a:path>
              <a:path w="398" h="348">
                <a:moveTo>
                  <a:pt x="19000" y="4638"/>
                </a:moveTo>
                <a:cubicBezTo>
                  <a:pt x="19041" y="4618"/>
                  <a:pt x="19058" y="4621"/>
                  <a:pt x="19050" y="4589"/>
                </a:cubicBezTo>
                <a:cubicBezTo>
                  <a:pt x="19034" y="4541"/>
                  <a:pt x="18998" y="4567"/>
                  <a:pt x="18951" y="4589"/>
                </a:cubicBezTo>
                <a:cubicBezTo>
                  <a:pt x="18894" y="4616"/>
                  <a:pt x="18864" y="4631"/>
                  <a:pt x="18802" y="46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20960" y="2160720"/>
            <a:ext cx="393840" cy="206280"/>
          </a:xfrm>
          <a:custGeom>
            <a:avLst/>
            <a:gdLst/>
            <a:ahLst/>
            <a:rect l="l" t="t" r="r" b="b"/>
            <a:pathLst>
              <a:path w="1093" h="571">
                <a:moveTo>
                  <a:pt x="7938" y="6176"/>
                </a:moveTo>
                <a:cubicBezTo>
                  <a:pt x="7905" y="6176"/>
                  <a:pt x="7857" y="6189"/>
                  <a:pt x="7838" y="6152"/>
                </a:cubicBezTo>
                <a:cubicBezTo>
                  <a:pt x="7819" y="6114"/>
                  <a:pt x="7860" y="6070"/>
                  <a:pt x="7888" y="6052"/>
                </a:cubicBezTo>
                <a:cubicBezTo>
                  <a:pt x="7937" y="6021"/>
                  <a:pt x="7999" y="5978"/>
                  <a:pt x="8062" y="6003"/>
                </a:cubicBezTo>
                <a:cubicBezTo>
                  <a:pt x="8119" y="6025"/>
                  <a:pt x="8133" y="6103"/>
                  <a:pt x="8136" y="6152"/>
                </a:cubicBezTo>
                <a:cubicBezTo>
                  <a:pt x="8140" y="6217"/>
                  <a:pt x="8099" y="6297"/>
                  <a:pt x="8062" y="6350"/>
                </a:cubicBezTo>
                <a:cubicBezTo>
                  <a:pt x="8028" y="6399"/>
                  <a:pt x="8032" y="6400"/>
                  <a:pt x="8062" y="6449"/>
                </a:cubicBezTo>
                <a:cubicBezTo>
                  <a:pt x="8107" y="6440"/>
                  <a:pt x="8170" y="6426"/>
                  <a:pt x="8210" y="6400"/>
                </a:cubicBezTo>
                <a:cubicBezTo>
                  <a:pt x="8250" y="6374"/>
                  <a:pt x="8260" y="6375"/>
                  <a:pt x="8310" y="6375"/>
                </a:cubicBezTo>
                <a:cubicBezTo>
                  <a:pt x="8334" y="6375"/>
                  <a:pt x="8342" y="6375"/>
                  <a:pt x="8334" y="6350"/>
                </a:cubicBezTo>
              </a:path>
              <a:path w="1093" h="571">
                <a:moveTo>
                  <a:pt x="8582" y="6102"/>
                </a:moveTo>
                <a:cubicBezTo>
                  <a:pt x="8602" y="6061"/>
                  <a:pt x="8600" y="6045"/>
                  <a:pt x="8632" y="6052"/>
                </a:cubicBezTo>
                <a:cubicBezTo>
                  <a:pt x="8598" y="6078"/>
                  <a:pt x="8546" y="6104"/>
                  <a:pt x="8533" y="6152"/>
                </a:cubicBezTo>
                <a:cubicBezTo>
                  <a:pt x="8521" y="6196"/>
                  <a:pt x="8547" y="6273"/>
                  <a:pt x="8582" y="6300"/>
                </a:cubicBezTo>
                <a:cubicBezTo>
                  <a:pt x="8609" y="6321"/>
                  <a:pt x="8711" y="6331"/>
                  <a:pt x="8731" y="6350"/>
                </a:cubicBezTo>
                <a:cubicBezTo>
                  <a:pt x="8776" y="6392"/>
                  <a:pt x="8781" y="6442"/>
                  <a:pt x="8781" y="6499"/>
                </a:cubicBezTo>
                <a:cubicBezTo>
                  <a:pt x="8781" y="6571"/>
                  <a:pt x="8727" y="6535"/>
                  <a:pt x="8682" y="6548"/>
                </a:cubicBezTo>
                <a:cubicBezTo>
                  <a:pt x="8646" y="6559"/>
                  <a:pt x="8587" y="6591"/>
                  <a:pt x="8558" y="6548"/>
                </a:cubicBezTo>
                <a:cubicBezTo>
                  <a:pt x="8558" y="6540"/>
                  <a:pt x="8558" y="6532"/>
                  <a:pt x="8558" y="6524"/>
                </a:cubicBezTo>
              </a:path>
              <a:path w="1093" h="571">
                <a:moveTo>
                  <a:pt x="8930" y="6077"/>
                </a:moveTo>
                <a:cubicBezTo>
                  <a:pt x="8892" y="6020"/>
                  <a:pt x="8868" y="6069"/>
                  <a:pt x="8806" y="6077"/>
                </a:cubicBezTo>
                <a:cubicBezTo>
                  <a:pt x="8745" y="6085"/>
                  <a:pt x="8639" y="6080"/>
                  <a:pt x="8582" y="6102"/>
                </a:cubicBezTo>
                <a:cubicBezTo>
                  <a:pt x="8574" y="6110"/>
                  <a:pt x="8566" y="6119"/>
                  <a:pt x="8558" y="61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14720"/>
            <a:ext cx="169920" cy="115560"/>
          </a:xfrm>
          <a:custGeom>
            <a:avLst/>
            <a:gdLst/>
            <a:ahLst/>
            <a:rect l="l" t="t" r="r" b="b"/>
            <a:pathLst>
              <a:path w="472" h="323">
                <a:moveTo>
                  <a:pt x="9971" y="6325"/>
                </a:moveTo>
                <a:cubicBezTo>
                  <a:pt x="10033" y="6325"/>
                  <a:pt x="9913" y="6301"/>
                  <a:pt x="9897" y="6300"/>
                </a:cubicBezTo>
                <a:cubicBezTo>
                  <a:pt x="9814" y="6295"/>
                  <a:pt x="9753" y="6314"/>
                  <a:pt x="9674" y="6325"/>
                </a:cubicBezTo>
                <a:cubicBezTo>
                  <a:pt x="9627" y="6332"/>
                  <a:pt x="9572" y="6325"/>
                  <a:pt x="9525" y="6325"/>
                </a:cubicBezTo>
              </a:path>
              <a:path w="472" h="323">
                <a:moveTo>
                  <a:pt x="9649" y="6201"/>
                </a:moveTo>
                <a:cubicBezTo>
                  <a:pt x="9669" y="6161"/>
                  <a:pt x="9668" y="6145"/>
                  <a:pt x="9699" y="6152"/>
                </a:cubicBezTo>
                <a:cubicBezTo>
                  <a:pt x="9699" y="6234"/>
                  <a:pt x="9706" y="6322"/>
                  <a:pt x="9723" y="6400"/>
                </a:cubicBezTo>
                <a:cubicBezTo>
                  <a:pt x="9731" y="6425"/>
                  <a:pt x="9740" y="6449"/>
                  <a:pt x="9748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11760" y="2152800"/>
            <a:ext cx="384120" cy="169560"/>
          </a:xfrm>
          <a:custGeom>
            <a:avLst/>
            <a:gdLst/>
            <a:ahLst/>
            <a:rect l="l" t="t" r="r" b="b"/>
            <a:pathLst>
              <a:path w="1068" h="472">
                <a:moveTo>
                  <a:pt x="10864" y="6127"/>
                </a:moveTo>
                <a:cubicBezTo>
                  <a:pt x="10864" y="6116"/>
                  <a:pt x="10864" y="6010"/>
                  <a:pt x="10864" y="6077"/>
                </a:cubicBezTo>
                <a:cubicBezTo>
                  <a:pt x="10864" y="6201"/>
                  <a:pt x="10864" y="6325"/>
                  <a:pt x="10864" y="6449"/>
                </a:cubicBezTo>
              </a:path>
              <a:path w="1068" h="472">
                <a:moveTo>
                  <a:pt x="11212" y="6028"/>
                </a:moveTo>
                <a:cubicBezTo>
                  <a:pt x="11220" y="6020"/>
                  <a:pt x="11229" y="6011"/>
                  <a:pt x="11237" y="6003"/>
                </a:cubicBezTo>
                <a:cubicBezTo>
                  <a:pt x="11225" y="6039"/>
                  <a:pt x="11182" y="6031"/>
                  <a:pt x="11162" y="6077"/>
                </a:cubicBezTo>
                <a:cubicBezTo>
                  <a:pt x="11148" y="6107"/>
                  <a:pt x="11162" y="6159"/>
                  <a:pt x="11187" y="6176"/>
                </a:cubicBezTo>
                <a:cubicBezTo>
                  <a:pt x="11248" y="6217"/>
                  <a:pt x="11320" y="6206"/>
                  <a:pt x="11385" y="6251"/>
                </a:cubicBezTo>
                <a:cubicBezTo>
                  <a:pt x="11411" y="6269"/>
                  <a:pt x="11456" y="6312"/>
                  <a:pt x="11435" y="6350"/>
                </a:cubicBezTo>
                <a:cubicBezTo>
                  <a:pt x="11411" y="6394"/>
                  <a:pt x="11360" y="6414"/>
                  <a:pt x="11311" y="6400"/>
                </a:cubicBezTo>
                <a:cubicBezTo>
                  <a:pt x="11264" y="6386"/>
                  <a:pt x="11226" y="6373"/>
                  <a:pt x="11187" y="6350"/>
                </a:cubicBezTo>
              </a:path>
              <a:path w="1068" h="472">
                <a:moveTo>
                  <a:pt x="11485" y="5978"/>
                </a:moveTo>
                <a:cubicBezTo>
                  <a:pt x="11427" y="5978"/>
                  <a:pt x="11382" y="5994"/>
                  <a:pt x="11336" y="6003"/>
                </a:cubicBezTo>
                <a:cubicBezTo>
                  <a:pt x="11294" y="6003"/>
                  <a:pt x="11286" y="6003"/>
                  <a:pt x="11261" y="6003"/>
                </a:cubicBezTo>
              </a:path>
              <a:path w="1068" h="472">
                <a:moveTo>
                  <a:pt x="11708" y="6152"/>
                </a:moveTo>
                <a:cubicBezTo>
                  <a:pt x="11686" y="6145"/>
                  <a:pt x="11663" y="6113"/>
                  <a:pt x="11683" y="6077"/>
                </a:cubicBezTo>
                <a:cubicBezTo>
                  <a:pt x="11706" y="6036"/>
                  <a:pt x="11760" y="5992"/>
                  <a:pt x="11807" y="6003"/>
                </a:cubicBezTo>
                <a:cubicBezTo>
                  <a:pt x="11870" y="6018"/>
                  <a:pt x="11918" y="6093"/>
                  <a:pt x="11931" y="6152"/>
                </a:cubicBezTo>
                <a:cubicBezTo>
                  <a:pt x="11944" y="6211"/>
                  <a:pt x="11933" y="6288"/>
                  <a:pt x="11881" y="6325"/>
                </a:cubicBezTo>
                <a:cubicBezTo>
                  <a:pt x="11827" y="6364"/>
                  <a:pt x="11737" y="6364"/>
                  <a:pt x="11683" y="6325"/>
                </a:cubicBezTo>
                <a:cubicBezTo>
                  <a:pt x="11628" y="6286"/>
                  <a:pt x="11613" y="6214"/>
                  <a:pt x="11609" y="6152"/>
                </a:cubicBezTo>
                <a:cubicBezTo>
                  <a:pt x="11609" y="6135"/>
                  <a:pt x="11609" y="6119"/>
                  <a:pt x="11609" y="61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89640" y="2160720"/>
            <a:ext cx="134640" cy="13464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13097" y="6201"/>
                </a:moveTo>
                <a:cubicBezTo>
                  <a:pt x="13105" y="6201"/>
                  <a:pt x="13114" y="6201"/>
                  <a:pt x="13122" y="6201"/>
                </a:cubicBezTo>
                <a:cubicBezTo>
                  <a:pt x="12998" y="6201"/>
                  <a:pt x="12874" y="6201"/>
                  <a:pt x="12750" y="6201"/>
                </a:cubicBezTo>
              </a:path>
              <a:path w="373" h="373">
                <a:moveTo>
                  <a:pt x="12874" y="6052"/>
                </a:moveTo>
                <a:cubicBezTo>
                  <a:pt x="12882" y="6036"/>
                  <a:pt x="12890" y="6019"/>
                  <a:pt x="12898" y="6003"/>
                </a:cubicBezTo>
                <a:cubicBezTo>
                  <a:pt x="12898" y="6107"/>
                  <a:pt x="12912" y="6200"/>
                  <a:pt x="12923" y="6300"/>
                </a:cubicBezTo>
                <a:cubicBezTo>
                  <a:pt x="12923" y="6325"/>
                  <a:pt x="12923" y="6350"/>
                  <a:pt x="12923" y="63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64040" y="2143080"/>
            <a:ext cx="770040" cy="169920"/>
          </a:xfrm>
          <a:custGeom>
            <a:avLst/>
            <a:gdLst/>
            <a:ahLst/>
            <a:rect l="l" t="t" r="r" b="b"/>
            <a:pathLst>
              <a:path w="2135" h="472">
                <a:moveTo>
                  <a:pt x="13866" y="6028"/>
                </a:moveTo>
                <a:cubicBezTo>
                  <a:pt x="13888" y="6006"/>
                  <a:pt x="13893" y="5997"/>
                  <a:pt x="13915" y="6003"/>
                </a:cubicBezTo>
                <a:cubicBezTo>
                  <a:pt x="13855" y="6018"/>
                  <a:pt x="13852" y="6054"/>
                  <a:pt x="13816" y="6102"/>
                </a:cubicBezTo>
                <a:cubicBezTo>
                  <a:pt x="13798" y="6126"/>
                  <a:pt x="13760" y="6209"/>
                  <a:pt x="13816" y="6226"/>
                </a:cubicBezTo>
                <a:cubicBezTo>
                  <a:pt x="13872" y="6243"/>
                  <a:pt x="13934" y="6228"/>
                  <a:pt x="13990" y="6251"/>
                </a:cubicBezTo>
                <a:cubicBezTo>
                  <a:pt x="14059" y="6279"/>
                  <a:pt x="14039" y="6308"/>
                  <a:pt x="14039" y="6375"/>
                </a:cubicBezTo>
                <a:cubicBezTo>
                  <a:pt x="14039" y="6383"/>
                  <a:pt x="14039" y="6392"/>
                  <a:pt x="14039" y="6400"/>
                </a:cubicBezTo>
                <a:cubicBezTo>
                  <a:pt x="13966" y="6400"/>
                  <a:pt x="13902" y="6407"/>
                  <a:pt x="13841" y="6375"/>
                </a:cubicBezTo>
                <a:cubicBezTo>
                  <a:pt x="13824" y="6367"/>
                  <a:pt x="13808" y="6358"/>
                  <a:pt x="13791" y="6350"/>
                </a:cubicBezTo>
              </a:path>
              <a:path w="2135" h="472">
                <a:moveTo>
                  <a:pt x="14064" y="6003"/>
                </a:moveTo>
                <a:cubicBezTo>
                  <a:pt x="14072" y="5986"/>
                  <a:pt x="14081" y="5970"/>
                  <a:pt x="14089" y="5953"/>
                </a:cubicBezTo>
                <a:cubicBezTo>
                  <a:pt x="14031" y="5953"/>
                  <a:pt x="13973" y="5953"/>
                  <a:pt x="13915" y="5953"/>
                </a:cubicBezTo>
              </a:path>
              <a:path w="2135" h="472">
                <a:moveTo>
                  <a:pt x="14362" y="5978"/>
                </a:moveTo>
                <a:cubicBezTo>
                  <a:pt x="14379" y="5970"/>
                  <a:pt x="14395" y="5961"/>
                  <a:pt x="14412" y="5953"/>
                </a:cubicBezTo>
                <a:cubicBezTo>
                  <a:pt x="14359" y="5979"/>
                  <a:pt x="14301" y="6057"/>
                  <a:pt x="14288" y="6127"/>
                </a:cubicBezTo>
                <a:cubicBezTo>
                  <a:pt x="14269" y="6227"/>
                  <a:pt x="14279" y="6326"/>
                  <a:pt x="14337" y="6400"/>
                </a:cubicBezTo>
                <a:cubicBezTo>
                  <a:pt x="14381" y="6455"/>
                  <a:pt x="14441" y="6429"/>
                  <a:pt x="14461" y="6375"/>
                </a:cubicBezTo>
                <a:cubicBezTo>
                  <a:pt x="14474" y="6338"/>
                  <a:pt x="14445" y="6291"/>
                  <a:pt x="14412" y="6276"/>
                </a:cubicBezTo>
                <a:cubicBezTo>
                  <a:pt x="14379" y="6276"/>
                  <a:pt x="14362" y="6276"/>
                  <a:pt x="14337" y="6276"/>
                </a:cubicBezTo>
              </a:path>
              <a:path w="2135" h="472">
                <a:moveTo>
                  <a:pt x="14734" y="6127"/>
                </a:moveTo>
                <a:cubicBezTo>
                  <a:pt x="14691" y="6095"/>
                  <a:pt x="14684" y="6108"/>
                  <a:pt x="14684" y="6052"/>
                </a:cubicBezTo>
                <a:cubicBezTo>
                  <a:pt x="14684" y="5999"/>
                  <a:pt x="14767" y="5980"/>
                  <a:pt x="14808" y="5978"/>
                </a:cubicBezTo>
                <a:cubicBezTo>
                  <a:pt x="14891" y="5973"/>
                  <a:pt x="14883" y="6008"/>
                  <a:pt x="14883" y="6077"/>
                </a:cubicBezTo>
                <a:cubicBezTo>
                  <a:pt x="14883" y="6160"/>
                  <a:pt x="14832" y="6179"/>
                  <a:pt x="14808" y="6251"/>
                </a:cubicBezTo>
                <a:cubicBezTo>
                  <a:pt x="14799" y="6279"/>
                  <a:pt x="14808" y="6320"/>
                  <a:pt x="14808" y="6350"/>
                </a:cubicBezTo>
                <a:cubicBezTo>
                  <a:pt x="14873" y="6350"/>
                  <a:pt x="14898" y="6340"/>
                  <a:pt x="14957" y="6325"/>
                </a:cubicBezTo>
                <a:cubicBezTo>
                  <a:pt x="14982" y="6325"/>
                  <a:pt x="14990" y="6325"/>
                  <a:pt x="15007" y="6325"/>
                </a:cubicBezTo>
              </a:path>
              <a:path w="2135" h="472">
                <a:moveTo>
                  <a:pt x="15131" y="6325"/>
                </a:moveTo>
                <a:cubicBezTo>
                  <a:pt x="15164" y="6325"/>
                  <a:pt x="15197" y="6325"/>
                  <a:pt x="15230" y="6325"/>
                </a:cubicBezTo>
              </a:path>
              <a:path w="2135" h="472">
                <a:moveTo>
                  <a:pt x="15528" y="6077"/>
                </a:moveTo>
                <a:cubicBezTo>
                  <a:pt x="15550" y="6034"/>
                  <a:pt x="15554" y="6023"/>
                  <a:pt x="15577" y="6003"/>
                </a:cubicBezTo>
                <a:cubicBezTo>
                  <a:pt x="15506" y="6018"/>
                  <a:pt x="15475" y="6054"/>
                  <a:pt x="15453" y="6127"/>
                </a:cubicBezTo>
                <a:cubicBezTo>
                  <a:pt x="15435" y="6186"/>
                  <a:pt x="15521" y="6216"/>
                  <a:pt x="15553" y="6226"/>
                </a:cubicBezTo>
                <a:cubicBezTo>
                  <a:pt x="15610" y="6244"/>
                  <a:pt x="15683" y="6262"/>
                  <a:pt x="15726" y="6300"/>
                </a:cubicBezTo>
                <a:cubicBezTo>
                  <a:pt x="15766" y="6335"/>
                  <a:pt x="15750" y="6378"/>
                  <a:pt x="15701" y="6400"/>
                </a:cubicBezTo>
                <a:cubicBezTo>
                  <a:pt x="15643" y="6426"/>
                  <a:pt x="15499" y="6402"/>
                  <a:pt x="15453" y="6375"/>
                </a:cubicBezTo>
              </a:path>
              <a:path w="2135" h="472">
                <a:moveTo>
                  <a:pt x="15925" y="6077"/>
                </a:moveTo>
                <a:cubicBezTo>
                  <a:pt x="15925" y="6036"/>
                  <a:pt x="15925" y="6028"/>
                  <a:pt x="15925" y="6003"/>
                </a:cubicBezTo>
                <a:cubicBezTo>
                  <a:pt x="15871" y="6003"/>
                  <a:pt x="15852" y="6009"/>
                  <a:pt x="15801" y="60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38920" y="2178000"/>
            <a:ext cx="125280" cy="100080"/>
          </a:xfrm>
          <a:custGeom>
            <a:avLst/>
            <a:gdLst/>
            <a:ahLst/>
            <a:rect l="l" t="t" r="r" b="b"/>
            <a:pathLst>
              <a:path w="348" h="274">
                <a:moveTo>
                  <a:pt x="16842" y="6226"/>
                </a:moveTo>
                <a:cubicBezTo>
                  <a:pt x="16726" y="6226"/>
                  <a:pt x="16611" y="6226"/>
                  <a:pt x="16495" y="6226"/>
                </a:cubicBezTo>
              </a:path>
              <a:path w="348" h="274">
                <a:moveTo>
                  <a:pt x="16594" y="6077"/>
                </a:moveTo>
                <a:cubicBezTo>
                  <a:pt x="16611" y="6069"/>
                  <a:pt x="16627" y="6060"/>
                  <a:pt x="16644" y="6052"/>
                </a:cubicBezTo>
                <a:cubicBezTo>
                  <a:pt x="16655" y="6129"/>
                  <a:pt x="16669" y="6189"/>
                  <a:pt x="16669" y="6276"/>
                </a:cubicBezTo>
                <a:cubicBezTo>
                  <a:pt x="16669" y="6292"/>
                  <a:pt x="16669" y="6309"/>
                  <a:pt x="16669" y="63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2040" y="2125800"/>
            <a:ext cx="884160" cy="179280"/>
          </a:xfrm>
          <a:custGeom>
            <a:avLst/>
            <a:gdLst/>
            <a:ahLst/>
            <a:rect l="l" t="t" r="r" b="b"/>
            <a:pathLst>
              <a:path w="2457" h="497">
                <a:moveTo>
                  <a:pt x="17363" y="6003"/>
                </a:moveTo>
                <a:cubicBezTo>
                  <a:pt x="17374" y="5971"/>
                  <a:pt x="17381" y="5964"/>
                  <a:pt x="17413" y="5953"/>
                </a:cubicBezTo>
                <a:cubicBezTo>
                  <a:pt x="17460" y="5984"/>
                  <a:pt x="17415" y="6042"/>
                  <a:pt x="17388" y="6102"/>
                </a:cubicBezTo>
                <a:cubicBezTo>
                  <a:pt x="17358" y="6168"/>
                  <a:pt x="17338" y="6202"/>
                  <a:pt x="17338" y="6276"/>
                </a:cubicBezTo>
                <a:cubicBezTo>
                  <a:pt x="17338" y="6338"/>
                  <a:pt x="17392" y="6325"/>
                  <a:pt x="17438" y="6325"/>
                </a:cubicBezTo>
                <a:cubicBezTo>
                  <a:pt x="17472" y="6325"/>
                  <a:pt x="17578" y="6312"/>
                  <a:pt x="17611" y="6300"/>
                </a:cubicBezTo>
                <a:cubicBezTo>
                  <a:pt x="17657" y="6283"/>
                  <a:pt x="17677" y="6276"/>
                  <a:pt x="17735" y="6276"/>
                </a:cubicBezTo>
                <a:cubicBezTo>
                  <a:pt x="17753" y="6276"/>
                  <a:pt x="17842" y="6251"/>
                  <a:pt x="17785" y="6251"/>
                </a:cubicBezTo>
              </a:path>
              <a:path w="2457" h="497">
                <a:moveTo>
                  <a:pt x="17611" y="6127"/>
                </a:moveTo>
                <a:cubicBezTo>
                  <a:pt x="17568" y="6142"/>
                  <a:pt x="17587" y="6199"/>
                  <a:pt x="17587" y="6251"/>
                </a:cubicBezTo>
                <a:cubicBezTo>
                  <a:pt x="17587" y="6301"/>
                  <a:pt x="17587" y="6350"/>
                  <a:pt x="17587" y="6400"/>
                </a:cubicBezTo>
              </a:path>
              <a:path w="2457" h="497">
                <a:moveTo>
                  <a:pt x="18008" y="6152"/>
                </a:moveTo>
                <a:cubicBezTo>
                  <a:pt x="17983" y="6152"/>
                  <a:pt x="17975" y="6152"/>
                  <a:pt x="17959" y="6152"/>
                </a:cubicBezTo>
                <a:cubicBezTo>
                  <a:pt x="17967" y="6119"/>
                  <a:pt x="17996" y="6068"/>
                  <a:pt x="18033" y="6052"/>
                </a:cubicBezTo>
                <a:cubicBezTo>
                  <a:pt x="18102" y="6022"/>
                  <a:pt x="18148" y="6061"/>
                  <a:pt x="18182" y="6102"/>
                </a:cubicBezTo>
                <a:cubicBezTo>
                  <a:pt x="18210" y="6137"/>
                  <a:pt x="18223" y="6204"/>
                  <a:pt x="18207" y="6251"/>
                </a:cubicBezTo>
                <a:cubicBezTo>
                  <a:pt x="18185" y="6316"/>
                  <a:pt x="18162" y="6300"/>
                  <a:pt x="18107" y="6300"/>
                </a:cubicBezTo>
                <a:cubicBezTo>
                  <a:pt x="18067" y="6300"/>
                  <a:pt x="18042" y="6277"/>
                  <a:pt x="18033" y="6251"/>
                </a:cubicBezTo>
              </a:path>
              <a:path w="2457" h="497">
                <a:moveTo>
                  <a:pt x="18479" y="6052"/>
                </a:moveTo>
                <a:cubicBezTo>
                  <a:pt x="18471" y="6052"/>
                  <a:pt x="18463" y="6052"/>
                  <a:pt x="18455" y="6052"/>
                </a:cubicBezTo>
                <a:cubicBezTo>
                  <a:pt x="18455" y="6014"/>
                  <a:pt x="18461" y="5987"/>
                  <a:pt x="18504" y="5978"/>
                </a:cubicBezTo>
                <a:cubicBezTo>
                  <a:pt x="18557" y="5967"/>
                  <a:pt x="18632" y="5972"/>
                  <a:pt x="18678" y="6003"/>
                </a:cubicBezTo>
                <a:cubicBezTo>
                  <a:pt x="18708" y="6023"/>
                  <a:pt x="18718" y="6117"/>
                  <a:pt x="18703" y="6152"/>
                </a:cubicBezTo>
                <a:cubicBezTo>
                  <a:pt x="18678" y="6212"/>
                  <a:pt x="18587" y="6231"/>
                  <a:pt x="18579" y="6300"/>
                </a:cubicBezTo>
                <a:cubicBezTo>
                  <a:pt x="18579" y="6308"/>
                  <a:pt x="18579" y="6317"/>
                  <a:pt x="18579" y="6325"/>
                </a:cubicBezTo>
                <a:cubicBezTo>
                  <a:pt x="18635" y="6314"/>
                  <a:pt x="18669" y="6300"/>
                  <a:pt x="18728" y="6300"/>
                </a:cubicBezTo>
                <a:cubicBezTo>
                  <a:pt x="18786" y="6300"/>
                  <a:pt x="18843" y="6300"/>
                  <a:pt x="18901" y="6300"/>
                </a:cubicBezTo>
              </a:path>
              <a:path w="2457" h="497">
                <a:moveTo>
                  <a:pt x="19050" y="6201"/>
                </a:moveTo>
                <a:cubicBezTo>
                  <a:pt x="19075" y="6201"/>
                  <a:pt x="19083" y="6201"/>
                  <a:pt x="19100" y="6201"/>
                </a:cubicBezTo>
              </a:path>
              <a:path w="2457" h="497">
                <a:moveTo>
                  <a:pt x="19372" y="5953"/>
                </a:moveTo>
                <a:cubicBezTo>
                  <a:pt x="19410" y="5902"/>
                  <a:pt x="19412" y="5907"/>
                  <a:pt x="19372" y="5953"/>
                </a:cubicBezTo>
                <a:cubicBezTo>
                  <a:pt x="19327" y="6005"/>
                  <a:pt x="19323" y="6005"/>
                  <a:pt x="19323" y="6077"/>
                </a:cubicBezTo>
                <a:cubicBezTo>
                  <a:pt x="19323" y="6131"/>
                  <a:pt x="19334" y="6162"/>
                  <a:pt x="19397" y="6176"/>
                </a:cubicBezTo>
                <a:cubicBezTo>
                  <a:pt x="19458" y="6190"/>
                  <a:pt x="19497" y="6158"/>
                  <a:pt x="19546" y="6201"/>
                </a:cubicBezTo>
                <a:cubicBezTo>
                  <a:pt x="19590" y="6240"/>
                  <a:pt x="19572" y="6257"/>
                  <a:pt x="19546" y="6276"/>
                </a:cubicBezTo>
                <a:cubicBezTo>
                  <a:pt x="19515" y="6298"/>
                  <a:pt x="19438" y="6318"/>
                  <a:pt x="19397" y="6325"/>
                </a:cubicBezTo>
                <a:cubicBezTo>
                  <a:pt x="19381" y="6325"/>
                  <a:pt x="19364" y="6325"/>
                  <a:pt x="19348" y="6325"/>
                </a:cubicBezTo>
              </a:path>
              <a:path w="2457" h="497">
                <a:moveTo>
                  <a:pt x="19794" y="5978"/>
                </a:moveTo>
                <a:cubicBezTo>
                  <a:pt x="19724" y="5978"/>
                  <a:pt x="19660" y="5995"/>
                  <a:pt x="19596" y="6003"/>
                </a:cubicBezTo>
                <a:cubicBezTo>
                  <a:pt x="19571" y="6003"/>
                  <a:pt x="19546" y="6003"/>
                  <a:pt x="19521" y="60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05840" y="2125800"/>
            <a:ext cx="108000" cy="54000"/>
          </a:xfrm>
          <a:custGeom>
            <a:avLst/>
            <a:gdLst/>
            <a:ahLst/>
            <a:rect l="l" t="t" r="r" b="b"/>
            <a:pathLst>
              <a:path w="298" h="149">
                <a:moveTo>
                  <a:pt x="22994" y="5928"/>
                </a:moveTo>
                <a:cubicBezTo>
                  <a:pt x="23002" y="5928"/>
                  <a:pt x="23011" y="5928"/>
                  <a:pt x="23019" y="5928"/>
                </a:cubicBezTo>
                <a:cubicBezTo>
                  <a:pt x="22947" y="5928"/>
                  <a:pt x="22852" y="5946"/>
                  <a:pt x="22796" y="5904"/>
                </a:cubicBezTo>
              </a:path>
              <a:path w="298" h="149">
                <a:moveTo>
                  <a:pt x="23093" y="6052"/>
                </a:moveTo>
                <a:cubicBezTo>
                  <a:pt x="23027" y="6052"/>
                  <a:pt x="22961" y="6052"/>
                  <a:pt x="22895" y="60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545680" y="1893960"/>
            <a:ext cx="384120" cy="169920"/>
          </a:xfrm>
          <a:custGeom>
            <a:avLst/>
            <a:gdLst/>
            <a:ahLst/>
            <a:rect l="l" t="t" r="r" b="b"/>
            <a:pathLst>
              <a:path w="1068" h="472">
                <a:moveTo>
                  <a:pt x="23738" y="5383"/>
                </a:moveTo>
                <a:cubicBezTo>
                  <a:pt x="23746" y="5366"/>
                  <a:pt x="23755" y="5350"/>
                  <a:pt x="23763" y="5333"/>
                </a:cubicBezTo>
                <a:cubicBezTo>
                  <a:pt x="23752" y="5418"/>
                  <a:pt x="23738" y="5490"/>
                  <a:pt x="23738" y="5581"/>
                </a:cubicBezTo>
                <a:cubicBezTo>
                  <a:pt x="23738" y="5631"/>
                  <a:pt x="23738" y="5680"/>
                  <a:pt x="23738" y="5730"/>
                </a:cubicBezTo>
              </a:path>
              <a:path w="1068" h="472">
                <a:moveTo>
                  <a:pt x="23912" y="5407"/>
                </a:moveTo>
                <a:cubicBezTo>
                  <a:pt x="23948" y="5327"/>
                  <a:pt x="23943" y="5341"/>
                  <a:pt x="23986" y="5283"/>
                </a:cubicBezTo>
                <a:cubicBezTo>
                  <a:pt x="23986" y="5371"/>
                  <a:pt x="23973" y="5446"/>
                  <a:pt x="23961" y="5531"/>
                </a:cubicBezTo>
                <a:cubicBezTo>
                  <a:pt x="23954" y="5584"/>
                  <a:pt x="23978" y="5630"/>
                  <a:pt x="23986" y="5680"/>
                </a:cubicBezTo>
              </a:path>
              <a:path w="1068" h="472">
                <a:moveTo>
                  <a:pt x="24358" y="5308"/>
                </a:moveTo>
                <a:cubicBezTo>
                  <a:pt x="24386" y="5308"/>
                  <a:pt x="24397" y="5306"/>
                  <a:pt x="24408" y="5283"/>
                </a:cubicBezTo>
                <a:cubicBezTo>
                  <a:pt x="24381" y="5263"/>
                  <a:pt x="24348" y="5246"/>
                  <a:pt x="24309" y="5259"/>
                </a:cubicBezTo>
                <a:cubicBezTo>
                  <a:pt x="24240" y="5283"/>
                  <a:pt x="24215" y="5316"/>
                  <a:pt x="24209" y="5383"/>
                </a:cubicBezTo>
                <a:cubicBezTo>
                  <a:pt x="24206" y="5420"/>
                  <a:pt x="24248" y="5452"/>
                  <a:pt x="24284" y="5432"/>
                </a:cubicBezTo>
                <a:cubicBezTo>
                  <a:pt x="24334" y="5404"/>
                  <a:pt x="24351" y="5330"/>
                  <a:pt x="24358" y="5283"/>
                </a:cubicBezTo>
                <a:cubicBezTo>
                  <a:pt x="24407" y="5299"/>
                  <a:pt x="24405" y="5345"/>
                  <a:pt x="24408" y="5407"/>
                </a:cubicBezTo>
                <a:cubicBezTo>
                  <a:pt x="24411" y="5473"/>
                  <a:pt x="24408" y="5540"/>
                  <a:pt x="24408" y="5606"/>
                </a:cubicBezTo>
              </a:path>
              <a:path w="1068" h="472">
                <a:moveTo>
                  <a:pt x="24606" y="5432"/>
                </a:moveTo>
                <a:cubicBezTo>
                  <a:pt x="24568" y="5419"/>
                  <a:pt x="24581" y="5403"/>
                  <a:pt x="24581" y="5358"/>
                </a:cubicBezTo>
                <a:cubicBezTo>
                  <a:pt x="24581" y="5315"/>
                  <a:pt x="24635" y="5270"/>
                  <a:pt x="24681" y="5283"/>
                </a:cubicBezTo>
                <a:cubicBezTo>
                  <a:pt x="24769" y="5307"/>
                  <a:pt x="24795" y="5457"/>
                  <a:pt x="24805" y="5531"/>
                </a:cubicBezTo>
                <a:cubicBezTo>
                  <a:pt x="24815" y="5604"/>
                  <a:pt x="24783" y="5738"/>
                  <a:pt x="24681" y="5730"/>
                </a:cubicBezTo>
                <a:cubicBezTo>
                  <a:pt x="24600" y="5724"/>
                  <a:pt x="24583" y="5582"/>
                  <a:pt x="24581" y="5531"/>
                </a:cubicBezTo>
                <a:cubicBezTo>
                  <a:pt x="24581" y="5515"/>
                  <a:pt x="24581" y="5498"/>
                  <a:pt x="24581" y="54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62840" y="2554200"/>
            <a:ext cx="501480" cy="125640"/>
          </a:xfrm>
          <a:custGeom>
            <a:avLst/>
            <a:gdLst/>
            <a:ahLst/>
            <a:rect l="l" t="t" r="r" b="b"/>
            <a:pathLst>
              <a:path w="1390" h="348">
                <a:moveTo>
                  <a:pt x="19621" y="7094"/>
                </a:moveTo>
                <a:cubicBezTo>
                  <a:pt x="19621" y="7185"/>
                  <a:pt x="19621" y="7276"/>
                  <a:pt x="19621" y="7367"/>
                </a:cubicBezTo>
                <a:cubicBezTo>
                  <a:pt x="19631" y="7316"/>
                  <a:pt x="19661" y="7268"/>
                  <a:pt x="19670" y="7218"/>
                </a:cubicBezTo>
                <a:cubicBezTo>
                  <a:pt x="19681" y="7158"/>
                  <a:pt x="19682" y="7135"/>
                  <a:pt x="19745" y="7119"/>
                </a:cubicBezTo>
                <a:cubicBezTo>
                  <a:pt x="19775" y="7140"/>
                  <a:pt x="19791" y="7191"/>
                  <a:pt x="19794" y="7243"/>
                </a:cubicBezTo>
                <a:cubicBezTo>
                  <a:pt x="19794" y="7284"/>
                  <a:pt x="19794" y="7292"/>
                  <a:pt x="19794" y="7317"/>
                </a:cubicBezTo>
                <a:cubicBezTo>
                  <a:pt x="19806" y="7260"/>
                  <a:pt x="19832" y="7187"/>
                  <a:pt x="19869" y="7144"/>
                </a:cubicBezTo>
                <a:cubicBezTo>
                  <a:pt x="19891" y="7121"/>
                  <a:pt x="19896" y="7113"/>
                  <a:pt x="19918" y="7119"/>
                </a:cubicBezTo>
                <a:cubicBezTo>
                  <a:pt x="19959" y="7173"/>
                  <a:pt x="19965" y="7221"/>
                  <a:pt x="19968" y="7293"/>
                </a:cubicBezTo>
                <a:cubicBezTo>
                  <a:pt x="19968" y="7342"/>
                  <a:pt x="19968" y="7359"/>
                  <a:pt x="19968" y="7392"/>
                </a:cubicBezTo>
              </a:path>
              <a:path w="1390" h="348">
                <a:moveTo>
                  <a:pt x="20017" y="7268"/>
                </a:moveTo>
                <a:cubicBezTo>
                  <a:pt x="20056" y="7278"/>
                  <a:pt x="20072" y="7293"/>
                  <a:pt x="20117" y="7293"/>
                </a:cubicBezTo>
                <a:cubicBezTo>
                  <a:pt x="20171" y="7293"/>
                  <a:pt x="20188" y="7210"/>
                  <a:pt x="20191" y="7169"/>
                </a:cubicBezTo>
                <a:cubicBezTo>
                  <a:pt x="20191" y="7161"/>
                  <a:pt x="20191" y="7152"/>
                  <a:pt x="20191" y="7144"/>
                </a:cubicBezTo>
                <a:cubicBezTo>
                  <a:pt x="20136" y="7171"/>
                  <a:pt x="20120" y="7226"/>
                  <a:pt x="20117" y="7293"/>
                </a:cubicBezTo>
                <a:cubicBezTo>
                  <a:pt x="20113" y="7390"/>
                  <a:pt x="20096" y="7428"/>
                  <a:pt x="20191" y="7441"/>
                </a:cubicBezTo>
              </a:path>
              <a:path w="1390" h="348">
                <a:moveTo>
                  <a:pt x="20513" y="7193"/>
                </a:moveTo>
                <a:cubicBezTo>
                  <a:pt x="20521" y="7185"/>
                  <a:pt x="20530" y="7177"/>
                  <a:pt x="20538" y="7169"/>
                </a:cubicBezTo>
                <a:cubicBezTo>
                  <a:pt x="20485" y="7221"/>
                  <a:pt x="20464" y="7233"/>
                  <a:pt x="20439" y="7293"/>
                </a:cubicBezTo>
                <a:cubicBezTo>
                  <a:pt x="20434" y="7305"/>
                  <a:pt x="20383" y="7428"/>
                  <a:pt x="20464" y="7392"/>
                </a:cubicBezTo>
                <a:cubicBezTo>
                  <a:pt x="20504" y="7374"/>
                  <a:pt x="20522" y="7311"/>
                  <a:pt x="20563" y="7293"/>
                </a:cubicBezTo>
                <a:cubicBezTo>
                  <a:pt x="20596" y="7279"/>
                  <a:pt x="20616" y="7301"/>
                  <a:pt x="20638" y="7317"/>
                </a:cubicBezTo>
              </a:path>
              <a:path w="1390" h="348">
                <a:moveTo>
                  <a:pt x="20687" y="7293"/>
                </a:moveTo>
                <a:cubicBezTo>
                  <a:pt x="20687" y="7317"/>
                  <a:pt x="20687" y="7326"/>
                  <a:pt x="20687" y="7342"/>
                </a:cubicBezTo>
                <a:cubicBezTo>
                  <a:pt x="20751" y="7342"/>
                  <a:pt x="20752" y="7354"/>
                  <a:pt x="20786" y="7293"/>
                </a:cubicBezTo>
                <a:cubicBezTo>
                  <a:pt x="20809" y="7251"/>
                  <a:pt x="20873" y="7181"/>
                  <a:pt x="20935" y="7218"/>
                </a:cubicBezTo>
                <a:cubicBezTo>
                  <a:pt x="20981" y="7264"/>
                  <a:pt x="20996" y="7276"/>
                  <a:pt x="21010" y="73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97880" y="2554200"/>
            <a:ext cx="54000" cy="81000"/>
          </a:xfrm>
          <a:custGeom>
            <a:avLst/>
            <a:gdLst/>
            <a:ahLst/>
            <a:rect l="l" t="t" r="r" b="b"/>
            <a:pathLst>
              <a:path w="149" h="224">
                <a:moveTo>
                  <a:pt x="21481" y="7094"/>
                </a:moveTo>
                <a:cubicBezTo>
                  <a:pt x="21489" y="7094"/>
                  <a:pt x="21498" y="7094"/>
                  <a:pt x="21506" y="7094"/>
                </a:cubicBezTo>
                <a:cubicBezTo>
                  <a:pt x="21506" y="7137"/>
                  <a:pt x="21501" y="7154"/>
                  <a:pt x="21456" y="7169"/>
                </a:cubicBezTo>
                <a:cubicBezTo>
                  <a:pt x="21412" y="7184"/>
                  <a:pt x="21406" y="7158"/>
                  <a:pt x="21382" y="7193"/>
                </a:cubicBezTo>
              </a:path>
              <a:path w="149" h="224">
                <a:moveTo>
                  <a:pt x="21530" y="7218"/>
                </a:moveTo>
                <a:cubicBezTo>
                  <a:pt x="21530" y="7251"/>
                  <a:pt x="21530" y="7284"/>
                  <a:pt x="21530" y="73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61200" y="238428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22696" y="6722"/>
                </a:moveTo>
                <a:cubicBezTo>
                  <a:pt x="22696" y="6655"/>
                  <a:pt x="22696" y="6806"/>
                  <a:pt x="22696" y="6821"/>
                </a:cubicBezTo>
                <a:cubicBezTo>
                  <a:pt x="22696" y="6905"/>
                  <a:pt x="22681" y="6966"/>
                  <a:pt x="22671" y="7045"/>
                </a:cubicBezTo>
              </a:path>
              <a:path w="299" h="472">
                <a:moveTo>
                  <a:pt x="22920" y="6672"/>
                </a:moveTo>
                <a:cubicBezTo>
                  <a:pt x="22981" y="6632"/>
                  <a:pt x="22969" y="6610"/>
                  <a:pt x="22969" y="6672"/>
                </a:cubicBezTo>
                <a:cubicBezTo>
                  <a:pt x="22969" y="6751"/>
                  <a:pt x="22948" y="6817"/>
                  <a:pt x="22944" y="6896"/>
                </a:cubicBezTo>
                <a:cubicBezTo>
                  <a:pt x="22941" y="6969"/>
                  <a:pt x="22934" y="7036"/>
                  <a:pt x="22969" y="70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02760" y="2384280"/>
            <a:ext cx="304560" cy="160560"/>
          </a:xfrm>
          <a:custGeom>
            <a:avLst/>
            <a:gdLst/>
            <a:ahLst/>
            <a:rect l="l" t="t" r="r" b="b"/>
            <a:pathLst>
              <a:path w="845" h="447">
                <a:moveTo>
                  <a:pt x="23515" y="6722"/>
                </a:moveTo>
                <a:cubicBezTo>
                  <a:pt x="23569" y="6722"/>
                  <a:pt x="23551" y="6710"/>
                  <a:pt x="23589" y="6697"/>
                </a:cubicBezTo>
                <a:cubicBezTo>
                  <a:pt x="23589" y="6659"/>
                  <a:pt x="23583" y="6632"/>
                  <a:pt x="23540" y="6623"/>
                </a:cubicBezTo>
                <a:cubicBezTo>
                  <a:pt x="23474" y="6609"/>
                  <a:pt x="23409" y="6682"/>
                  <a:pt x="23366" y="6722"/>
                </a:cubicBezTo>
                <a:cubicBezTo>
                  <a:pt x="23328" y="6757"/>
                  <a:pt x="23341" y="6798"/>
                  <a:pt x="23341" y="6846"/>
                </a:cubicBezTo>
                <a:cubicBezTo>
                  <a:pt x="23409" y="6846"/>
                  <a:pt x="23429" y="6832"/>
                  <a:pt x="23465" y="6772"/>
                </a:cubicBezTo>
                <a:cubicBezTo>
                  <a:pt x="23497" y="6718"/>
                  <a:pt x="23532" y="6686"/>
                  <a:pt x="23589" y="6672"/>
                </a:cubicBezTo>
                <a:cubicBezTo>
                  <a:pt x="23614" y="6737"/>
                  <a:pt x="23635" y="6801"/>
                  <a:pt x="23639" y="6871"/>
                </a:cubicBezTo>
                <a:cubicBezTo>
                  <a:pt x="23642" y="6920"/>
                  <a:pt x="23639" y="6971"/>
                  <a:pt x="23639" y="7020"/>
                </a:cubicBezTo>
              </a:path>
              <a:path w="845" h="447">
                <a:moveTo>
                  <a:pt x="23887" y="6722"/>
                </a:moveTo>
                <a:cubicBezTo>
                  <a:pt x="23887" y="6651"/>
                  <a:pt x="23901" y="6688"/>
                  <a:pt x="23961" y="6648"/>
                </a:cubicBezTo>
                <a:cubicBezTo>
                  <a:pt x="24022" y="6608"/>
                  <a:pt x="24092" y="6624"/>
                  <a:pt x="24135" y="6697"/>
                </a:cubicBezTo>
                <a:cubicBezTo>
                  <a:pt x="24186" y="6784"/>
                  <a:pt x="24205" y="6903"/>
                  <a:pt x="24160" y="6995"/>
                </a:cubicBezTo>
                <a:cubicBezTo>
                  <a:pt x="24110" y="7097"/>
                  <a:pt x="23945" y="7105"/>
                  <a:pt x="23862" y="7020"/>
                </a:cubicBezTo>
                <a:cubicBezTo>
                  <a:pt x="23792" y="6948"/>
                  <a:pt x="23795" y="6837"/>
                  <a:pt x="23788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50040" y="1677960"/>
            <a:ext cx="743040" cy="581040"/>
          </a:xfrm>
          <a:custGeom>
            <a:avLst/>
            <a:gdLst/>
            <a:ahLst/>
            <a:rect l="l" t="t" r="r" b="b"/>
            <a:pathLst>
              <a:path w="2060" h="1614">
                <a:moveTo>
                  <a:pt x="21109" y="4787"/>
                </a:moveTo>
                <a:cubicBezTo>
                  <a:pt x="21086" y="4833"/>
                  <a:pt x="21081" y="4769"/>
                  <a:pt x="21109" y="4738"/>
                </a:cubicBezTo>
                <a:cubicBezTo>
                  <a:pt x="21132" y="4712"/>
                  <a:pt x="21200" y="4696"/>
                  <a:pt x="21233" y="4688"/>
                </a:cubicBezTo>
                <a:cubicBezTo>
                  <a:pt x="21295" y="4672"/>
                  <a:pt x="21282" y="4751"/>
                  <a:pt x="21282" y="4787"/>
                </a:cubicBezTo>
                <a:cubicBezTo>
                  <a:pt x="21282" y="4838"/>
                  <a:pt x="21265" y="4869"/>
                  <a:pt x="21233" y="4911"/>
                </a:cubicBezTo>
                <a:cubicBezTo>
                  <a:pt x="21200" y="4955"/>
                  <a:pt x="21183" y="4954"/>
                  <a:pt x="21183" y="5011"/>
                </a:cubicBezTo>
                <a:cubicBezTo>
                  <a:pt x="21183" y="5035"/>
                  <a:pt x="21183" y="5044"/>
                  <a:pt x="21183" y="5060"/>
                </a:cubicBezTo>
                <a:cubicBezTo>
                  <a:pt x="21243" y="5060"/>
                  <a:pt x="21282" y="5050"/>
                  <a:pt x="21332" y="5035"/>
                </a:cubicBezTo>
                <a:cubicBezTo>
                  <a:pt x="21366" y="5025"/>
                  <a:pt x="21400" y="5021"/>
                  <a:pt x="21431" y="5011"/>
                </a:cubicBezTo>
                <a:cubicBezTo>
                  <a:pt x="21465" y="5000"/>
                  <a:pt x="21497" y="4994"/>
                  <a:pt x="21530" y="4986"/>
                </a:cubicBezTo>
              </a:path>
              <a:path w="2060" h="1614">
                <a:moveTo>
                  <a:pt x="21779" y="4713"/>
                </a:moveTo>
                <a:cubicBezTo>
                  <a:pt x="21787" y="4705"/>
                  <a:pt x="21795" y="4696"/>
                  <a:pt x="21803" y="4688"/>
                </a:cubicBezTo>
                <a:cubicBezTo>
                  <a:pt x="21758" y="4734"/>
                  <a:pt x="21754" y="4747"/>
                  <a:pt x="21754" y="4812"/>
                </a:cubicBezTo>
                <a:cubicBezTo>
                  <a:pt x="21754" y="4892"/>
                  <a:pt x="21770" y="4859"/>
                  <a:pt x="21828" y="4887"/>
                </a:cubicBezTo>
                <a:cubicBezTo>
                  <a:pt x="21852" y="4899"/>
                  <a:pt x="21939" y="4917"/>
                  <a:pt x="21952" y="4936"/>
                </a:cubicBezTo>
                <a:cubicBezTo>
                  <a:pt x="21968" y="4960"/>
                  <a:pt x="21951" y="5023"/>
                  <a:pt x="21927" y="5035"/>
                </a:cubicBezTo>
                <a:cubicBezTo>
                  <a:pt x="21883" y="5057"/>
                  <a:pt x="21811" y="5020"/>
                  <a:pt x="21779" y="5011"/>
                </a:cubicBezTo>
                <a:cubicBezTo>
                  <a:pt x="21771" y="5011"/>
                  <a:pt x="21762" y="5011"/>
                  <a:pt x="21754" y="5011"/>
                </a:cubicBezTo>
              </a:path>
              <a:path w="2060" h="1614">
                <a:moveTo>
                  <a:pt x="22175" y="4663"/>
                </a:moveTo>
                <a:cubicBezTo>
                  <a:pt x="22119" y="4663"/>
                  <a:pt x="22077" y="4681"/>
                  <a:pt x="22027" y="4688"/>
                </a:cubicBezTo>
                <a:cubicBezTo>
                  <a:pt x="21961" y="4688"/>
                  <a:pt x="21944" y="4688"/>
                  <a:pt x="21903" y="4688"/>
                </a:cubicBezTo>
              </a:path>
              <a:path w="2060" h="1614">
                <a:moveTo>
                  <a:pt x="21357" y="5804"/>
                </a:moveTo>
                <a:cubicBezTo>
                  <a:pt x="21357" y="5849"/>
                  <a:pt x="21354" y="5862"/>
                  <a:pt x="21382" y="5879"/>
                </a:cubicBezTo>
              </a:path>
              <a:path w="2060" h="1614">
                <a:moveTo>
                  <a:pt x="21456" y="5953"/>
                </a:moveTo>
                <a:cubicBezTo>
                  <a:pt x="21488" y="5953"/>
                  <a:pt x="21521" y="5945"/>
                  <a:pt x="21530" y="5928"/>
                </a:cubicBezTo>
                <a:cubicBezTo>
                  <a:pt x="21530" y="5920"/>
                  <a:pt x="21530" y="5912"/>
                  <a:pt x="21530" y="5904"/>
                </a:cubicBezTo>
                <a:cubicBezTo>
                  <a:pt x="21502" y="5932"/>
                  <a:pt x="21468" y="5968"/>
                  <a:pt x="21456" y="6003"/>
                </a:cubicBezTo>
                <a:cubicBezTo>
                  <a:pt x="21446" y="6032"/>
                  <a:pt x="21452" y="6087"/>
                  <a:pt x="21481" y="6102"/>
                </a:cubicBezTo>
                <a:cubicBezTo>
                  <a:pt x="21507" y="6115"/>
                  <a:pt x="21605" y="6122"/>
                  <a:pt x="21630" y="6127"/>
                </a:cubicBezTo>
                <a:cubicBezTo>
                  <a:pt x="21681" y="6137"/>
                  <a:pt x="21736" y="6148"/>
                  <a:pt x="21704" y="6226"/>
                </a:cubicBezTo>
                <a:cubicBezTo>
                  <a:pt x="21688" y="6264"/>
                  <a:pt x="21584" y="6262"/>
                  <a:pt x="21555" y="6251"/>
                </a:cubicBezTo>
                <a:cubicBezTo>
                  <a:pt x="21547" y="6243"/>
                  <a:pt x="21538" y="6234"/>
                  <a:pt x="21530" y="6226"/>
                </a:cubicBezTo>
              </a:path>
              <a:path w="2060" h="1614">
                <a:moveTo>
                  <a:pt x="21779" y="5755"/>
                </a:moveTo>
                <a:cubicBezTo>
                  <a:pt x="21713" y="5755"/>
                  <a:pt x="21646" y="5755"/>
                  <a:pt x="21580" y="5755"/>
                </a:cubicBezTo>
              </a:path>
              <a:path w="2060" h="1614">
                <a:moveTo>
                  <a:pt x="21927" y="5904"/>
                </a:moveTo>
                <a:cubicBezTo>
                  <a:pt x="21937" y="5875"/>
                  <a:pt x="21983" y="5844"/>
                  <a:pt x="22027" y="5829"/>
                </a:cubicBezTo>
                <a:cubicBezTo>
                  <a:pt x="22078" y="5812"/>
                  <a:pt x="22158" y="5939"/>
                  <a:pt x="22175" y="5978"/>
                </a:cubicBezTo>
                <a:cubicBezTo>
                  <a:pt x="22204" y="6046"/>
                  <a:pt x="22215" y="6144"/>
                  <a:pt x="22151" y="6201"/>
                </a:cubicBezTo>
                <a:cubicBezTo>
                  <a:pt x="22112" y="6236"/>
                  <a:pt x="22029" y="6176"/>
                  <a:pt x="22002" y="6152"/>
                </a:cubicBezTo>
                <a:cubicBezTo>
                  <a:pt x="21958" y="6113"/>
                  <a:pt x="21959" y="6082"/>
                  <a:pt x="21952" y="6028"/>
                </a:cubicBezTo>
              </a:path>
              <a:path w="2060" h="1614">
                <a:moveTo>
                  <a:pt x="20489" y="6176"/>
                </a:moveTo>
                <a:cubicBezTo>
                  <a:pt x="20489" y="6168"/>
                  <a:pt x="20489" y="6160"/>
                  <a:pt x="20489" y="6152"/>
                </a:cubicBezTo>
                <a:cubicBezTo>
                  <a:pt x="20373" y="6152"/>
                  <a:pt x="20257" y="6152"/>
                  <a:pt x="20141" y="6152"/>
                </a:cubicBezTo>
              </a:path>
              <a:path w="2060" h="1614">
                <a:moveTo>
                  <a:pt x="20265" y="6003"/>
                </a:moveTo>
                <a:cubicBezTo>
                  <a:pt x="20273" y="5995"/>
                  <a:pt x="20282" y="5986"/>
                  <a:pt x="20290" y="5978"/>
                </a:cubicBezTo>
                <a:cubicBezTo>
                  <a:pt x="20290" y="6077"/>
                  <a:pt x="20290" y="6177"/>
                  <a:pt x="20290" y="62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61160" y="2608200"/>
            <a:ext cx="965160" cy="606600"/>
          </a:xfrm>
          <a:custGeom>
            <a:avLst/>
            <a:gdLst/>
            <a:ahLst/>
            <a:rect l="l" t="t" r="r" b="b"/>
            <a:pathLst>
              <a:path w="2680" h="1688">
                <a:moveTo>
                  <a:pt x="23937" y="7392"/>
                </a:moveTo>
                <a:cubicBezTo>
                  <a:pt x="23894" y="7392"/>
                  <a:pt x="23904" y="7377"/>
                  <a:pt x="23862" y="7367"/>
                </a:cubicBezTo>
                <a:cubicBezTo>
                  <a:pt x="23816" y="7355"/>
                  <a:pt x="23732" y="7347"/>
                  <a:pt x="23688" y="7342"/>
                </a:cubicBezTo>
                <a:cubicBezTo>
                  <a:pt x="23570" y="7329"/>
                  <a:pt x="23461" y="7317"/>
                  <a:pt x="23341" y="7317"/>
                </a:cubicBezTo>
                <a:cubicBezTo>
                  <a:pt x="23223" y="7317"/>
                  <a:pt x="23114" y="7293"/>
                  <a:pt x="22994" y="7293"/>
                </a:cubicBezTo>
                <a:cubicBezTo>
                  <a:pt x="22886" y="7293"/>
                  <a:pt x="22796" y="7285"/>
                  <a:pt x="22696" y="7268"/>
                </a:cubicBezTo>
                <a:cubicBezTo>
                  <a:pt x="22632" y="7257"/>
                  <a:pt x="22585" y="7259"/>
                  <a:pt x="22523" y="7243"/>
                </a:cubicBezTo>
                <a:cubicBezTo>
                  <a:pt x="22515" y="7243"/>
                  <a:pt x="22506" y="7243"/>
                  <a:pt x="22498" y="7243"/>
                </a:cubicBezTo>
              </a:path>
              <a:path w="2680" h="1688">
                <a:moveTo>
                  <a:pt x="22448" y="7689"/>
                </a:moveTo>
                <a:cubicBezTo>
                  <a:pt x="22448" y="7681"/>
                  <a:pt x="22448" y="7673"/>
                  <a:pt x="22448" y="7665"/>
                </a:cubicBezTo>
                <a:cubicBezTo>
                  <a:pt x="22497" y="7697"/>
                  <a:pt x="22455" y="7749"/>
                  <a:pt x="22473" y="7813"/>
                </a:cubicBezTo>
                <a:cubicBezTo>
                  <a:pt x="22489" y="7868"/>
                  <a:pt x="22498" y="7903"/>
                  <a:pt x="22498" y="7962"/>
                </a:cubicBezTo>
              </a:path>
              <a:path w="2680" h="1688">
                <a:moveTo>
                  <a:pt x="22820" y="7789"/>
                </a:moveTo>
                <a:cubicBezTo>
                  <a:pt x="22820" y="7750"/>
                  <a:pt x="22808" y="7714"/>
                  <a:pt x="22845" y="7689"/>
                </a:cubicBezTo>
                <a:cubicBezTo>
                  <a:pt x="22920" y="7639"/>
                  <a:pt x="22958" y="7629"/>
                  <a:pt x="23044" y="7665"/>
                </a:cubicBezTo>
                <a:cubicBezTo>
                  <a:pt x="23129" y="7700"/>
                  <a:pt x="23138" y="7790"/>
                  <a:pt x="23093" y="7863"/>
                </a:cubicBezTo>
                <a:cubicBezTo>
                  <a:pt x="23058" y="7919"/>
                  <a:pt x="22951" y="7933"/>
                  <a:pt x="22895" y="7913"/>
                </a:cubicBezTo>
                <a:cubicBezTo>
                  <a:pt x="22856" y="7899"/>
                  <a:pt x="22851" y="7845"/>
                  <a:pt x="22845" y="7813"/>
                </a:cubicBezTo>
              </a:path>
              <a:path w="2680" h="1688">
                <a:moveTo>
                  <a:pt x="23316" y="7764"/>
                </a:moveTo>
                <a:cubicBezTo>
                  <a:pt x="23308" y="7772"/>
                  <a:pt x="23300" y="7781"/>
                  <a:pt x="23292" y="7789"/>
                </a:cubicBezTo>
                <a:cubicBezTo>
                  <a:pt x="23292" y="7739"/>
                  <a:pt x="23310" y="7688"/>
                  <a:pt x="23366" y="7665"/>
                </a:cubicBezTo>
                <a:cubicBezTo>
                  <a:pt x="23441" y="7635"/>
                  <a:pt x="23544" y="7684"/>
                  <a:pt x="23589" y="7739"/>
                </a:cubicBezTo>
                <a:cubicBezTo>
                  <a:pt x="23654" y="7818"/>
                  <a:pt x="23603" y="7895"/>
                  <a:pt x="23515" y="7913"/>
                </a:cubicBezTo>
                <a:cubicBezTo>
                  <a:pt x="23438" y="7928"/>
                  <a:pt x="23362" y="7887"/>
                  <a:pt x="23292" y="7863"/>
                </a:cubicBezTo>
              </a:path>
              <a:path w="2680" h="1688">
                <a:moveTo>
                  <a:pt x="21506" y="8632"/>
                </a:moveTo>
                <a:cubicBezTo>
                  <a:pt x="21431" y="8632"/>
                  <a:pt x="21357" y="8632"/>
                  <a:pt x="21282" y="8632"/>
                </a:cubicBezTo>
              </a:path>
              <a:path w="2680" h="1688">
                <a:moveTo>
                  <a:pt x="21555" y="8731"/>
                </a:moveTo>
                <a:cubicBezTo>
                  <a:pt x="21555" y="8756"/>
                  <a:pt x="21555" y="8764"/>
                  <a:pt x="21555" y="8781"/>
                </a:cubicBezTo>
                <a:cubicBezTo>
                  <a:pt x="21497" y="8781"/>
                  <a:pt x="21440" y="8781"/>
                  <a:pt x="21382" y="8781"/>
                </a:cubicBezTo>
              </a:path>
              <a:path w="2680" h="1688">
                <a:moveTo>
                  <a:pt x="22671" y="8508"/>
                </a:moveTo>
                <a:cubicBezTo>
                  <a:pt x="22671" y="8467"/>
                  <a:pt x="22671" y="8541"/>
                  <a:pt x="22671" y="8582"/>
                </a:cubicBezTo>
                <a:cubicBezTo>
                  <a:pt x="22671" y="8681"/>
                  <a:pt x="22671" y="8781"/>
                  <a:pt x="22671" y="8880"/>
                </a:cubicBezTo>
              </a:path>
              <a:path w="2680" h="1688">
                <a:moveTo>
                  <a:pt x="22870" y="8533"/>
                </a:moveTo>
                <a:cubicBezTo>
                  <a:pt x="22908" y="8476"/>
                  <a:pt x="22902" y="8451"/>
                  <a:pt x="22944" y="8458"/>
                </a:cubicBezTo>
                <a:cubicBezTo>
                  <a:pt x="22980" y="8518"/>
                  <a:pt x="22969" y="8582"/>
                  <a:pt x="22969" y="8657"/>
                </a:cubicBezTo>
                <a:cubicBezTo>
                  <a:pt x="22969" y="8740"/>
                  <a:pt x="22969" y="8822"/>
                  <a:pt x="22969" y="8905"/>
                </a:cubicBezTo>
              </a:path>
              <a:path w="2680" h="1688">
                <a:moveTo>
                  <a:pt x="23267" y="8830"/>
                </a:moveTo>
                <a:cubicBezTo>
                  <a:pt x="23292" y="8830"/>
                  <a:pt x="23300" y="8830"/>
                  <a:pt x="23292" y="8855"/>
                </a:cubicBezTo>
              </a:path>
              <a:path w="2680" h="1688">
                <a:moveTo>
                  <a:pt x="23738" y="8533"/>
                </a:moveTo>
                <a:cubicBezTo>
                  <a:pt x="23761" y="8523"/>
                  <a:pt x="23846" y="8496"/>
                  <a:pt x="23837" y="8458"/>
                </a:cubicBezTo>
                <a:cubicBezTo>
                  <a:pt x="23829" y="8424"/>
                  <a:pt x="23770" y="8398"/>
                  <a:pt x="23738" y="8409"/>
                </a:cubicBezTo>
                <a:cubicBezTo>
                  <a:pt x="23663" y="8436"/>
                  <a:pt x="23625" y="8465"/>
                  <a:pt x="23589" y="8533"/>
                </a:cubicBezTo>
                <a:cubicBezTo>
                  <a:pt x="23567" y="8574"/>
                  <a:pt x="23535" y="8648"/>
                  <a:pt x="23589" y="8682"/>
                </a:cubicBezTo>
                <a:cubicBezTo>
                  <a:pt x="23658" y="8725"/>
                  <a:pt x="23686" y="8643"/>
                  <a:pt x="23713" y="8607"/>
                </a:cubicBezTo>
                <a:cubicBezTo>
                  <a:pt x="23739" y="8573"/>
                  <a:pt x="23770" y="8502"/>
                  <a:pt x="23812" y="8483"/>
                </a:cubicBezTo>
                <a:cubicBezTo>
                  <a:pt x="23820" y="8483"/>
                  <a:pt x="23829" y="8483"/>
                  <a:pt x="23837" y="8483"/>
                </a:cubicBezTo>
                <a:cubicBezTo>
                  <a:pt x="23869" y="8537"/>
                  <a:pt x="23902" y="8638"/>
                  <a:pt x="23912" y="8706"/>
                </a:cubicBezTo>
                <a:cubicBezTo>
                  <a:pt x="23923" y="8780"/>
                  <a:pt x="23937" y="8854"/>
                  <a:pt x="23937" y="89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87680" y="330120"/>
            <a:ext cx="250560" cy="27000"/>
          </a:xfrm>
          <a:custGeom>
            <a:avLst/>
            <a:gdLst/>
            <a:ahLst/>
            <a:rect l="l" t="t" r="r" b="b"/>
            <a:pathLst>
              <a:path w="696" h="75">
                <a:moveTo>
                  <a:pt x="5383" y="992"/>
                </a:moveTo>
                <a:cubicBezTo>
                  <a:pt x="5341" y="960"/>
                  <a:pt x="5315" y="967"/>
                  <a:pt x="5259" y="967"/>
                </a:cubicBezTo>
                <a:cubicBezTo>
                  <a:pt x="5191" y="967"/>
                  <a:pt x="5078" y="959"/>
                  <a:pt x="5011" y="943"/>
                </a:cubicBezTo>
                <a:cubicBezTo>
                  <a:pt x="4934" y="925"/>
                  <a:pt x="4869" y="918"/>
                  <a:pt x="4787" y="918"/>
                </a:cubicBezTo>
                <a:cubicBezTo>
                  <a:pt x="4751" y="918"/>
                  <a:pt x="4722" y="936"/>
                  <a:pt x="4688" y="9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87720" y="1251000"/>
            <a:ext cx="117360" cy="285840"/>
          </a:xfrm>
          <a:custGeom>
            <a:avLst/>
            <a:gdLst/>
            <a:ahLst/>
            <a:rect l="l" t="t" r="r" b="b"/>
            <a:pathLst>
              <a:path w="324" h="794">
                <a:moveTo>
                  <a:pt x="6300" y="3721"/>
                </a:moveTo>
                <a:cubicBezTo>
                  <a:pt x="6361" y="3695"/>
                  <a:pt x="6395" y="3696"/>
                  <a:pt x="6400" y="3621"/>
                </a:cubicBezTo>
                <a:cubicBezTo>
                  <a:pt x="6403" y="3583"/>
                  <a:pt x="6389" y="3492"/>
                  <a:pt x="6350" y="3473"/>
                </a:cubicBezTo>
                <a:cubicBezTo>
                  <a:pt x="6273" y="3435"/>
                  <a:pt x="6252" y="3521"/>
                  <a:pt x="6226" y="3572"/>
                </a:cubicBezTo>
                <a:cubicBezTo>
                  <a:pt x="6185" y="3653"/>
                  <a:pt x="6187" y="3780"/>
                  <a:pt x="6201" y="3870"/>
                </a:cubicBezTo>
                <a:cubicBezTo>
                  <a:pt x="6219" y="3987"/>
                  <a:pt x="6260" y="4101"/>
                  <a:pt x="6276" y="4217"/>
                </a:cubicBezTo>
                <a:cubicBezTo>
                  <a:pt x="6276" y="4233"/>
                  <a:pt x="6276" y="4250"/>
                  <a:pt x="6276" y="4266"/>
                </a:cubicBezTo>
              </a:path>
              <a:path w="324" h="794">
                <a:moveTo>
                  <a:pt x="6300" y="4093"/>
                </a:moveTo>
                <a:cubicBezTo>
                  <a:pt x="6300" y="4051"/>
                  <a:pt x="6300" y="4043"/>
                  <a:pt x="6300" y="4018"/>
                </a:cubicBezTo>
                <a:cubicBezTo>
                  <a:pt x="6226" y="4018"/>
                  <a:pt x="6151" y="4018"/>
                  <a:pt x="6077" y="4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0200" y="1633680"/>
            <a:ext cx="714600" cy="455400"/>
          </a:xfrm>
          <a:custGeom>
            <a:avLst/>
            <a:gdLst/>
            <a:ahLst/>
            <a:rect l="l" t="t" r="r" b="b"/>
            <a:pathLst>
              <a:path w="1985" h="1266">
                <a:moveTo>
                  <a:pt x="3696" y="4911"/>
                </a:moveTo>
                <a:cubicBezTo>
                  <a:pt x="3723" y="4876"/>
                  <a:pt x="3721" y="4881"/>
                  <a:pt x="3721" y="4837"/>
                </a:cubicBezTo>
                <a:cubicBezTo>
                  <a:pt x="3721" y="4913"/>
                  <a:pt x="3730" y="4964"/>
                  <a:pt x="3746" y="5035"/>
                </a:cubicBezTo>
                <a:cubicBezTo>
                  <a:pt x="3757" y="5081"/>
                  <a:pt x="3737" y="5087"/>
                  <a:pt x="3770" y="5110"/>
                </a:cubicBezTo>
                <a:cubicBezTo>
                  <a:pt x="3799" y="5061"/>
                  <a:pt x="3811" y="4972"/>
                  <a:pt x="3820" y="4911"/>
                </a:cubicBezTo>
                <a:cubicBezTo>
                  <a:pt x="3829" y="4850"/>
                  <a:pt x="3827" y="4855"/>
                  <a:pt x="3870" y="4812"/>
                </a:cubicBezTo>
                <a:cubicBezTo>
                  <a:pt x="3881" y="4857"/>
                  <a:pt x="3910" y="4899"/>
                  <a:pt x="3944" y="4936"/>
                </a:cubicBezTo>
                <a:cubicBezTo>
                  <a:pt x="3952" y="4944"/>
                  <a:pt x="3961" y="4953"/>
                  <a:pt x="3969" y="4961"/>
                </a:cubicBezTo>
                <a:cubicBezTo>
                  <a:pt x="4004" y="4914"/>
                  <a:pt x="3995" y="4862"/>
                  <a:pt x="4018" y="4812"/>
                </a:cubicBezTo>
                <a:cubicBezTo>
                  <a:pt x="4041" y="4763"/>
                  <a:pt x="4093" y="4788"/>
                  <a:pt x="4118" y="4812"/>
                </a:cubicBezTo>
                <a:cubicBezTo>
                  <a:pt x="4170" y="4861"/>
                  <a:pt x="4203" y="4893"/>
                  <a:pt x="4217" y="4961"/>
                </a:cubicBezTo>
              </a:path>
              <a:path w="1985" h="1266">
                <a:moveTo>
                  <a:pt x="4415" y="4837"/>
                </a:moveTo>
                <a:cubicBezTo>
                  <a:pt x="4373" y="4782"/>
                  <a:pt x="4390" y="4783"/>
                  <a:pt x="4390" y="4862"/>
                </a:cubicBezTo>
                <a:cubicBezTo>
                  <a:pt x="4390" y="4898"/>
                  <a:pt x="4408" y="4927"/>
                  <a:pt x="4415" y="4961"/>
                </a:cubicBezTo>
              </a:path>
              <a:path w="1985" h="1266">
                <a:moveTo>
                  <a:pt x="4390" y="4787"/>
                </a:moveTo>
                <a:cubicBezTo>
                  <a:pt x="4364" y="4699"/>
                  <a:pt x="4387" y="4681"/>
                  <a:pt x="4316" y="4663"/>
                </a:cubicBezTo>
                <a:cubicBezTo>
                  <a:pt x="4316" y="4638"/>
                  <a:pt x="4316" y="4630"/>
                  <a:pt x="4291" y="4638"/>
                </a:cubicBezTo>
              </a:path>
              <a:path w="1985" h="1266">
                <a:moveTo>
                  <a:pt x="4589" y="4862"/>
                </a:moveTo>
                <a:cubicBezTo>
                  <a:pt x="4646" y="4805"/>
                  <a:pt x="4566" y="4880"/>
                  <a:pt x="4564" y="4911"/>
                </a:cubicBezTo>
                <a:cubicBezTo>
                  <a:pt x="4564" y="4953"/>
                  <a:pt x="4564" y="4961"/>
                  <a:pt x="4564" y="4986"/>
                </a:cubicBezTo>
                <a:cubicBezTo>
                  <a:pt x="4639" y="4967"/>
                  <a:pt x="4636" y="4910"/>
                  <a:pt x="4638" y="4837"/>
                </a:cubicBezTo>
                <a:cubicBezTo>
                  <a:pt x="4641" y="4738"/>
                  <a:pt x="4638" y="4638"/>
                  <a:pt x="4638" y="4539"/>
                </a:cubicBezTo>
                <a:cubicBezTo>
                  <a:pt x="4598" y="4553"/>
                  <a:pt x="4606" y="4638"/>
                  <a:pt x="4614" y="4688"/>
                </a:cubicBezTo>
                <a:cubicBezTo>
                  <a:pt x="4622" y="4721"/>
                  <a:pt x="4630" y="4754"/>
                  <a:pt x="4638" y="4787"/>
                </a:cubicBezTo>
              </a:path>
              <a:path w="1985" h="1266">
                <a:moveTo>
                  <a:pt x="4440" y="5432"/>
                </a:moveTo>
                <a:cubicBezTo>
                  <a:pt x="4440" y="5501"/>
                  <a:pt x="4462" y="5560"/>
                  <a:pt x="4465" y="5631"/>
                </a:cubicBezTo>
                <a:cubicBezTo>
                  <a:pt x="4467" y="5698"/>
                  <a:pt x="4482" y="5741"/>
                  <a:pt x="4490" y="5804"/>
                </a:cubicBezTo>
              </a:path>
              <a:path w="1985" h="1266">
                <a:moveTo>
                  <a:pt x="4390" y="5383"/>
                </a:moveTo>
                <a:cubicBezTo>
                  <a:pt x="4398" y="5302"/>
                  <a:pt x="4402" y="5263"/>
                  <a:pt x="4490" y="5234"/>
                </a:cubicBezTo>
                <a:cubicBezTo>
                  <a:pt x="4515" y="5226"/>
                  <a:pt x="4582" y="5285"/>
                  <a:pt x="4589" y="5308"/>
                </a:cubicBezTo>
                <a:cubicBezTo>
                  <a:pt x="4603" y="5358"/>
                  <a:pt x="4592" y="5433"/>
                  <a:pt x="4539" y="5457"/>
                </a:cubicBezTo>
                <a:cubicBezTo>
                  <a:pt x="4523" y="5464"/>
                  <a:pt x="4482" y="5457"/>
                  <a:pt x="4465" y="5457"/>
                </a:cubicBezTo>
              </a:path>
              <a:path w="1985" h="1266">
                <a:moveTo>
                  <a:pt x="4713" y="5308"/>
                </a:moveTo>
                <a:cubicBezTo>
                  <a:pt x="4754" y="5290"/>
                  <a:pt x="4796" y="5263"/>
                  <a:pt x="4837" y="5259"/>
                </a:cubicBezTo>
                <a:cubicBezTo>
                  <a:pt x="4890" y="5253"/>
                  <a:pt x="4887" y="5294"/>
                  <a:pt x="4887" y="5333"/>
                </a:cubicBezTo>
                <a:cubicBezTo>
                  <a:pt x="4887" y="5380"/>
                  <a:pt x="4836" y="5423"/>
                  <a:pt x="4787" y="5407"/>
                </a:cubicBezTo>
                <a:cubicBezTo>
                  <a:pt x="4757" y="5378"/>
                  <a:pt x="4743" y="5367"/>
                  <a:pt x="4713" y="5358"/>
                </a:cubicBezTo>
              </a:path>
              <a:path w="1985" h="1266">
                <a:moveTo>
                  <a:pt x="4713" y="5308"/>
                </a:moveTo>
                <a:cubicBezTo>
                  <a:pt x="4800" y="5259"/>
                  <a:pt x="4856" y="5197"/>
                  <a:pt x="4911" y="5259"/>
                </a:cubicBezTo>
                <a:cubicBezTo>
                  <a:pt x="4919" y="5267"/>
                  <a:pt x="4928" y="5275"/>
                  <a:pt x="4936" y="5283"/>
                </a:cubicBezTo>
              </a:path>
              <a:path w="1985" h="1266">
                <a:moveTo>
                  <a:pt x="4862" y="5135"/>
                </a:moveTo>
                <a:cubicBezTo>
                  <a:pt x="4843" y="5077"/>
                  <a:pt x="4834" y="5070"/>
                  <a:pt x="4837" y="5035"/>
                </a:cubicBezTo>
              </a:path>
              <a:path w="1985" h="1266">
                <a:moveTo>
                  <a:pt x="5011" y="5209"/>
                </a:moveTo>
                <a:cubicBezTo>
                  <a:pt x="5053" y="5288"/>
                  <a:pt x="5057" y="5305"/>
                  <a:pt x="5110" y="5358"/>
                </a:cubicBezTo>
                <a:cubicBezTo>
                  <a:pt x="5110" y="5299"/>
                  <a:pt x="5124" y="5265"/>
                  <a:pt x="5135" y="5209"/>
                </a:cubicBezTo>
                <a:cubicBezTo>
                  <a:pt x="5189" y="5209"/>
                  <a:pt x="5218" y="5222"/>
                  <a:pt x="5259" y="5259"/>
                </a:cubicBezTo>
                <a:cubicBezTo>
                  <a:pt x="5295" y="5291"/>
                  <a:pt x="5335" y="5286"/>
                  <a:pt x="5358" y="5234"/>
                </a:cubicBezTo>
                <a:cubicBezTo>
                  <a:pt x="5389" y="5165"/>
                  <a:pt x="5343" y="5048"/>
                  <a:pt x="5333" y="4986"/>
                </a:cubicBezTo>
                <a:cubicBezTo>
                  <a:pt x="5333" y="4969"/>
                  <a:pt x="5333" y="4953"/>
                  <a:pt x="5333" y="4936"/>
                </a:cubicBezTo>
                <a:cubicBezTo>
                  <a:pt x="5375" y="5030"/>
                  <a:pt x="5395" y="5117"/>
                  <a:pt x="5432" y="5209"/>
                </a:cubicBezTo>
                <a:cubicBezTo>
                  <a:pt x="5440" y="5234"/>
                  <a:pt x="5449" y="5258"/>
                  <a:pt x="5457" y="5283"/>
                </a:cubicBezTo>
              </a:path>
              <a:path w="1985" h="1266">
                <a:moveTo>
                  <a:pt x="5680" y="5234"/>
                </a:moveTo>
                <a:cubicBezTo>
                  <a:pt x="5628" y="5175"/>
                  <a:pt x="5608" y="5140"/>
                  <a:pt x="5531" y="5135"/>
                </a:cubicBezTo>
                <a:cubicBezTo>
                  <a:pt x="5480" y="5135"/>
                  <a:pt x="5462" y="5136"/>
                  <a:pt x="5432" y="5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70080" y="1677960"/>
            <a:ext cx="241200" cy="171360"/>
          </a:xfrm>
          <a:custGeom>
            <a:avLst/>
            <a:gdLst/>
            <a:ahLst/>
            <a:rect l="l" t="t" r="r" b="b"/>
            <a:pathLst>
              <a:path w="670" h="473">
                <a:moveTo>
                  <a:pt x="6052" y="4936"/>
                </a:moveTo>
                <a:cubicBezTo>
                  <a:pt x="6032" y="4908"/>
                  <a:pt x="6015" y="4876"/>
                  <a:pt x="6028" y="4837"/>
                </a:cubicBezTo>
                <a:cubicBezTo>
                  <a:pt x="6052" y="4768"/>
                  <a:pt x="6140" y="4726"/>
                  <a:pt x="6201" y="4787"/>
                </a:cubicBezTo>
                <a:cubicBezTo>
                  <a:pt x="6262" y="4849"/>
                  <a:pt x="6251" y="4957"/>
                  <a:pt x="6251" y="5035"/>
                </a:cubicBezTo>
                <a:cubicBezTo>
                  <a:pt x="6251" y="5085"/>
                  <a:pt x="6227" y="5185"/>
                  <a:pt x="6152" y="5135"/>
                </a:cubicBezTo>
                <a:cubicBezTo>
                  <a:pt x="6110" y="5107"/>
                  <a:pt x="6087" y="5077"/>
                  <a:pt x="6077" y="5035"/>
                </a:cubicBezTo>
              </a:path>
              <a:path w="670" h="473">
                <a:moveTo>
                  <a:pt x="6424" y="4713"/>
                </a:moveTo>
                <a:cubicBezTo>
                  <a:pt x="6399" y="4610"/>
                  <a:pt x="6358" y="4786"/>
                  <a:pt x="6350" y="4837"/>
                </a:cubicBezTo>
                <a:cubicBezTo>
                  <a:pt x="6332" y="4951"/>
                  <a:pt x="6348" y="5036"/>
                  <a:pt x="6474" y="5060"/>
                </a:cubicBezTo>
                <a:cubicBezTo>
                  <a:pt x="6566" y="5078"/>
                  <a:pt x="6627" y="5008"/>
                  <a:pt x="6697" y="49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84240" y="2081160"/>
            <a:ext cx="312840" cy="258840"/>
          </a:xfrm>
          <a:custGeom>
            <a:avLst/>
            <a:gdLst/>
            <a:ahLst/>
            <a:rect l="l" t="t" r="r" b="b"/>
            <a:pathLst>
              <a:path w="869" h="721">
                <a:moveTo>
                  <a:pt x="5407" y="6003"/>
                </a:moveTo>
                <a:cubicBezTo>
                  <a:pt x="5459" y="6003"/>
                  <a:pt x="5502" y="6016"/>
                  <a:pt x="5507" y="5953"/>
                </a:cubicBezTo>
                <a:cubicBezTo>
                  <a:pt x="5510" y="5913"/>
                  <a:pt x="5513" y="5805"/>
                  <a:pt x="5482" y="5779"/>
                </a:cubicBezTo>
                <a:cubicBezTo>
                  <a:pt x="5434" y="5739"/>
                  <a:pt x="5373" y="5828"/>
                  <a:pt x="5358" y="5854"/>
                </a:cubicBezTo>
                <a:cubicBezTo>
                  <a:pt x="5312" y="5932"/>
                  <a:pt x="5333" y="6039"/>
                  <a:pt x="5333" y="6127"/>
                </a:cubicBezTo>
                <a:cubicBezTo>
                  <a:pt x="5333" y="6232"/>
                  <a:pt x="5378" y="6322"/>
                  <a:pt x="5383" y="6424"/>
                </a:cubicBezTo>
                <a:cubicBezTo>
                  <a:pt x="5383" y="6469"/>
                  <a:pt x="5379" y="6482"/>
                  <a:pt x="5407" y="6499"/>
                </a:cubicBezTo>
              </a:path>
              <a:path w="869" h="721">
                <a:moveTo>
                  <a:pt x="5432" y="6325"/>
                </a:moveTo>
                <a:cubicBezTo>
                  <a:pt x="5432" y="6309"/>
                  <a:pt x="5432" y="6292"/>
                  <a:pt x="5432" y="6276"/>
                </a:cubicBezTo>
                <a:cubicBezTo>
                  <a:pt x="5371" y="6276"/>
                  <a:pt x="5340" y="6307"/>
                  <a:pt x="5283" y="6325"/>
                </a:cubicBezTo>
                <a:cubicBezTo>
                  <a:pt x="5255" y="6325"/>
                  <a:pt x="5245" y="6328"/>
                  <a:pt x="5234" y="6350"/>
                </a:cubicBezTo>
              </a:path>
              <a:path w="869" h="721">
                <a:moveTo>
                  <a:pt x="5556" y="6251"/>
                </a:moveTo>
                <a:cubicBezTo>
                  <a:pt x="5565" y="6223"/>
                  <a:pt x="5590" y="6204"/>
                  <a:pt x="5631" y="6201"/>
                </a:cubicBezTo>
                <a:cubicBezTo>
                  <a:pt x="5697" y="6196"/>
                  <a:pt x="5784" y="6231"/>
                  <a:pt x="5804" y="6300"/>
                </a:cubicBezTo>
                <a:cubicBezTo>
                  <a:pt x="5813" y="6332"/>
                  <a:pt x="5815" y="6435"/>
                  <a:pt x="5779" y="6449"/>
                </a:cubicBezTo>
                <a:cubicBezTo>
                  <a:pt x="5730" y="6449"/>
                  <a:pt x="5713" y="6449"/>
                  <a:pt x="5680" y="6449"/>
                </a:cubicBezTo>
              </a:path>
              <a:path w="869" h="721">
                <a:moveTo>
                  <a:pt x="5904" y="6176"/>
                </a:moveTo>
                <a:cubicBezTo>
                  <a:pt x="5904" y="6127"/>
                  <a:pt x="5896" y="6226"/>
                  <a:pt x="5879" y="6251"/>
                </a:cubicBezTo>
                <a:cubicBezTo>
                  <a:pt x="5852" y="6292"/>
                  <a:pt x="5828" y="6361"/>
                  <a:pt x="5879" y="6400"/>
                </a:cubicBezTo>
                <a:cubicBezTo>
                  <a:pt x="5946" y="6451"/>
                  <a:pt x="6032" y="6419"/>
                  <a:pt x="6102" y="64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50040" y="3732120"/>
            <a:ext cx="573120" cy="447840"/>
          </a:xfrm>
          <a:custGeom>
            <a:avLst/>
            <a:gdLst/>
            <a:ahLst/>
            <a:rect l="l" t="t" r="r" b="b"/>
            <a:pathLst>
              <a:path w="1589" h="1242">
                <a:moveTo>
                  <a:pt x="20216" y="10492"/>
                </a:moveTo>
                <a:cubicBezTo>
                  <a:pt x="20185" y="10482"/>
                  <a:pt x="20108" y="10468"/>
                  <a:pt x="20141" y="10468"/>
                </a:cubicBezTo>
                <a:cubicBezTo>
                  <a:pt x="20193" y="10468"/>
                  <a:pt x="20232" y="10403"/>
                  <a:pt x="20290" y="10393"/>
                </a:cubicBezTo>
                <a:cubicBezTo>
                  <a:pt x="20347" y="10383"/>
                  <a:pt x="20422" y="10384"/>
                  <a:pt x="20464" y="10418"/>
                </a:cubicBezTo>
                <a:cubicBezTo>
                  <a:pt x="20487" y="10436"/>
                  <a:pt x="20513" y="10518"/>
                  <a:pt x="20489" y="10542"/>
                </a:cubicBezTo>
                <a:cubicBezTo>
                  <a:pt x="20458" y="10572"/>
                  <a:pt x="20375" y="10609"/>
                  <a:pt x="20340" y="10616"/>
                </a:cubicBezTo>
                <a:cubicBezTo>
                  <a:pt x="20298" y="10616"/>
                  <a:pt x="20282" y="10608"/>
                  <a:pt x="20290" y="10641"/>
                </a:cubicBezTo>
                <a:cubicBezTo>
                  <a:pt x="20334" y="10674"/>
                  <a:pt x="20371" y="10656"/>
                  <a:pt x="20414" y="10691"/>
                </a:cubicBezTo>
                <a:cubicBezTo>
                  <a:pt x="20447" y="10717"/>
                  <a:pt x="20450" y="10731"/>
                  <a:pt x="20489" y="10740"/>
                </a:cubicBezTo>
                <a:cubicBezTo>
                  <a:pt x="20479" y="10781"/>
                  <a:pt x="20460" y="10810"/>
                  <a:pt x="20414" y="10815"/>
                </a:cubicBezTo>
                <a:cubicBezTo>
                  <a:pt x="20382" y="10819"/>
                  <a:pt x="20347" y="10815"/>
                  <a:pt x="20315" y="10815"/>
                </a:cubicBezTo>
              </a:path>
              <a:path w="1589" h="1242">
                <a:moveTo>
                  <a:pt x="20811" y="10468"/>
                </a:moveTo>
                <a:cubicBezTo>
                  <a:pt x="20819" y="10460"/>
                  <a:pt x="20828" y="10451"/>
                  <a:pt x="20836" y="10443"/>
                </a:cubicBezTo>
                <a:cubicBezTo>
                  <a:pt x="20810" y="10469"/>
                  <a:pt x="20752" y="10520"/>
                  <a:pt x="20786" y="10567"/>
                </a:cubicBezTo>
                <a:cubicBezTo>
                  <a:pt x="20801" y="10588"/>
                  <a:pt x="20887" y="10602"/>
                  <a:pt x="20910" y="10616"/>
                </a:cubicBezTo>
                <a:cubicBezTo>
                  <a:pt x="20953" y="10642"/>
                  <a:pt x="20960" y="10671"/>
                  <a:pt x="20960" y="10716"/>
                </a:cubicBezTo>
                <a:cubicBezTo>
                  <a:pt x="20960" y="10724"/>
                  <a:pt x="20960" y="10732"/>
                  <a:pt x="20960" y="10740"/>
                </a:cubicBezTo>
                <a:cubicBezTo>
                  <a:pt x="20887" y="10740"/>
                  <a:pt x="20822" y="10728"/>
                  <a:pt x="20762" y="10716"/>
                </a:cubicBezTo>
                <a:cubicBezTo>
                  <a:pt x="20745" y="10716"/>
                  <a:pt x="20729" y="10716"/>
                  <a:pt x="20712" y="10716"/>
                </a:cubicBezTo>
              </a:path>
              <a:path w="1589" h="1242">
                <a:moveTo>
                  <a:pt x="21158" y="10418"/>
                </a:moveTo>
                <a:cubicBezTo>
                  <a:pt x="21175" y="10401"/>
                  <a:pt x="21191" y="10385"/>
                  <a:pt x="21208" y="10368"/>
                </a:cubicBezTo>
                <a:cubicBezTo>
                  <a:pt x="21117" y="10368"/>
                  <a:pt x="21026" y="10368"/>
                  <a:pt x="20935" y="10368"/>
                </a:cubicBezTo>
              </a:path>
              <a:path w="1589" h="1242">
                <a:moveTo>
                  <a:pt x="21729" y="10939"/>
                </a:moveTo>
                <a:cubicBezTo>
                  <a:pt x="21528" y="10939"/>
                  <a:pt x="21333" y="10925"/>
                  <a:pt x="21134" y="10914"/>
                </a:cubicBezTo>
                <a:cubicBezTo>
                  <a:pt x="20951" y="10904"/>
                  <a:pt x="20772" y="10889"/>
                  <a:pt x="20588" y="10889"/>
                </a:cubicBezTo>
                <a:cubicBezTo>
                  <a:pt x="20474" y="10889"/>
                  <a:pt x="20376" y="10909"/>
                  <a:pt x="20265" y="10914"/>
                </a:cubicBezTo>
                <a:cubicBezTo>
                  <a:pt x="20209" y="10917"/>
                  <a:pt x="20196" y="10931"/>
                  <a:pt x="20141" y="10939"/>
                </a:cubicBezTo>
              </a:path>
              <a:path w="1589" h="1242">
                <a:moveTo>
                  <a:pt x="20315" y="11137"/>
                </a:moveTo>
                <a:cubicBezTo>
                  <a:pt x="20290" y="11137"/>
                  <a:pt x="20266" y="11137"/>
                  <a:pt x="20241" y="11137"/>
                </a:cubicBezTo>
                <a:cubicBezTo>
                  <a:pt x="20241" y="11074"/>
                  <a:pt x="20249" y="11088"/>
                  <a:pt x="20315" y="11088"/>
                </a:cubicBezTo>
                <a:cubicBezTo>
                  <a:pt x="20354" y="11088"/>
                  <a:pt x="20441" y="11067"/>
                  <a:pt x="20464" y="11112"/>
                </a:cubicBezTo>
                <a:cubicBezTo>
                  <a:pt x="20495" y="11173"/>
                  <a:pt x="20448" y="11224"/>
                  <a:pt x="20414" y="11261"/>
                </a:cubicBezTo>
                <a:cubicBezTo>
                  <a:pt x="20381" y="11297"/>
                  <a:pt x="20309" y="11297"/>
                  <a:pt x="20290" y="11336"/>
                </a:cubicBezTo>
                <a:cubicBezTo>
                  <a:pt x="20290" y="11344"/>
                  <a:pt x="20290" y="11353"/>
                  <a:pt x="20290" y="11361"/>
                </a:cubicBezTo>
                <a:cubicBezTo>
                  <a:pt x="20334" y="11387"/>
                  <a:pt x="20407" y="11400"/>
                  <a:pt x="20464" y="11385"/>
                </a:cubicBezTo>
                <a:cubicBezTo>
                  <a:pt x="20512" y="11362"/>
                  <a:pt x="20526" y="11354"/>
                  <a:pt x="20563" y="11361"/>
                </a:cubicBezTo>
              </a:path>
              <a:path w="1589" h="1242">
                <a:moveTo>
                  <a:pt x="20836" y="11311"/>
                </a:moveTo>
                <a:cubicBezTo>
                  <a:pt x="20800" y="11284"/>
                  <a:pt x="20797" y="11294"/>
                  <a:pt x="20786" y="11261"/>
                </a:cubicBezTo>
                <a:cubicBezTo>
                  <a:pt x="20820" y="11228"/>
                  <a:pt x="20854" y="11189"/>
                  <a:pt x="20910" y="11212"/>
                </a:cubicBezTo>
                <a:cubicBezTo>
                  <a:pt x="20967" y="11236"/>
                  <a:pt x="20960" y="11314"/>
                  <a:pt x="20960" y="11361"/>
                </a:cubicBezTo>
                <a:cubicBezTo>
                  <a:pt x="20960" y="11424"/>
                  <a:pt x="20908" y="11410"/>
                  <a:pt x="20861" y="11410"/>
                </a:cubicBezTo>
                <a:cubicBezTo>
                  <a:pt x="20809" y="11410"/>
                  <a:pt x="20792" y="11409"/>
                  <a:pt x="20786" y="11361"/>
                </a:cubicBezTo>
              </a:path>
              <a:path w="1589" h="1242">
                <a:moveTo>
                  <a:pt x="21258" y="11361"/>
                </a:moveTo>
                <a:cubicBezTo>
                  <a:pt x="21258" y="11369"/>
                  <a:pt x="21258" y="11377"/>
                  <a:pt x="21258" y="11385"/>
                </a:cubicBezTo>
                <a:cubicBezTo>
                  <a:pt x="21235" y="11377"/>
                  <a:pt x="21205" y="11327"/>
                  <a:pt x="21258" y="11311"/>
                </a:cubicBezTo>
                <a:cubicBezTo>
                  <a:pt x="21334" y="11287"/>
                  <a:pt x="21388" y="11318"/>
                  <a:pt x="21431" y="11361"/>
                </a:cubicBezTo>
                <a:cubicBezTo>
                  <a:pt x="21508" y="11437"/>
                  <a:pt x="21488" y="11514"/>
                  <a:pt x="21456" y="11609"/>
                </a:cubicBezTo>
                <a:cubicBezTo>
                  <a:pt x="21385" y="11600"/>
                  <a:pt x="21299" y="11579"/>
                  <a:pt x="21258" y="11509"/>
                </a:cubicBezTo>
                <a:cubicBezTo>
                  <a:pt x="21225" y="11453"/>
                  <a:pt x="21233" y="11397"/>
                  <a:pt x="21233" y="113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4983120"/>
            <a:ext cx="903240" cy="857160"/>
          </a:xfrm>
          <a:custGeom>
            <a:avLst/>
            <a:gdLst/>
            <a:ahLst/>
            <a:rect l="l" t="t" r="r" b="b"/>
            <a:pathLst>
              <a:path w="2507" h="2382">
                <a:moveTo>
                  <a:pt x="9103" y="16222"/>
                </a:moveTo>
                <a:cubicBezTo>
                  <a:pt x="9133" y="16192"/>
                  <a:pt x="9147" y="16181"/>
                  <a:pt x="9178" y="16173"/>
                </a:cubicBezTo>
              </a:path>
              <a:path w="2507" h="2382">
                <a:moveTo>
                  <a:pt x="11609" y="14784"/>
                </a:moveTo>
                <a:cubicBezTo>
                  <a:pt x="11448" y="14784"/>
                  <a:pt x="11294" y="14777"/>
                  <a:pt x="11137" y="14759"/>
                </a:cubicBezTo>
                <a:cubicBezTo>
                  <a:pt x="11032" y="14747"/>
                  <a:pt x="10939" y="14773"/>
                  <a:pt x="10840" y="14784"/>
                </a:cubicBezTo>
                <a:cubicBezTo>
                  <a:pt x="10709" y="14799"/>
                  <a:pt x="10570" y="14793"/>
                  <a:pt x="10443" y="14808"/>
                </a:cubicBezTo>
                <a:cubicBezTo>
                  <a:pt x="10353" y="14819"/>
                  <a:pt x="10256" y="14822"/>
                  <a:pt x="10170" y="14833"/>
                </a:cubicBezTo>
                <a:cubicBezTo>
                  <a:pt x="10080" y="14844"/>
                  <a:pt x="9985" y="14848"/>
                  <a:pt x="9897" y="14858"/>
                </a:cubicBezTo>
                <a:cubicBezTo>
                  <a:pt x="9815" y="14868"/>
                  <a:pt x="9727" y="14873"/>
                  <a:pt x="9649" y="14883"/>
                </a:cubicBezTo>
                <a:cubicBezTo>
                  <a:pt x="9564" y="14894"/>
                  <a:pt x="9481" y="14899"/>
                  <a:pt x="9401" y="14932"/>
                </a:cubicBezTo>
                <a:cubicBezTo>
                  <a:pt x="9370" y="14945"/>
                  <a:pt x="9331" y="14967"/>
                  <a:pt x="9302" y="14982"/>
                </a:cubicBezTo>
              </a:path>
              <a:path w="2507" h="2382">
                <a:moveTo>
                  <a:pt x="9798" y="15131"/>
                </a:moveTo>
                <a:cubicBezTo>
                  <a:pt x="9776" y="15124"/>
                  <a:pt x="9753" y="15092"/>
                  <a:pt x="9773" y="15056"/>
                </a:cubicBezTo>
                <a:cubicBezTo>
                  <a:pt x="9798" y="15012"/>
                  <a:pt x="9874" y="14942"/>
                  <a:pt x="9922" y="14932"/>
                </a:cubicBezTo>
                <a:cubicBezTo>
                  <a:pt x="9990" y="14917"/>
                  <a:pt x="10142" y="14914"/>
                  <a:pt x="10195" y="14957"/>
                </a:cubicBezTo>
                <a:cubicBezTo>
                  <a:pt x="10241" y="14994"/>
                  <a:pt x="10224" y="15063"/>
                  <a:pt x="10195" y="15106"/>
                </a:cubicBezTo>
                <a:cubicBezTo>
                  <a:pt x="10162" y="15156"/>
                  <a:pt x="10113" y="15155"/>
                  <a:pt x="10071" y="15180"/>
                </a:cubicBezTo>
                <a:cubicBezTo>
                  <a:pt x="10048" y="15203"/>
                  <a:pt x="10040" y="15207"/>
                  <a:pt x="10046" y="15230"/>
                </a:cubicBezTo>
                <a:cubicBezTo>
                  <a:pt x="10103" y="15264"/>
                  <a:pt x="10159" y="15243"/>
                  <a:pt x="10220" y="15280"/>
                </a:cubicBezTo>
                <a:cubicBezTo>
                  <a:pt x="10251" y="15299"/>
                  <a:pt x="10265" y="15307"/>
                  <a:pt x="10294" y="15329"/>
                </a:cubicBezTo>
                <a:cubicBezTo>
                  <a:pt x="10286" y="15388"/>
                  <a:pt x="10267" y="15436"/>
                  <a:pt x="10195" y="15453"/>
                </a:cubicBezTo>
                <a:cubicBezTo>
                  <a:pt x="10136" y="15467"/>
                  <a:pt x="9938" y="15475"/>
                  <a:pt x="9922" y="15429"/>
                </a:cubicBezTo>
              </a:path>
              <a:path w="2507" h="2382">
                <a:moveTo>
                  <a:pt x="10592" y="15032"/>
                </a:moveTo>
                <a:cubicBezTo>
                  <a:pt x="10608" y="15015"/>
                  <a:pt x="10625" y="14999"/>
                  <a:pt x="10641" y="14982"/>
                </a:cubicBezTo>
                <a:cubicBezTo>
                  <a:pt x="10595" y="15029"/>
                  <a:pt x="10573" y="15040"/>
                  <a:pt x="10567" y="15106"/>
                </a:cubicBezTo>
                <a:cubicBezTo>
                  <a:pt x="10563" y="15150"/>
                  <a:pt x="10627" y="15196"/>
                  <a:pt x="10666" y="15205"/>
                </a:cubicBezTo>
                <a:cubicBezTo>
                  <a:pt x="10751" y="15225"/>
                  <a:pt x="10810" y="15200"/>
                  <a:pt x="10889" y="15255"/>
                </a:cubicBezTo>
                <a:cubicBezTo>
                  <a:pt x="10915" y="15273"/>
                  <a:pt x="10960" y="15316"/>
                  <a:pt x="10939" y="15354"/>
                </a:cubicBezTo>
                <a:cubicBezTo>
                  <a:pt x="10904" y="15417"/>
                  <a:pt x="10823" y="15404"/>
                  <a:pt x="10765" y="15404"/>
                </a:cubicBezTo>
                <a:cubicBezTo>
                  <a:pt x="10681" y="15404"/>
                  <a:pt x="10585" y="15420"/>
                  <a:pt x="10517" y="15379"/>
                </a:cubicBezTo>
              </a:path>
              <a:path w="2507" h="2382">
                <a:moveTo>
                  <a:pt x="10964" y="15032"/>
                </a:moveTo>
                <a:cubicBezTo>
                  <a:pt x="11036" y="14927"/>
                  <a:pt x="11038" y="14964"/>
                  <a:pt x="11038" y="14883"/>
                </a:cubicBezTo>
                <a:cubicBezTo>
                  <a:pt x="10949" y="14883"/>
                  <a:pt x="10878" y="14890"/>
                  <a:pt x="10790" y="14908"/>
                </a:cubicBezTo>
              </a:path>
              <a:path w="2507" h="2382">
                <a:moveTo>
                  <a:pt x="10195" y="14039"/>
                </a:moveTo>
                <a:cubicBezTo>
                  <a:pt x="10195" y="13999"/>
                  <a:pt x="10216" y="13960"/>
                  <a:pt x="10195" y="13990"/>
                </a:cubicBezTo>
                <a:cubicBezTo>
                  <a:pt x="10175" y="14018"/>
                  <a:pt x="10135" y="14101"/>
                  <a:pt x="10145" y="14139"/>
                </a:cubicBezTo>
                <a:cubicBezTo>
                  <a:pt x="10160" y="14194"/>
                  <a:pt x="10215" y="14231"/>
                  <a:pt x="10269" y="14238"/>
                </a:cubicBezTo>
                <a:cubicBezTo>
                  <a:pt x="10360" y="14251"/>
                  <a:pt x="10392" y="14231"/>
                  <a:pt x="10468" y="14288"/>
                </a:cubicBezTo>
                <a:cubicBezTo>
                  <a:pt x="10508" y="14318"/>
                  <a:pt x="10539" y="14388"/>
                  <a:pt x="10542" y="14436"/>
                </a:cubicBezTo>
                <a:cubicBezTo>
                  <a:pt x="10547" y="14505"/>
                  <a:pt x="10499" y="14525"/>
                  <a:pt x="10443" y="14536"/>
                </a:cubicBezTo>
                <a:cubicBezTo>
                  <a:pt x="10375" y="14550"/>
                  <a:pt x="10316" y="14560"/>
                  <a:pt x="10244" y="14560"/>
                </a:cubicBezTo>
                <a:cubicBezTo>
                  <a:pt x="10203" y="14560"/>
                  <a:pt x="10207" y="14570"/>
                  <a:pt x="10195" y="14536"/>
                </a:cubicBezTo>
              </a:path>
              <a:path w="2507" h="2382">
                <a:moveTo>
                  <a:pt x="10592" y="13866"/>
                </a:moveTo>
                <a:cubicBezTo>
                  <a:pt x="10600" y="13858"/>
                  <a:pt x="10608" y="13849"/>
                  <a:pt x="10616" y="13841"/>
                </a:cubicBezTo>
                <a:cubicBezTo>
                  <a:pt x="10525" y="13841"/>
                  <a:pt x="10500" y="13868"/>
                  <a:pt x="10418" y="13915"/>
                </a:cubicBezTo>
                <a:cubicBezTo>
                  <a:pt x="10356" y="13950"/>
                  <a:pt x="10315" y="13965"/>
                  <a:pt x="10244" y="139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32200" y="5384880"/>
            <a:ext cx="90720" cy="81000"/>
          </a:xfrm>
          <a:custGeom>
            <a:avLst/>
            <a:gdLst/>
            <a:ahLst/>
            <a:rect l="l" t="t" r="r" b="b"/>
            <a:pathLst>
              <a:path w="250" h="224">
                <a:moveTo>
                  <a:pt x="13320" y="15007"/>
                </a:moveTo>
                <a:cubicBezTo>
                  <a:pt x="13361" y="14987"/>
                  <a:pt x="13367" y="14978"/>
                  <a:pt x="13395" y="14982"/>
                </a:cubicBezTo>
                <a:cubicBezTo>
                  <a:pt x="13351" y="14949"/>
                  <a:pt x="13329" y="14957"/>
                  <a:pt x="13271" y="14957"/>
                </a:cubicBezTo>
                <a:cubicBezTo>
                  <a:pt x="13215" y="14957"/>
                  <a:pt x="13189" y="14950"/>
                  <a:pt x="13146" y="14982"/>
                </a:cubicBezTo>
              </a:path>
              <a:path w="250" h="224">
                <a:moveTo>
                  <a:pt x="13295" y="15106"/>
                </a:moveTo>
                <a:cubicBezTo>
                  <a:pt x="13336" y="15126"/>
                  <a:pt x="13342" y="15135"/>
                  <a:pt x="13370" y="15131"/>
                </a:cubicBezTo>
                <a:cubicBezTo>
                  <a:pt x="13357" y="15170"/>
                  <a:pt x="13323" y="15177"/>
                  <a:pt x="13271" y="15180"/>
                </a:cubicBezTo>
                <a:cubicBezTo>
                  <a:pt x="13254" y="15180"/>
                  <a:pt x="13238" y="15180"/>
                  <a:pt x="13221" y="151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05240" y="5099040"/>
            <a:ext cx="243000" cy="517680"/>
          </a:xfrm>
          <a:custGeom>
            <a:avLst/>
            <a:gdLst/>
            <a:ahLst/>
            <a:rect l="l" t="t" r="r" b="b"/>
            <a:pathLst>
              <a:path w="671" h="1440">
                <a:moveTo>
                  <a:pt x="14585" y="14238"/>
                </a:moveTo>
                <a:cubicBezTo>
                  <a:pt x="14585" y="14132"/>
                  <a:pt x="14585" y="14173"/>
                  <a:pt x="14585" y="14263"/>
                </a:cubicBezTo>
                <a:cubicBezTo>
                  <a:pt x="14585" y="14367"/>
                  <a:pt x="14586" y="14486"/>
                  <a:pt x="14610" y="14585"/>
                </a:cubicBezTo>
                <a:cubicBezTo>
                  <a:pt x="14618" y="14602"/>
                  <a:pt x="14627" y="14618"/>
                  <a:pt x="14635" y="14635"/>
                </a:cubicBezTo>
              </a:path>
              <a:path w="671" h="1440">
                <a:moveTo>
                  <a:pt x="15131" y="14833"/>
                </a:moveTo>
                <a:cubicBezTo>
                  <a:pt x="14981" y="14833"/>
                  <a:pt x="14829" y="14819"/>
                  <a:pt x="14684" y="14858"/>
                </a:cubicBezTo>
                <a:cubicBezTo>
                  <a:pt x="14605" y="14879"/>
                  <a:pt x="14543" y="14883"/>
                  <a:pt x="14461" y="14883"/>
                </a:cubicBezTo>
              </a:path>
              <a:path w="671" h="1440">
                <a:moveTo>
                  <a:pt x="14709" y="15032"/>
                </a:moveTo>
                <a:cubicBezTo>
                  <a:pt x="14669" y="15052"/>
                  <a:pt x="14653" y="15050"/>
                  <a:pt x="14660" y="15081"/>
                </a:cubicBezTo>
                <a:cubicBezTo>
                  <a:pt x="14727" y="15095"/>
                  <a:pt x="14784" y="15120"/>
                  <a:pt x="14858" y="15106"/>
                </a:cubicBezTo>
                <a:cubicBezTo>
                  <a:pt x="14920" y="15094"/>
                  <a:pt x="15032" y="15041"/>
                  <a:pt x="15081" y="15106"/>
                </a:cubicBezTo>
                <a:cubicBezTo>
                  <a:pt x="15144" y="15189"/>
                  <a:pt x="15079" y="15294"/>
                  <a:pt x="15056" y="15379"/>
                </a:cubicBezTo>
                <a:cubicBezTo>
                  <a:pt x="15034" y="15460"/>
                  <a:pt x="15032" y="15521"/>
                  <a:pt x="15032" y="156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9273" t="7790" r="0" b="16710"/>
          <a:stretch/>
        </p:blipFill>
        <p:spPr>
          <a:xfrm rot="21408600">
            <a:off x="0" y="-457200"/>
            <a:ext cx="6386400" cy="7315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248520" y="2362320"/>
            <a:ext cx="5331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60920" y="1339920"/>
            <a:ext cx="90360" cy="9360"/>
          </a:xfrm>
          <a:custGeom>
            <a:avLst/>
            <a:gdLst/>
            <a:ahLst/>
            <a:rect l="l" t="t" r="r" b="b"/>
            <a:pathLst>
              <a:path w="249" h="26">
                <a:moveTo>
                  <a:pt x="13196" y="3746"/>
                </a:moveTo>
                <a:cubicBezTo>
                  <a:pt x="13150" y="3746"/>
                  <a:pt x="13137" y="3724"/>
                  <a:pt x="13097" y="3721"/>
                </a:cubicBezTo>
                <a:cubicBezTo>
                  <a:pt x="13048" y="3718"/>
                  <a:pt x="12997" y="3721"/>
                  <a:pt x="12948" y="37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80040" y="1339920"/>
            <a:ext cx="150840" cy="249120"/>
          </a:xfrm>
          <a:custGeom>
            <a:avLst/>
            <a:gdLst/>
            <a:ahLst/>
            <a:rect l="l" t="t" r="r" b="b"/>
            <a:pathLst>
              <a:path w="422" h="695">
                <a:moveTo>
                  <a:pt x="14536" y="4415"/>
                </a:moveTo>
                <a:cubicBezTo>
                  <a:pt x="14536" y="4357"/>
                  <a:pt x="14536" y="4300"/>
                  <a:pt x="14536" y="4242"/>
                </a:cubicBezTo>
              </a:path>
              <a:path w="422" h="695">
                <a:moveTo>
                  <a:pt x="14585" y="3746"/>
                </a:moveTo>
                <a:cubicBezTo>
                  <a:pt x="14585" y="3738"/>
                  <a:pt x="14585" y="3729"/>
                  <a:pt x="14585" y="3721"/>
                </a:cubicBezTo>
                <a:cubicBezTo>
                  <a:pt x="14526" y="3721"/>
                  <a:pt x="14538" y="3731"/>
                  <a:pt x="14511" y="3770"/>
                </a:cubicBezTo>
                <a:cubicBezTo>
                  <a:pt x="14486" y="3808"/>
                  <a:pt x="14461" y="3836"/>
                  <a:pt x="14436" y="3870"/>
                </a:cubicBezTo>
              </a:path>
              <a:path w="422" h="695">
                <a:moveTo>
                  <a:pt x="14560" y="3845"/>
                </a:moveTo>
                <a:cubicBezTo>
                  <a:pt x="14635" y="3877"/>
                  <a:pt x="14639" y="3893"/>
                  <a:pt x="14585" y="3845"/>
                </a:cubicBezTo>
                <a:cubicBezTo>
                  <a:pt x="14553" y="3816"/>
                  <a:pt x="14464" y="3734"/>
                  <a:pt x="14436" y="3721"/>
                </a:cubicBezTo>
                <a:cubicBezTo>
                  <a:pt x="14420" y="3721"/>
                  <a:pt x="14403" y="3721"/>
                  <a:pt x="14387" y="3721"/>
                </a:cubicBezTo>
              </a:path>
              <a:path w="422" h="695">
                <a:moveTo>
                  <a:pt x="14585" y="3944"/>
                </a:moveTo>
                <a:cubicBezTo>
                  <a:pt x="14641" y="3944"/>
                  <a:pt x="14619" y="3924"/>
                  <a:pt x="14660" y="3919"/>
                </a:cubicBezTo>
                <a:cubicBezTo>
                  <a:pt x="14716" y="3912"/>
                  <a:pt x="14740" y="3929"/>
                  <a:pt x="14784" y="3944"/>
                </a:cubicBezTo>
                <a:cubicBezTo>
                  <a:pt x="14792" y="3944"/>
                  <a:pt x="14800" y="3944"/>
                  <a:pt x="14808" y="3944"/>
                </a:cubicBezTo>
                <a:cubicBezTo>
                  <a:pt x="14795" y="3983"/>
                  <a:pt x="14770" y="3971"/>
                  <a:pt x="14734" y="3994"/>
                </a:cubicBezTo>
                <a:cubicBezTo>
                  <a:pt x="14690" y="4022"/>
                  <a:pt x="14655" y="4066"/>
                  <a:pt x="14610" y="4093"/>
                </a:cubicBezTo>
                <a:cubicBezTo>
                  <a:pt x="14591" y="4104"/>
                  <a:pt x="14494" y="4154"/>
                  <a:pt x="14486" y="4167"/>
                </a:cubicBezTo>
                <a:cubicBezTo>
                  <a:pt x="14451" y="4219"/>
                  <a:pt x="14472" y="4180"/>
                  <a:pt x="14511" y="4167"/>
                </a:cubicBezTo>
                <a:cubicBezTo>
                  <a:pt x="14550" y="4154"/>
                  <a:pt x="14598" y="4120"/>
                  <a:pt x="14635" y="4093"/>
                </a:cubicBezTo>
                <a:cubicBezTo>
                  <a:pt x="14672" y="4065"/>
                  <a:pt x="14697" y="4078"/>
                  <a:pt x="14709" y="4043"/>
                </a:cubicBezTo>
                <a:cubicBezTo>
                  <a:pt x="14662" y="4043"/>
                  <a:pt x="14599" y="4037"/>
                  <a:pt x="14560" y="4018"/>
                </a:cubicBezTo>
                <a:cubicBezTo>
                  <a:pt x="14535" y="4006"/>
                  <a:pt x="14506" y="3964"/>
                  <a:pt x="14486" y="39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98960" y="1339920"/>
            <a:ext cx="71280" cy="17280"/>
          </a:xfrm>
          <a:custGeom>
            <a:avLst/>
            <a:gdLst/>
            <a:ahLst/>
            <a:rect l="l" t="t" r="r" b="b"/>
            <a:pathLst>
              <a:path w="200" h="50">
                <a:moveTo>
                  <a:pt x="11584" y="3721"/>
                </a:moveTo>
                <a:cubicBezTo>
                  <a:pt x="11545" y="3731"/>
                  <a:pt x="11529" y="3746"/>
                  <a:pt x="11485" y="3746"/>
                </a:cubicBezTo>
                <a:cubicBezTo>
                  <a:pt x="11449" y="3746"/>
                  <a:pt x="11420" y="3763"/>
                  <a:pt x="11385" y="37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94080" y="1357200"/>
            <a:ext cx="71280" cy="9720"/>
          </a:xfrm>
          <a:custGeom>
            <a:avLst/>
            <a:gdLst/>
            <a:ahLst/>
            <a:rect l="l" t="t" r="r" b="b"/>
            <a:pathLst>
              <a:path w="199" h="26">
                <a:moveTo>
                  <a:pt x="9599" y="3795"/>
                </a:moveTo>
                <a:cubicBezTo>
                  <a:pt x="9607" y="3795"/>
                  <a:pt x="9616" y="3795"/>
                  <a:pt x="9624" y="3795"/>
                </a:cubicBezTo>
                <a:cubicBezTo>
                  <a:pt x="9555" y="3795"/>
                  <a:pt x="9515" y="3786"/>
                  <a:pt x="9451" y="3770"/>
                </a:cubicBezTo>
                <a:cubicBezTo>
                  <a:pt x="9443" y="3770"/>
                  <a:pt x="9434" y="3770"/>
                  <a:pt x="9426" y="37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97160" y="1330200"/>
            <a:ext cx="88920" cy="7164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9004" y="3795"/>
                </a:moveTo>
                <a:cubicBezTo>
                  <a:pt x="8996" y="3795"/>
                  <a:pt x="8987" y="3795"/>
                  <a:pt x="8979" y="3795"/>
                </a:cubicBezTo>
                <a:cubicBezTo>
                  <a:pt x="8987" y="3763"/>
                  <a:pt x="9018" y="3712"/>
                  <a:pt x="9054" y="3696"/>
                </a:cubicBezTo>
                <a:cubicBezTo>
                  <a:pt x="9062" y="3696"/>
                  <a:pt x="9071" y="3696"/>
                  <a:pt x="9079" y="3696"/>
                </a:cubicBezTo>
                <a:cubicBezTo>
                  <a:pt x="9044" y="3731"/>
                  <a:pt x="9034" y="3761"/>
                  <a:pt x="9004" y="3795"/>
                </a:cubicBezTo>
                <a:cubicBezTo>
                  <a:pt x="8987" y="3815"/>
                  <a:pt x="8968" y="3885"/>
                  <a:pt x="8954" y="3894"/>
                </a:cubicBezTo>
                <a:cubicBezTo>
                  <a:pt x="8946" y="3894"/>
                  <a:pt x="8938" y="3894"/>
                  <a:pt x="8930" y="3894"/>
                </a:cubicBezTo>
              </a:path>
              <a:path w="249" h="199">
                <a:moveTo>
                  <a:pt x="9103" y="3870"/>
                </a:moveTo>
                <a:cubicBezTo>
                  <a:pt x="9111" y="3870"/>
                  <a:pt x="9120" y="3870"/>
                  <a:pt x="9128" y="3870"/>
                </a:cubicBezTo>
                <a:cubicBezTo>
                  <a:pt x="9095" y="3859"/>
                  <a:pt x="9073" y="3843"/>
                  <a:pt x="9029" y="3820"/>
                </a:cubicBezTo>
                <a:cubicBezTo>
                  <a:pt x="8975" y="3791"/>
                  <a:pt x="8927" y="3759"/>
                  <a:pt x="8880" y="37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80040" y="1751040"/>
            <a:ext cx="61920" cy="231840"/>
          </a:xfrm>
          <a:custGeom>
            <a:avLst/>
            <a:gdLst/>
            <a:ahLst/>
            <a:rect l="l" t="t" r="r" b="b"/>
            <a:pathLst>
              <a:path w="174" h="646">
                <a:moveTo>
                  <a:pt x="14560" y="5507"/>
                </a:moveTo>
                <a:cubicBezTo>
                  <a:pt x="14552" y="5507"/>
                  <a:pt x="14544" y="5507"/>
                  <a:pt x="14536" y="5507"/>
                </a:cubicBezTo>
                <a:cubicBezTo>
                  <a:pt x="14528" y="5483"/>
                  <a:pt x="14527" y="5460"/>
                  <a:pt x="14511" y="5432"/>
                </a:cubicBezTo>
                <a:cubicBezTo>
                  <a:pt x="14503" y="5424"/>
                  <a:pt x="14494" y="5415"/>
                  <a:pt x="14486" y="5407"/>
                </a:cubicBezTo>
              </a:path>
              <a:path w="174" h="646">
                <a:moveTo>
                  <a:pt x="14436" y="5184"/>
                </a:moveTo>
                <a:cubicBezTo>
                  <a:pt x="14436" y="5143"/>
                  <a:pt x="14436" y="5101"/>
                  <a:pt x="14436" y="5060"/>
                </a:cubicBezTo>
              </a:path>
              <a:path w="174" h="646">
                <a:moveTo>
                  <a:pt x="14412" y="4911"/>
                </a:moveTo>
                <a:cubicBezTo>
                  <a:pt x="14412" y="4883"/>
                  <a:pt x="14409" y="4873"/>
                  <a:pt x="14387" y="48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73800" y="2017800"/>
            <a:ext cx="196920" cy="144360"/>
          </a:xfrm>
          <a:custGeom>
            <a:avLst/>
            <a:gdLst/>
            <a:ahLst/>
            <a:rect l="l" t="t" r="r" b="b"/>
            <a:pathLst>
              <a:path w="547" h="398">
                <a:moveTo>
                  <a:pt x="15751" y="5606"/>
                </a:moveTo>
                <a:cubicBezTo>
                  <a:pt x="15700" y="5606"/>
                  <a:pt x="15694" y="5608"/>
                  <a:pt x="15652" y="5631"/>
                </a:cubicBezTo>
                <a:cubicBezTo>
                  <a:pt x="15578" y="5673"/>
                  <a:pt x="15516" y="5696"/>
                  <a:pt x="15453" y="5755"/>
                </a:cubicBezTo>
                <a:cubicBezTo>
                  <a:pt x="15396" y="5809"/>
                  <a:pt x="15355" y="5847"/>
                  <a:pt x="15304" y="5904"/>
                </a:cubicBezTo>
                <a:cubicBezTo>
                  <a:pt x="15281" y="5930"/>
                  <a:pt x="15255" y="5953"/>
                  <a:pt x="15230" y="5978"/>
                </a:cubicBezTo>
              </a:path>
              <a:path w="547" h="398">
                <a:moveTo>
                  <a:pt x="15503" y="5978"/>
                </a:moveTo>
                <a:cubicBezTo>
                  <a:pt x="15576" y="5995"/>
                  <a:pt x="15610" y="6003"/>
                  <a:pt x="15677" y="6003"/>
                </a:cubicBezTo>
                <a:cubicBezTo>
                  <a:pt x="15601" y="5952"/>
                  <a:pt x="15512" y="5901"/>
                  <a:pt x="15429" y="5854"/>
                </a:cubicBezTo>
                <a:cubicBezTo>
                  <a:pt x="15355" y="5812"/>
                  <a:pt x="15280" y="5771"/>
                  <a:pt x="15205" y="5730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51040" y="4830840"/>
            <a:ext cx="98280" cy="162000"/>
          </a:xfrm>
          <a:custGeom>
            <a:avLst/>
            <a:gdLst/>
            <a:ahLst/>
            <a:rect l="l" t="t" r="r" b="b"/>
            <a:pathLst>
              <a:path w="274" h="448">
                <a:moveTo>
                  <a:pt x="4911" y="13667"/>
                </a:moveTo>
                <a:cubicBezTo>
                  <a:pt x="4911" y="13675"/>
                  <a:pt x="4911" y="13684"/>
                  <a:pt x="4911" y="13692"/>
                </a:cubicBezTo>
                <a:cubicBezTo>
                  <a:pt x="4875" y="13679"/>
                  <a:pt x="4887" y="13662"/>
                  <a:pt x="4887" y="13618"/>
                </a:cubicBezTo>
                <a:cubicBezTo>
                  <a:pt x="4887" y="13563"/>
                  <a:pt x="4876" y="13513"/>
                  <a:pt x="4911" y="13469"/>
                </a:cubicBezTo>
                <a:cubicBezTo>
                  <a:pt x="4952" y="13417"/>
                  <a:pt x="4976" y="13404"/>
                  <a:pt x="5035" y="13444"/>
                </a:cubicBezTo>
                <a:cubicBezTo>
                  <a:pt x="5116" y="13499"/>
                  <a:pt x="5131" y="13516"/>
                  <a:pt x="5135" y="13618"/>
                </a:cubicBezTo>
                <a:cubicBezTo>
                  <a:pt x="5137" y="13678"/>
                  <a:pt x="5158" y="13801"/>
                  <a:pt x="5110" y="13841"/>
                </a:cubicBezTo>
                <a:cubicBezTo>
                  <a:pt x="5061" y="13883"/>
                  <a:pt x="4986" y="13874"/>
                  <a:pt x="4936" y="13841"/>
                </a:cubicBezTo>
                <a:cubicBezTo>
                  <a:pt x="4883" y="13806"/>
                  <a:pt x="4865" y="13724"/>
                  <a:pt x="4862" y="13667"/>
                </a:cubicBezTo>
                <a:cubicBezTo>
                  <a:pt x="4859" y="13618"/>
                  <a:pt x="4878" y="13588"/>
                  <a:pt x="4887" y="1354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55880" y="4983120"/>
            <a:ext cx="936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5432" y="13841"/>
                </a:moveTo>
                <a:cubicBezTo>
                  <a:pt x="5440" y="13841"/>
                  <a:pt x="5449" y="13841"/>
                  <a:pt x="5457" y="1384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54160" y="4848120"/>
            <a:ext cx="241200" cy="152640"/>
          </a:xfrm>
          <a:custGeom>
            <a:avLst/>
            <a:gdLst/>
            <a:ahLst/>
            <a:rect l="l" t="t" r="r" b="b"/>
            <a:pathLst>
              <a:path w="671" h="423">
                <a:moveTo>
                  <a:pt x="5879" y="13568"/>
                </a:moveTo>
                <a:cubicBezTo>
                  <a:pt x="5901" y="13546"/>
                  <a:pt x="5906" y="13537"/>
                  <a:pt x="5928" y="13543"/>
                </a:cubicBezTo>
                <a:cubicBezTo>
                  <a:pt x="5928" y="13513"/>
                  <a:pt x="5920" y="13477"/>
                  <a:pt x="5904" y="13469"/>
                </a:cubicBezTo>
                <a:cubicBezTo>
                  <a:pt x="5881" y="13458"/>
                  <a:pt x="5813" y="13483"/>
                  <a:pt x="5804" y="13494"/>
                </a:cubicBezTo>
                <a:cubicBezTo>
                  <a:pt x="5784" y="13518"/>
                  <a:pt x="5718" y="13589"/>
                  <a:pt x="5705" y="13618"/>
                </a:cubicBezTo>
                <a:cubicBezTo>
                  <a:pt x="5705" y="13643"/>
                  <a:pt x="5705" y="13651"/>
                  <a:pt x="5705" y="13667"/>
                </a:cubicBezTo>
                <a:cubicBezTo>
                  <a:pt x="5738" y="13692"/>
                  <a:pt x="5767" y="13718"/>
                  <a:pt x="5804" y="13742"/>
                </a:cubicBezTo>
                <a:cubicBezTo>
                  <a:pt x="5853" y="13774"/>
                  <a:pt x="5881" y="13785"/>
                  <a:pt x="5904" y="13816"/>
                </a:cubicBezTo>
                <a:cubicBezTo>
                  <a:pt x="5929" y="13851"/>
                  <a:pt x="5928" y="13848"/>
                  <a:pt x="5928" y="13891"/>
                </a:cubicBezTo>
                <a:cubicBezTo>
                  <a:pt x="5868" y="13891"/>
                  <a:pt x="5829" y="13881"/>
                  <a:pt x="5779" y="13866"/>
                </a:cubicBezTo>
                <a:cubicBezTo>
                  <a:pt x="5751" y="13866"/>
                  <a:pt x="5741" y="13863"/>
                  <a:pt x="5730" y="13841"/>
                </a:cubicBezTo>
                <a:cubicBezTo>
                  <a:pt x="5743" y="13789"/>
                  <a:pt x="5789" y="13757"/>
                  <a:pt x="5829" y="13717"/>
                </a:cubicBezTo>
                <a:cubicBezTo>
                  <a:pt x="5872" y="13674"/>
                  <a:pt x="5881" y="13617"/>
                  <a:pt x="5928" y="13593"/>
                </a:cubicBezTo>
              </a:path>
              <a:path w="671" h="423">
                <a:moveTo>
                  <a:pt x="6176" y="13618"/>
                </a:moveTo>
                <a:cubicBezTo>
                  <a:pt x="6184" y="13601"/>
                  <a:pt x="6193" y="13585"/>
                  <a:pt x="6201" y="13568"/>
                </a:cubicBezTo>
                <a:cubicBezTo>
                  <a:pt x="6185" y="13573"/>
                  <a:pt x="6140" y="13591"/>
                  <a:pt x="6127" y="13618"/>
                </a:cubicBezTo>
                <a:cubicBezTo>
                  <a:pt x="6106" y="13661"/>
                  <a:pt x="6181" y="13683"/>
                  <a:pt x="6201" y="13692"/>
                </a:cubicBezTo>
                <a:cubicBezTo>
                  <a:pt x="6224" y="13702"/>
                  <a:pt x="6339" y="13729"/>
                  <a:pt x="6350" y="13742"/>
                </a:cubicBezTo>
                <a:cubicBezTo>
                  <a:pt x="6362" y="13757"/>
                  <a:pt x="6358" y="13793"/>
                  <a:pt x="6375" y="13816"/>
                </a:cubicBezTo>
                <a:cubicBezTo>
                  <a:pt x="6333" y="13848"/>
                  <a:pt x="6307" y="13841"/>
                  <a:pt x="6251" y="13841"/>
                </a:cubicBezTo>
                <a:cubicBezTo>
                  <a:pt x="6199" y="13841"/>
                  <a:pt x="6181" y="13840"/>
                  <a:pt x="6152" y="13816"/>
                </a:cubicBezTo>
              </a:path>
              <a:path w="671" h="423">
                <a:moveTo>
                  <a:pt x="6375" y="13593"/>
                </a:moveTo>
                <a:cubicBezTo>
                  <a:pt x="6375" y="13552"/>
                  <a:pt x="6375" y="13544"/>
                  <a:pt x="6375" y="13519"/>
                </a:cubicBezTo>
                <a:cubicBezTo>
                  <a:pt x="6345" y="13526"/>
                  <a:pt x="6330" y="13536"/>
                  <a:pt x="6300" y="1354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98960" y="5438880"/>
            <a:ext cx="187200" cy="133200"/>
          </a:xfrm>
          <a:custGeom>
            <a:avLst/>
            <a:gdLst/>
            <a:ahLst/>
            <a:rect l="l" t="t" r="r" b="b"/>
            <a:pathLst>
              <a:path w="522" h="373">
                <a:moveTo>
                  <a:pt x="11385" y="15156"/>
                </a:moveTo>
                <a:cubicBezTo>
                  <a:pt x="11465" y="15156"/>
                  <a:pt x="11448" y="15166"/>
                  <a:pt x="11509" y="15205"/>
                </a:cubicBezTo>
                <a:cubicBezTo>
                  <a:pt x="11584" y="15254"/>
                  <a:pt x="11583" y="15281"/>
                  <a:pt x="11633" y="15354"/>
                </a:cubicBezTo>
                <a:cubicBezTo>
                  <a:pt x="11672" y="15411"/>
                  <a:pt x="11666" y="15428"/>
                  <a:pt x="11609" y="15453"/>
                </a:cubicBezTo>
                <a:cubicBezTo>
                  <a:pt x="11546" y="15480"/>
                  <a:pt x="11503" y="15478"/>
                  <a:pt x="11435" y="15478"/>
                </a:cubicBezTo>
                <a:cubicBezTo>
                  <a:pt x="11427" y="15478"/>
                  <a:pt x="11418" y="15478"/>
                  <a:pt x="11410" y="15478"/>
                </a:cubicBezTo>
              </a:path>
              <a:path w="522" h="373">
                <a:moveTo>
                  <a:pt x="11782" y="15156"/>
                </a:moveTo>
                <a:cubicBezTo>
                  <a:pt x="11782" y="15131"/>
                  <a:pt x="11782" y="15123"/>
                  <a:pt x="11782" y="15106"/>
                </a:cubicBezTo>
                <a:cubicBezTo>
                  <a:pt x="11739" y="15117"/>
                  <a:pt x="11701" y="15161"/>
                  <a:pt x="11683" y="15205"/>
                </a:cubicBezTo>
                <a:cubicBezTo>
                  <a:pt x="11660" y="15262"/>
                  <a:pt x="11698" y="15294"/>
                  <a:pt x="11733" y="15329"/>
                </a:cubicBezTo>
                <a:cubicBezTo>
                  <a:pt x="11762" y="15359"/>
                  <a:pt x="11814" y="15368"/>
                  <a:pt x="11857" y="15354"/>
                </a:cubicBezTo>
                <a:cubicBezTo>
                  <a:pt x="11873" y="15346"/>
                  <a:pt x="11890" y="15337"/>
                  <a:pt x="11906" y="15329"/>
                </a:cubicBezTo>
              </a:path>
            </a:pathLst>
          </a:custGeom>
          <a:noFill/>
          <a:ln cap="rnd" w="349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16280" y="5438880"/>
            <a:ext cx="115920" cy="98280"/>
          </a:xfrm>
          <a:custGeom>
            <a:avLst/>
            <a:gdLst/>
            <a:ahLst/>
            <a:rect l="l" t="t" r="r" b="b"/>
            <a:pathLst>
              <a:path w="323" h="274">
                <a:moveTo>
                  <a:pt x="13022" y="15131"/>
                </a:moveTo>
                <a:cubicBezTo>
                  <a:pt x="13045" y="15108"/>
                  <a:pt x="13056" y="15100"/>
                  <a:pt x="13022" y="15106"/>
                </a:cubicBezTo>
                <a:cubicBezTo>
                  <a:pt x="12988" y="15118"/>
                  <a:pt x="12993" y="15161"/>
                  <a:pt x="12948" y="15180"/>
                </a:cubicBezTo>
                <a:cubicBezTo>
                  <a:pt x="12917" y="15193"/>
                  <a:pt x="12866" y="15216"/>
                  <a:pt x="12849" y="15255"/>
                </a:cubicBezTo>
                <a:cubicBezTo>
                  <a:pt x="12844" y="15266"/>
                  <a:pt x="12804" y="15338"/>
                  <a:pt x="12824" y="15354"/>
                </a:cubicBezTo>
                <a:cubicBezTo>
                  <a:pt x="12847" y="15372"/>
                  <a:pt x="12889" y="15379"/>
                  <a:pt x="12923" y="15379"/>
                </a:cubicBezTo>
                <a:cubicBezTo>
                  <a:pt x="12995" y="15379"/>
                  <a:pt x="13090" y="15397"/>
                  <a:pt x="13146" y="15354"/>
                </a:cubicBezTo>
              </a:path>
            </a:pathLst>
          </a:custGeom>
          <a:noFill/>
          <a:ln cap="rnd" w="349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7840" y="5411880"/>
            <a:ext cx="196920" cy="106200"/>
          </a:xfrm>
          <a:custGeom>
            <a:avLst/>
            <a:gdLst/>
            <a:ahLst/>
            <a:rect l="l" t="t" r="r" b="b"/>
            <a:pathLst>
              <a:path w="546" h="298">
                <a:moveTo>
                  <a:pt x="13494" y="15230"/>
                </a:moveTo>
                <a:cubicBezTo>
                  <a:pt x="13556" y="15230"/>
                  <a:pt x="13593" y="15222"/>
                  <a:pt x="13643" y="15205"/>
                </a:cubicBezTo>
                <a:cubicBezTo>
                  <a:pt x="13671" y="15195"/>
                  <a:pt x="13712" y="15205"/>
                  <a:pt x="13742" y="15205"/>
                </a:cubicBezTo>
              </a:path>
              <a:path w="546" h="298">
                <a:moveTo>
                  <a:pt x="14039" y="15032"/>
                </a:moveTo>
                <a:cubicBezTo>
                  <a:pt x="14026" y="15084"/>
                  <a:pt x="14015" y="15118"/>
                  <a:pt x="14015" y="15180"/>
                </a:cubicBezTo>
                <a:cubicBezTo>
                  <a:pt x="14015" y="15230"/>
                  <a:pt x="14015" y="15279"/>
                  <a:pt x="14015" y="15329"/>
                </a:cubicBezTo>
              </a:path>
            </a:pathLst>
          </a:custGeom>
          <a:noFill/>
          <a:ln cap="rnd" w="349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87960" y="5537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4412" y="15379"/>
                </a:moveTo>
                <a:lnTo>
                  <a:pt x="14412" y="15379"/>
                </a:lnTo>
                <a:lnTo>
                  <a:pt x="14412" y="15379"/>
                </a:lnTo>
                <a:lnTo>
                  <a:pt x="14412" y="15379"/>
                </a:lnTo>
                <a:lnTo>
                  <a:pt x="14412" y="15379"/>
                </a:lnTo>
                <a:lnTo>
                  <a:pt x="14412" y="15379"/>
                </a:lnTo>
                <a:lnTo>
                  <a:pt x="14412" y="15379"/>
                </a:lnTo>
              </a:path>
            </a:pathLst>
          </a:custGeom>
          <a:noFill/>
          <a:ln cap="rnd" w="349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67240" y="5411880"/>
            <a:ext cx="142920" cy="152280"/>
          </a:xfrm>
          <a:custGeom>
            <a:avLst/>
            <a:gdLst/>
            <a:ahLst/>
            <a:rect l="l" t="t" r="r" b="b"/>
            <a:pathLst>
              <a:path w="397" h="422">
                <a:moveTo>
                  <a:pt x="14908" y="15106"/>
                </a:moveTo>
                <a:cubicBezTo>
                  <a:pt x="14932" y="15106"/>
                  <a:pt x="14940" y="15106"/>
                  <a:pt x="14932" y="15081"/>
                </a:cubicBezTo>
                <a:cubicBezTo>
                  <a:pt x="14920" y="15118"/>
                  <a:pt x="14908" y="15103"/>
                  <a:pt x="14908" y="15156"/>
                </a:cubicBezTo>
                <a:cubicBezTo>
                  <a:pt x="14908" y="15211"/>
                  <a:pt x="14912" y="15211"/>
                  <a:pt x="14957" y="15230"/>
                </a:cubicBezTo>
                <a:cubicBezTo>
                  <a:pt x="15013" y="15254"/>
                  <a:pt x="15089" y="15271"/>
                  <a:pt x="15131" y="15304"/>
                </a:cubicBezTo>
                <a:cubicBezTo>
                  <a:pt x="15160" y="15327"/>
                  <a:pt x="15214" y="15375"/>
                  <a:pt x="15156" y="15404"/>
                </a:cubicBezTo>
                <a:cubicBezTo>
                  <a:pt x="15112" y="15426"/>
                  <a:pt x="15081" y="15415"/>
                  <a:pt x="15032" y="15429"/>
                </a:cubicBezTo>
                <a:cubicBezTo>
                  <a:pt x="14982" y="15443"/>
                  <a:pt x="14961" y="15453"/>
                  <a:pt x="14908" y="15453"/>
                </a:cubicBezTo>
              </a:path>
              <a:path w="397" h="422">
                <a:moveTo>
                  <a:pt x="15304" y="15056"/>
                </a:moveTo>
                <a:cubicBezTo>
                  <a:pt x="15304" y="15048"/>
                  <a:pt x="15304" y="15040"/>
                  <a:pt x="15304" y="15032"/>
                </a:cubicBezTo>
                <a:cubicBezTo>
                  <a:pt x="15247" y="15046"/>
                  <a:pt x="15193" y="15067"/>
                  <a:pt x="15131" y="15081"/>
                </a:cubicBezTo>
                <a:cubicBezTo>
                  <a:pt x="15106" y="15089"/>
                  <a:pt x="15081" y="15098"/>
                  <a:pt x="15056" y="15106"/>
                </a:cubicBezTo>
              </a:path>
            </a:pathLst>
          </a:custGeom>
          <a:noFill/>
          <a:ln cap="rnd" w="349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73160" y="5705640"/>
            <a:ext cx="376200" cy="152280"/>
          </a:xfrm>
          <a:custGeom>
            <a:avLst/>
            <a:gdLst/>
            <a:ahLst/>
            <a:rect l="l" t="t" r="r" b="b"/>
            <a:pathLst>
              <a:path w="1043" h="423">
                <a:moveTo>
                  <a:pt x="5606" y="16024"/>
                </a:moveTo>
                <a:cubicBezTo>
                  <a:pt x="5568" y="16037"/>
                  <a:pt x="5585" y="16049"/>
                  <a:pt x="5531" y="16049"/>
                </a:cubicBezTo>
                <a:cubicBezTo>
                  <a:pt x="5516" y="16001"/>
                  <a:pt x="5498" y="16033"/>
                  <a:pt x="5531" y="15974"/>
                </a:cubicBezTo>
                <a:cubicBezTo>
                  <a:pt x="5565" y="15915"/>
                  <a:pt x="5657" y="15903"/>
                  <a:pt x="5730" y="15925"/>
                </a:cubicBezTo>
                <a:cubicBezTo>
                  <a:pt x="5790" y="15943"/>
                  <a:pt x="5790" y="16102"/>
                  <a:pt x="5779" y="16148"/>
                </a:cubicBezTo>
                <a:cubicBezTo>
                  <a:pt x="5765" y="16210"/>
                  <a:pt x="5689" y="16259"/>
                  <a:pt x="5631" y="16272"/>
                </a:cubicBezTo>
                <a:cubicBezTo>
                  <a:pt x="5587" y="16282"/>
                  <a:pt x="5527" y="16272"/>
                  <a:pt x="5482" y="16272"/>
                </a:cubicBezTo>
              </a:path>
              <a:path w="1043" h="423">
                <a:moveTo>
                  <a:pt x="5804" y="15900"/>
                </a:moveTo>
                <a:cubicBezTo>
                  <a:pt x="5829" y="15883"/>
                  <a:pt x="5854" y="15867"/>
                  <a:pt x="5879" y="15850"/>
                </a:cubicBezTo>
                <a:cubicBezTo>
                  <a:pt x="5832" y="15897"/>
                  <a:pt x="5782" y="15936"/>
                  <a:pt x="5755" y="15999"/>
                </a:cubicBezTo>
                <a:cubicBezTo>
                  <a:pt x="5721" y="16077"/>
                  <a:pt x="5714" y="16172"/>
                  <a:pt x="5804" y="16222"/>
                </a:cubicBezTo>
                <a:cubicBezTo>
                  <a:pt x="5871" y="16259"/>
                  <a:pt x="5900" y="16254"/>
                  <a:pt x="5953" y="16222"/>
                </a:cubicBezTo>
              </a:path>
              <a:path w="1043" h="423">
                <a:moveTo>
                  <a:pt x="6474" y="15949"/>
                </a:moveTo>
                <a:cubicBezTo>
                  <a:pt x="6499" y="15949"/>
                  <a:pt x="6507" y="15949"/>
                  <a:pt x="6524" y="15949"/>
                </a:cubicBezTo>
                <a:cubicBezTo>
                  <a:pt x="6476" y="15949"/>
                  <a:pt x="6418" y="15959"/>
                  <a:pt x="6375" y="15974"/>
                </a:cubicBezTo>
                <a:cubicBezTo>
                  <a:pt x="6324" y="15991"/>
                  <a:pt x="6325" y="15999"/>
                  <a:pt x="6276" y="15999"/>
                </a:cubicBezTo>
              </a:path>
              <a:path w="1043" h="423">
                <a:moveTo>
                  <a:pt x="6499" y="16148"/>
                </a:moveTo>
                <a:cubicBezTo>
                  <a:pt x="6521" y="16170"/>
                  <a:pt x="6530" y="16175"/>
                  <a:pt x="6524" y="16197"/>
                </a:cubicBezTo>
                <a:cubicBezTo>
                  <a:pt x="6459" y="16197"/>
                  <a:pt x="6413" y="16217"/>
                  <a:pt x="6350" y="16222"/>
                </a:cubicBezTo>
                <a:cubicBezTo>
                  <a:pt x="6318" y="16224"/>
                  <a:pt x="6306" y="16239"/>
                  <a:pt x="6276" y="16247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2920" y="5742000"/>
            <a:ext cx="152280" cy="160200"/>
          </a:xfrm>
          <a:custGeom>
            <a:avLst/>
            <a:gdLst/>
            <a:ahLst/>
            <a:rect l="l" t="t" r="r" b="b"/>
            <a:pathLst>
              <a:path w="422" h="448">
                <a:moveTo>
                  <a:pt x="6921" y="16173"/>
                </a:moveTo>
                <a:cubicBezTo>
                  <a:pt x="6904" y="16151"/>
                  <a:pt x="6877" y="16106"/>
                  <a:pt x="6896" y="16073"/>
                </a:cubicBezTo>
                <a:cubicBezTo>
                  <a:pt x="6910" y="16049"/>
                  <a:pt x="7002" y="15955"/>
                  <a:pt x="7020" y="15949"/>
                </a:cubicBezTo>
                <a:cubicBezTo>
                  <a:pt x="7110" y="15920"/>
                  <a:pt x="7227" y="15960"/>
                  <a:pt x="7268" y="16049"/>
                </a:cubicBezTo>
                <a:cubicBezTo>
                  <a:pt x="7302" y="16122"/>
                  <a:pt x="7355" y="16307"/>
                  <a:pt x="7268" y="16371"/>
                </a:cubicBezTo>
                <a:cubicBezTo>
                  <a:pt x="7162" y="16449"/>
                  <a:pt x="7069" y="16367"/>
                  <a:pt x="6995" y="16297"/>
                </a:cubicBezTo>
                <a:cubicBezTo>
                  <a:pt x="6931" y="16236"/>
                  <a:pt x="6945" y="16206"/>
                  <a:pt x="6945" y="16123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6680" y="5884920"/>
            <a:ext cx="45720" cy="98280"/>
          </a:xfrm>
          <a:custGeom>
            <a:avLst/>
            <a:gdLst/>
            <a:ahLst/>
            <a:rect l="l" t="t" r="r" b="b"/>
            <a:pathLst>
              <a:path w="125" h="274">
                <a:moveTo>
                  <a:pt x="7838" y="16371"/>
                </a:moveTo>
                <a:cubicBezTo>
                  <a:pt x="7838" y="16363"/>
                  <a:pt x="7838" y="16354"/>
                  <a:pt x="7838" y="16346"/>
                </a:cubicBezTo>
                <a:cubicBezTo>
                  <a:pt x="7830" y="16402"/>
                  <a:pt x="7821" y="16467"/>
                  <a:pt x="7789" y="16520"/>
                </a:cubicBezTo>
                <a:cubicBezTo>
                  <a:pt x="7768" y="16554"/>
                  <a:pt x="7739" y="16587"/>
                  <a:pt x="7714" y="16619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90880" y="5796000"/>
            <a:ext cx="233280" cy="133200"/>
          </a:xfrm>
          <a:custGeom>
            <a:avLst/>
            <a:gdLst/>
            <a:ahLst/>
            <a:rect l="l" t="t" r="r" b="b"/>
            <a:pathLst>
              <a:path w="645" h="373">
                <a:moveTo>
                  <a:pt x="8310" y="16297"/>
                </a:moveTo>
                <a:cubicBezTo>
                  <a:pt x="8392" y="16297"/>
                  <a:pt x="8457" y="16309"/>
                  <a:pt x="8533" y="16321"/>
                </a:cubicBezTo>
                <a:cubicBezTo>
                  <a:pt x="8577" y="16321"/>
                  <a:pt x="8591" y="16318"/>
                  <a:pt x="8607" y="16346"/>
                </a:cubicBezTo>
              </a:path>
              <a:path w="645" h="373">
                <a:moveTo>
                  <a:pt x="8930" y="16148"/>
                </a:moveTo>
                <a:cubicBezTo>
                  <a:pt x="8964" y="16136"/>
                  <a:pt x="8954" y="16140"/>
                  <a:pt x="8954" y="16098"/>
                </a:cubicBezTo>
                <a:cubicBezTo>
                  <a:pt x="8954" y="16172"/>
                  <a:pt x="8940" y="16225"/>
                  <a:pt x="8930" y="16297"/>
                </a:cubicBezTo>
                <a:cubicBezTo>
                  <a:pt x="8921" y="16359"/>
                  <a:pt x="8925" y="16421"/>
                  <a:pt x="8954" y="16470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75000" y="5919840"/>
            <a:ext cx="1440" cy="9360"/>
          </a:xfrm>
          <a:custGeom>
            <a:avLst/>
            <a:gdLst/>
            <a:ahLst/>
            <a:rect l="l" t="t" r="r" b="b"/>
            <a:pathLst>
              <a:path w="1" h="25">
                <a:moveTo>
                  <a:pt x="9376" y="16470"/>
                </a:moveTo>
                <a:cubicBezTo>
                  <a:pt x="9376" y="16462"/>
                  <a:pt x="9376" y="16454"/>
                  <a:pt x="9376" y="16446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27280" y="5796000"/>
            <a:ext cx="723960" cy="231840"/>
          </a:xfrm>
          <a:custGeom>
            <a:avLst/>
            <a:gdLst/>
            <a:ahLst/>
            <a:rect l="l" t="t" r="r" b="b"/>
            <a:pathLst>
              <a:path w="2010" h="646">
                <a:moveTo>
                  <a:pt x="9798" y="16098"/>
                </a:moveTo>
                <a:cubicBezTo>
                  <a:pt x="9798" y="16123"/>
                  <a:pt x="9798" y="16131"/>
                  <a:pt x="9798" y="16148"/>
                </a:cubicBezTo>
                <a:cubicBezTo>
                  <a:pt x="9880" y="16148"/>
                  <a:pt x="10064" y="16109"/>
                  <a:pt x="10096" y="16197"/>
                </a:cubicBezTo>
                <a:cubicBezTo>
                  <a:pt x="10116" y="16251"/>
                  <a:pt x="10045" y="16349"/>
                  <a:pt x="10021" y="16396"/>
                </a:cubicBezTo>
                <a:cubicBezTo>
                  <a:pt x="9996" y="16446"/>
                  <a:pt x="9959" y="16496"/>
                  <a:pt x="9947" y="16545"/>
                </a:cubicBezTo>
              </a:path>
              <a:path w="2010" h="646">
                <a:moveTo>
                  <a:pt x="10368" y="16346"/>
                </a:moveTo>
                <a:cubicBezTo>
                  <a:pt x="10345" y="16291"/>
                  <a:pt x="10327" y="16269"/>
                  <a:pt x="10368" y="16222"/>
                </a:cubicBezTo>
                <a:cubicBezTo>
                  <a:pt x="10402" y="16184"/>
                  <a:pt x="10484" y="16179"/>
                  <a:pt x="10517" y="16222"/>
                </a:cubicBezTo>
                <a:cubicBezTo>
                  <a:pt x="10561" y="16279"/>
                  <a:pt x="10543" y="16337"/>
                  <a:pt x="10517" y="16396"/>
                </a:cubicBezTo>
                <a:cubicBezTo>
                  <a:pt x="10492" y="16451"/>
                  <a:pt x="10440" y="16495"/>
                  <a:pt x="10418" y="16545"/>
                </a:cubicBezTo>
                <a:cubicBezTo>
                  <a:pt x="10418" y="16553"/>
                  <a:pt x="10418" y="16562"/>
                  <a:pt x="10418" y="16570"/>
                </a:cubicBezTo>
                <a:cubicBezTo>
                  <a:pt x="10515" y="16570"/>
                  <a:pt x="10599" y="16574"/>
                  <a:pt x="10691" y="16594"/>
                </a:cubicBezTo>
                <a:cubicBezTo>
                  <a:pt x="10713" y="16599"/>
                  <a:pt x="10743" y="16594"/>
                  <a:pt x="10765" y="16594"/>
                </a:cubicBezTo>
              </a:path>
              <a:path w="2010" h="646">
                <a:moveTo>
                  <a:pt x="11013" y="16321"/>
                </a:moveTo>
                <a:cubicBezTo>
                  <a:pt x="11073" y="16282"/>
                  <a:pt x="11085" y="16279"/>
                  <a:pt x="11112" y="16247"/>
                </a:cubicBezTo>
                <a:cubicBezTo>
                  <a:pt x="11068" y="16258"/>
                  <a:pt x="11033" y="16297"/>
                  <a:pt x="10988" y="16321"/>
                </a:cubicBezTo>
                <a:cubicBezTo>
                  <a:pt x="10948" y="16342"/>
                  <a:pt x="10910" y="16395"/>
                  <a:pt x="10939" y="16446"/>
                </a:cubicBezTo>
                <a:cubicBezTo>
                  <a:pt x="10966" y="16494"/>
                  <a:pt x="11065" y="16521"/>
                  <a:pt x="11112" y="16545"/>
                </a:cubicBezTo>
                <a:cubicBezTo>
                  <a:pt x="11173" y="16576"/>
                  <a:pt x="11214" y="16620"/>
                  <a:pt x="11261" y="16669"/>
                </a:cubicBezTo>
                <a:cubicBezTo>
                  <a:pt x="11249" y="16707"/>
                  <a:pt x="11186" y="16705"/>
                  <a:pt x="11137" y="16694"/>
                </a:cubicBezTo>
                <a:cubicBezTo>
                  <a:pt x="11061" y="16677"/>
                  <a:pt x="10975" y="16635"/>
                  <a:pt x="10914" y="16594"/>
                </a:cubicBezTo>
              </a:path>
              <a:path w="2010" h="646">
                <a:moveTo>
                  <a:pt x="11311" y="16297"/>
                </a:moveTo>
                <a:cubicBezTo>
                  <a:pt x="11401" y="16261"/>
                  <a:pt x="11406" y="16244"/>
                  <a:pt x="11460" y="16247"/>
                </a:cubicBezTo>
                <a:cubicBezTo>
                  <a:pt x="11364" y="16247"/>
                  <a:pt x="11281" y="16226"/>
                  <a:pt x="11187" y="16222"/>
                </a:cubicBezTo>
                <a:cubicBezTo>
                  <a:pt x="11162" y="16222"/>
                  <a:pt x="11137" y="16222"/>
                  <a:pt x="11112" y="16222"/>
                </a:cubicBezTo>
              </a:path>
              <a:path w="2010" h="646">
                <a:moveTo>
                  <a:pt x="11733" y="16495"/>
                </a:moveTo>
                <a:cubicBezTo>
                  <a:pt x="11841" y="16592"/>
                  <a:pt x="11808" y="16595"/>
                  <a:pt x="11708" y="16694"/>
                </a:cubicBezTo>
                <a:cubicBezTo>
                  <a:pt x="11691" y="16710"/>
                  <a:pt x="11675" y="16727"/>
                  <a:pt x="11658" y="16743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5938920"/>
            <a:ext cx="134640" cy="106200"/>
          </a:xfrm>
          <a:custGeom>
            <a:avLst/>
            <a:gdLst/>
            <a:ahLst/>
            <a:rect l="l" t="t" r="r" b="b"/>
            <a:pathLst>
              <a:path w="373" h="299">
                <a:moveTo>
                  <a:pt x="12824" y="16669"/>
                </a:moveTo>
                <a:cubicBezTo>
                  <a:pt x="12841" y="16669"/>
                  <a:pt x="12857" y="16669"/>
                  <a:pt x="12874" y="16669"/>
                </a:cubicBezTo>
                <a:cubicBezTo>
                  <a:pt x="12818" y="16658"/>
                  <a:pt x="12757" y="16656"/>
                  <a:pt x="12700" y="16644"/>
                </a:cubicBezTo>
                <a:cubicBezTo>
                  <a:pt x="12626" y="16628"/>
                  <a:pt x="12578" y="16619"/>
                  <a:pt x="12502" y="16619"/>
                </a:cubicBezTo>
              </a:path>
              <a:path w="373" h="299">
                <a:moveTo>
                  <a:pt x="12576" y="16520"/>
                </a:moveTo>
                <a:cubicBezTo>
                  <a:pt x="12633" y="16501"/>
                  <a:pt x="12640" y="16492"/>
                  <a:pt x="12675" y="16495"/>
                </a:cubicBezTo>
                <a:cubicBezTo>
                  <a:pt x="12675" y="16594"/>
                  <a:pt x="12675" y="16694"/>
                  <a:pt x="12675" y="16793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59200" y="5919840"/>
            <a:ext cx="795600" cy="171360"/>
          </a:xfrm>
          <a:custGeom>
            <a:avLst/>
            <a:gdLst/>
            <a:ahLst/>
            <a:rect l="l" t="t" r="r" b="b"/>
            <a:pathLst>
              <a:path w="2209" h="472">
                <a:moveTo>
                  <a:pt x="13221" y="16545"/>
                </a:moveTo>
                <a:cubicBezTo>
                  <a:pt x="13238" y="16520"/>
                  <a:pt x="13254" y="16495"/>
                  <a:pt x="13271" y="16470"/>
                </a:cubicBezTo>
                <a:cubicBezTo>
                  <a:pt x="13271" y="16561"/>
                  <a:pt x="13234" y="16607"/>
                  <a:pt x="13221" y="16694"/>
                </a:cubicBezTo>
                <a:cubicBezTo>
                  <a:pt x="13221" y="16760"/>
                  <a:pt x="13221" y="16777"/>
                  <a:pt x="13221" y="16818"/>
                </a:cubicBezTo>
              </a:path>
              <a:path w="2209" h="472">
                <a:moveTo>
                  <a:pt x="13494" y="16842"/>
                </a:moveTo>
                <a:cubicBezTo>
                  <a:pt x="13519" y="16842"/>
                  <a:pt x="13527" y="16842"/>
                  <a:pt x="13543" y="16842"/>
                </a:cubicBezTo>
              </a:path>
              <a:path w="2209" h="472">
                <a:moveTo>
                  <a:pt x="13742" y="16545"/>
                </a:moveTo>
                <a:cubicBezTo>
                  <a:pt x="13725" y="16537"/>
                  <a:pt x="13709" y="16528"/>
                  <a:pt x="13692" y="16520"/>
                </a:cubicBezTo>
                <a:cubicBezTo>
                  <a:pt x="13763" y="16520"/>
                  <a:pt x="13821" y="16498"/>
                  <a:pt x="13891" y="16495"/>
                </a:cubicBezTo>
                <a:cubicBezTo>
                  <a:pt x="13934" y="16493"/>
                  <a:pt x="14050" y="16476"/>
                  <a:pt x="14064" y="16545"/>
                </a:cubicBezTo>
                <a:cubicBezTo>
                  <a:pt x="14083" y="16637"/>
                  <a:pt x="14046" y="16723"/>
                  <a:pt x="13990" y="16793"/>
                </a:cubicBezTo>
                <a:cubicBezTo>
                  <a:pt x="13960" y="16831"/>
                  <a:pt x="13924" y="16875"/>
                  <a:pt x="13891" y="16892"/>
                </a:cubicBezTo>
              </a:path>
              <a:path w="2209" h="472">
                <a:moveTo>
                  <a:pt x="14362" y="16619"/>
                </a:moveTo>
                <a:cubicBezTo>
                  <a:pt x="14323" y="16575"/>
                  <a:pt x="14276" y="16542"/>
                  <a:pt x="14312" y="16495"/>
                </a:cubicBezTo>
                <a:cubicBezTo>
                  <a:pt x="14350" y="16446"/>
                  <a:pt x="14428" y="16430"/>
                  <a:pt x="14486" y="16446"/>
                </a:cubicBezTo>
                <a:cubicBezTo>
                  <a:pt x="14560" y="16466"/>
                  <a:pt x="14578" y="16551"/>
                  <a:pt x="14560" y="16619"/>
                </a:cubicBezTo>
                <a:cubicBezTo>
                  <a:pt x="14540" y="16693"/>
                  <a:pt x="14487" y="16741"/>
                  <a:pt x="14436" y="16793"/>
                </a:cubicBezTo>
                <a:cubicBezTo>
                  <a:pt x="14414" y="16815"/>
                  <a:pt x="14406" y="16820"/>
                  <a:pt x="14412" y="16842"/>
                </a:cubicBezTo>
                <a:cubicBezTo>
                  <a:pt x="14474" y="16842"/>
                  <a:pt x="14502" y="16821"/>
                  <a:pt x="14560" y="16818"/>
                </a:cubicBezTo>
                <a:cubicBezTo>
                  <a:pt x="14609" y="16815"/>
                  <a:pt x="14660" y="16818"/>
                  <a:pt x="14709" y="16818"/>
                </a:cubicBezTo>
              </a:path>
              <a:path w="2209" h="472">
                <a:moveTo>
                  <a:pt x="14982" y="16545"/>
                </a:moveTo>
                <a:cubicBezTo>
                  <a:pt x="15020" y="16488"/>
                  <a:pt x="15014" y="16463"/>
                  <a:pt x="15056" y="16470"/>
                </a:cubicBezTo>
                <a:cubicBezTo>
                  <a:pt x="15005" y="16522"/>
                  <a:pt x="14954" y="16572"/>
                  <a:pt x="14932" y="16644"/>
                </a:cubicBezTo>
                <a:cubicBezTo>
                  <a:pt x="14921" y="16678"/>
                  <a:pt x="14946" y="16733"/>
                  <a:pt x="14982" y="16743"/>
                </a:cubicBezTo>
                <a:cubicBezTo>
                  <a:pt x="15049" y="16762"/>
                  <a:pt x="15096" y="16774"/>
                  <a:pt x="15156" y="16818"/>
                </a:cubicBezTo>
                <a:cubicBezTo>
                  <a:pt x="15186" y="16840"/>
                  <a:pt x="15197" y="16896"/>
                  <a:pt x="15156" y="16917"/>
                </a:cubicBezTo>
                <a:cubicBezTo>
                  <a:pt x="15095" y="16948"/>
                  <a:pt x="14939" y="16912"/>
                  <a:pt x="14883" y="16892"/>
                </a:cubicBezTo>
                <a:cubicBezTo>
                  <a:pt x="14866" y="16884"/>
                  <a:pt x="14850" y="16875"/>
                  <a:pt x="14833" y="16867"/>
                </a:cubicBezTo>
              </a:path>
              <a:path w="2209" h="472">
                <a:moveTo>
                  <a:pt x="15379" y="16470"/>
                </a:moveTo>
                <a:cubicBezTo>
                  <a:pt x="15507" y="16408"/>
                  <a:pt x="15265" y="16468"/>
                  <a:pt x="15230" y="16470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37040" y="6269040"/>
            <a:ext cx="347760" cy="133200"/>
          </a:xfrm>
          <a:custGeom>
            <a:avLst/>
            <a:gdLst/>
            <a:ahLst/>
            <a:rect l="l" t="t" r="r" b="b"/>
            <a:pathLst>
              <a:path w="968" h="373">
                <a:moveTo>
                  <a:pt x="11534" y="17636"/>
                </a:moveTo>
                <a:cubicBezTo>
                  <a:pt x="11534" y="17628"/>
                  <a:pt x="11534" y="17619"/>
                  <a:pt x="11534" y="17611"/>
                </a:cubicBezTo>
                <a:cubicBezTo>
                  <a:pt x="11439" y="17611"/>
                  <a:pt x="11284" y="17581"/>
                  <a:pt x="11212" y="17636"/>
                </a:cubicBezTo>
              </a:path>
              <a:path w="968" h="373">
                <a:moveTo>
                  <a:pt x="11733" y="17438"/>
                </a:moveTo>
                <a:cubicBezTo>
                  <a:pt x="11690" y="17438"/>
                  <a:pt x="11738" y="17415"/>
                  <a:pt x="11757" y="17413"/>
                </a:cubicBezTo>
                <a:cubicBezTo>
                  <a:pt x="11822" y="17405"/>
                  <a:pt x="11880" y="17411"/>
                  <a:pt x="11931" y="17438"/>
                </a:cubicBezTo>
                <a:cubicBezTo>
                  <a:pt x="11984" y="17465"/>
                  <a:pt x="12007" y="17519"/>
                  <a:pt x="11981" y="17587"/>
                </a:cubicBezTo>
                <a:cubicBezTo>
                  <a:pt x="11965" y="17628"/>
                  <a:pt x="11889" y="17699"/>
                  <a:pt x="11857" y="17735"/>
                </a:cubicBezTo>
                <a:cubicBezTo>
                  <a:pt x="11829" y="17767"/>
                  <a:pt x="11765" y="17785"/>
                  <a:pt x="11807" y="17785"/>
                </a:cubicBezTo>
                <a:cubicBezTo>
                  <a:pt x="11931" y="17785"/>
                  <a:pt x="12055" y="17785"/>
                  <a:pt x="12179" y="17785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89640" y="6330960"/>
            <a:ext cx="134640" cy="9036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12973" y="17587"/>
                </a:moveTo>
                <a:cubicBezTo>
                  <a:pt x="13025" y="17587"/>
                  <a:pt x="12941" y="17605"/>
                  <a:pt x="12923" y="17611"/>
                </a:cubicBezTo>
                <a:cubicBezTo>
                  <a:pt x="12884" y="17623"/>
                  <a:pt x="12830" y="17640"/>
                  <a:pt x="12799" y="17661"/>
                </a:cubicBezTo>
                <a:cubicBezTo>
                  <a:pt x="12763" y="17685"/>
                  <a:pt x="12760" y="17680"/>
                  <a:pt x="12750" y="17711"/>
                </a:cubicBezTo>
                <a:cubicBezTo>
                  <a:pt x="12814" y="17711"/>
                  <a:pt x="12840" y="17721"/>
                  <a:pt x="12898" y="17735"/>
                </a:cubicBezTo>
                <a:cubicBezTo>
                  <a:pt x="12946" y="17747"/>
                  <a:pt x="13029" y="17765"/>
                  <a:pt x="13072" y="17785"/>
                </a:cubicBezTo>
                <a:cubicBezTo>
                  <a:pt x="13097" y="17810"/>
                  <a:pt x="13105" y="17818"/>
                  <a:pt x="13122" y="17835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64040" y="6269040"/>
            <a:ext cx="127080" cy="152280"/>
          </a:xfrm>
          <a:custGeom>
            <a:avLst/>
            <a:gdLst/>
            <a:ahLst/>
            <a:rect l="l" t="t" r="r" b="b"/>
            <a:pathLst>
              <a:path w="349" h="423">
                <a:moveTo>
                  <a:pt x="13816" y="17462"/>
                </a:moveTo>
                <a:cubicBezTo>
                  <a:pt x="13816" y="17438"/>
                  <a:pt x="13816" y="17429"/>
                  <a:pt x="13816" y="17413"/>
                </a:cubicBezTo>
                <a:cubicBezTo>
                  <a:pt x="13854" y="17426"/>
                  <a:pt x="13841" y="17442"/>
                  <a:pt x="13841" y="17487"/>
                </a:cubicBezTo>
                <a:cubicBezTo>
                  <a:pt x="13841" y="17563"/>
                  <a:pt x="13816" y="17630"/>
                  <a:pt x="13816" y="17711"/>
                </a:cubicBezTo>
                <a:cubicBezTo>
                  <a:pt x="13816" y="17759"/>
                  <a:pt x="13800" y="17790"/>
                  <a:pt x="13791" y="17835"/>
                </a:cubicBezTo>
              </a:path>
              <a:path w="349" h="423">
                <a:moveTo>
                  <a:pt x="13990" y="17562"/>
                </a:moveTo>
                <a:cubicBezTo>
                  <a:pt x="14017" y="17575"/>
                  <a:pt x="13996" y="17601"/>
                  <a:pt x="13965" y="17636"/>
                </a:cubicBezTo>
                <a:cubicBezTo>
                  <a:pt x="13935" y="17670"/>
                  <a:pt x="13896" y="17690"/>
                  <a:pt x="13891" y="17735"/>
                </a:cubicBezTo>
                <a:cubicBezTo>
                  <a:pt x="13891" y="17760"/>
                  <a:pt x="13891" y="17768"/>
                  <a:pt x="13891" y="17785"/>
                </a:cubicBezTo>
                <a:cubicBezTo>
                  <a:pt x="13975" y="17785"/>
                  <a:pt x="14071" y="17769"/>
                  <a:pt x="14139" y="17810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57880" y="6313320"/>
            <a:ext cx="108000" cy="108000"/>
          </a:xfrm>
          <a:custGeom>
            <a:avLst/>
            <a:gdLst/>
            <a:ahLst/>
            <a:rect l="l" t="t" r="r" b="b"/>
            <a:pathLst>
              <a:path w="298" h="299">
                <a:moveTo>
                  <a:pt x="14982" y="17562"/>
                </a:moveTo>
                <a:cubicBezTo>
                  <a:pt x="15017" y="17536"/>
                  <a:pt x="15013" y="17537"/>
                  <a:pt x="15056" y="17537"/>
                </a:cubicBezTo>
                <a:cubicBezTo>
                  <a:pt x="15043" y="17578"/>
                  <a:pt x="15001" y="17600"/>
                  <a:pt x="14957" y="17636"/>
                </a:cubicBezTo>
                <a:cubicBezTo>
                  <a:pt x="14931" y="17658"/>
                  <a:pt x="14907" y="17687"/>
                  <a:pt x="14883" y="17711"/>
                </a:cubicBezTo>
                <a:cubicBezTo>
                  <a:pt x="14918" y="17737"/>
                  <a:pt x="14969" y="17748"/>
                  <a:pt x="15007" y="17760"/>
                </a:cubicBezTo>
                <a:cubicBezTo>
                  <a:pt x="15045" y="17771"/>
                  <a:pt x="15075" y="17782"/>
                  <a:pt x="15106" y="17810"/>
                </a:cubicBezTo>
                <a:cubicBezTo>
                  <a:pt x="15138" y="17839"/>
                  <a:pt x="15139" y="17835"/>
                  <a:pt x="15180" y="17835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61000" y="6269040"/>
            <a:ext cx="142920" cy="142920"/>
          </a:xfrm>
          <a:custGeom>
            <a:avLst/>
            <a:gdLst/>
            <a:ahLst/>
            <a:rect l="l" t="t" r="r" b="b"/>
            <a:pathLst>
              <a:path w="398" h="398">
                <a:moveTo>
                  <a:pt x="15726" y="17487"/>
                </a:moveTo>
                <a:cubicBezTo>
                  <a:pt x="15726" y="17462"/>
                  <a:pt x="15726" y="17438"/>
                  <a:pt x="15726" y="17413"/>
                </a:cubicBezTo>
                <a:cubicBezTo>
                  <a:pt x="15793" y="17413"/>
                  <a:pt x="15873" y="17397"/>
                  <a:pt x="15925" y="17438"/>
                </a:cubicBezTo>
                <a:cubicBezTo>
                  <a:pt x="15995" y="17494"/>
                  <a:pt x="15978" y="17565"/>
                  <a:pt x="15949" y="17636"/>
                </a:cubicBezTo>
                <a:cubicBezTo>
                  <a:pt x="15931" y="17681"/>
                  <a:pt x="15900" y="17763"/>
                  <a:pt x="15850" y="17785"/>
                </a:cubicBezTo>
                <a:cubicBezTo>
                  <a:pt x="15825" y="17785"/>
                  <a:pt x="15817" y="17785"/>
                  <a:pt x="15825" y="17810"/>
                </a:cubicBezTo>
                <a:cubicBezTo>
                  <a:pt x="15924" y="17810"/>
                  <a:pt x="16024" y="17810"/>
                  <a:pt x="16123" y="17810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84320" y="2401920"/>
            <a:ext cx="366840" cy="19080"/>
          </a:xfrm>
          <a:custGeom>
            <a:avLst/>
            <a:gdLst/>
            <a:ahLst/>
            <a:rect l="l" t="t" r="r" b="b"/>
            <a:pathLst>
              <a:path w="1018" h="51">
                <a:moveTo>
                  <a:pt x="9004" y="6697"/>
                </a:moveTo>
                <a:cubicBezTo>
                  <a:pt x="9012" y="6689"/>
                  <a:pt x="9021" y="6680"/>
                  <a:pt x="9029" y="6672"/>
                </a:cubicBezTo>
                <a:cubicBezTo>
                  <a:pt x="8990" y="6682"/>
                  <a:pt x="8974" y="6697"/>
                  <a:pt x="8930" y="6697"/>
                </a:cubicBezTo>
                <a:cubicBezTo>
                  <a:pt x="8905" y="6697"/>
                  <a:pt x="8897" y="6697"/>
                  <a:pt x="8880" y="6697"/>
                </a:cubicBezTo>
              </a:path>
              <a:path w="1018" h="51">
                <a:moveTo>
                  <a:pt x="8756" y="6672"/>
                </a:moveTo>
                <a:cubicBezTo>
                  <a:pt x="8731" y="6672"/>
                  <a:pt x="8723" y="6672"/>
                  <a:pt x="8706" y="6672"/>
                </a:cubicBezTo>
                <a:cubicBezTo>
                  <a:pt x="8699" y="6695"/>
                  <a:pt x="8664" y="6711"/>
                  <a:pt x="8632" y="6722"/>
                </a:cubicBezTo>
                <a:cubicBezTo>
                  <a:pt x="8624" y="6722"/>
                  <a:pt x="8615" y="6722"/>
                  <a:pt x="8607" y="6722"/>
                </a:cubicBezTo>
              </a:path>
              <a:path w="1018" h="51">
                <a:moveTo>
                  <a:pt x="8409" y="6672"/>
                </a:moveTo>
                <a:cubicBezTo>
                  <a:pt x="8355" y="6672"/>
                  <a:pt x="8372" y="6684"/>
                  <a:pt x="8334" y="6697"/>
                </a:cubicBezTo>
              </a:path>
              <a:path w="1018" h="51">
                <a:moveTo>
                  <a:pt x="8409" y="6672"/>
                </a:moveTo>
                <a:lnTo>
                  <a:pt x="8409" y="6672"/>
                </a:lnTo>
              </a:path>
              <a:path w="1018" h="51">
                <a:moveTo>
                  <a:pt x="8161" y="6672"/>
                </a:moveTo>
                <a:cubicBezTo>
                  <a:pt x="8111" y="6672"/>
                  <a:pt x="8102" y="6683"/>
                  <a:pt x="8062" y="6697"/>
                </a:cubicBezTo>
                <a:cubicBezTo>
                  <a:pt x="8037" y="6697"/>
                  <a:pt x="8029" y="6697"/>
                  <a:pt x="8012" y="669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24120" y="2401920"/>
            <a:ext cx="34920" cy="1440"/>
          </a:xfrm>
          <a:custGeom>
            <a:avLst/>
            <a:gdLst/>
            <a:ahLst/>
            <a:rect l="l" t="t" r="r" b="b"/>
            <a:pathLst>
              <a:path w="101" h="1">
                <a:moveTo>
                  <a:pt x="7665" y="6672"/>
                </a:moveTo>
                <a:cubicBezTo>
                  <a:pt x="7632" y="6672"/>
                  <a:pt x="7598" y="6672"/>
                  <a:pt x="7565" y="6672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81200" y="2401920"/>
            <a:ext cx="17640" cy="9360"/>
          </a:xfrm>
          <a:custGeom>
            <a:avLst/>
            <a:gdLst/>
            <a:ahLst/>
            <a:rect l="l" t="t" r="r" b="b"/>
            <a:pathLst>
              <a:path w="50" h="26">
                <a:moveTo>
                  <a:pt x="7218" y="6672"/>
                </a:moveTo>
                <a:cubicBezTo>
                  <a:pt x="7177" y="6672"/>
                  <a:pt x="7205" y="6684"/>
                  <a:pt x="7169" y="669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01920" y="2411280"/>
            <a:ext cx="36360" cy="1800"/>
          </a:xfrm>
          <a:custGeom>
            <a:avLst/>
            <a:gdLst/>
            <a:ahLst/>
            <a:rect l="l" t="t" r="r" b="b"/>
            <a:pathLst>
              <a:path w="101" h="1">
                <a:moveTo>
                  <a:pt x="6772" y="6697"/>
                </a:moveTo>
                <a:cubicBezTo>
                  <a:pt x="6739" y="6697"/>
                  <a:pt x="6705" y="6697"/>
                  <a:pt x="6672" y="669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24080" y="2419200"/>
            <a:ext cx="34920" cy="9720"/>
          </a:xfrm>
          <a:custGeom>
            <a:avLst/>
            <a:gdLst/>
            <a:ahLst/>
            <a:rect l="l" t="t" r="r" b="b"/>
            <a:pathLst>
              <a:path w="101" h="26">
                <a:moveTo>
                  <a:pt x="6276" y="6722"/>
                </a:moveTo>
                <a:cubicBezTo>
                  <a:pt x="6251" y="6722"/>
                  <a:pt x="6243" y="6722"/>
                  <a:pt x="6226" y="6722"/>
                </a:cubicBezTo>
                <a:cubicBezTo>
                  <a:pt x="6214" y="6757"/>
                  <a:pt x="6219" y="6747"/>
                  <a:pt x="6176" y="674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62080" y="2411280"/>
            <a:ext cx="27000" cy="9720"/>
          </a:xfrm>
          <a:custGeom>
            <a:avLst/>
            <a:gdLst/>
            <a:ahLst/>
            <a:rect l="l" t="t" r="r" b="b"/>
            <a:pathLst>
              <a:path w="75" h="26">
                <a:moveTo>
                  <a:pt x="5804" y="6697"/>
                </a:moveTo>
                <a:cubicBezTo>
                  <a:pt x="5759" y="6697"/>
                  <a:pt x="5743" y="6684"/>
                  <a:pt x="5730" y="6722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9960" y="2428920"/>
            <a:ext cx="125280" cy="9360"/>
          </a:xfrm>
          <a:custGeom>
            <a:avLst/>
            <a:gdLst/>
            <a:ahLst/>
            <a:rect l="l" t="t" r="r" b="b"/>
            <a:pathLst>
              <a:path w="348" h="26">
                <a:moveTo>
                  <a:pt x="5457" y="6772"/>
                </a:moveTo>
                <a:cubicBezTo>
                  <a:pt x="5424" y="6772"/>
                  <a:pt x="5391" y="6772"/>
                  <a:pt x="5358" y="6772"/>
                </a:cubicBezTo>
              </a:path>
              <a:path w="348" h="26">
                <a:moveTo>
                  <a:pt x="5159" y="6747"/>
                </a:moveTo>
                <a:cubicBezTo>
                  <a:pt x="5113" y="6763"/>
                  <a:pt x="5158" y="6779"/>
                  <a:pt x="5110" y="674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16160" y="2009880"/>
            <a:ext cx="152640" cy="152280"/>
          </a:xfrm>
          <a:custGeom>
            <a:avLst/>
            <a:gdLst/>
            <a:ahLst/>
            <a:rect l="l" t="t" r="r" b="b"/>
            <a:pathLst>
              <a:path w="423" h="423">
                <a:moveTo>
                  <a:pt x="8830" y="5779"/>
                </a:moveTo>
                <a:cubicBezTo>
                  <a:pt x="8822" y="5771"/>
                  <a:pt x="8814" y="5763"/>
                  <a:pt x="8806" y="5755"/>
                </a:cubicBezTo>
                <a:cubicBezTo>
                  <a:pt x="8856" y="5755"/>
                  <a:pt x="8888" y="5772"/>
                  <a:pt x="8930" y="5804"/>
                </a:cubicBezTo>
                <a:cubicBezTo>
                  <a:pt x="8981" y="5843"/>
                  <a:pt x="9028" y="5888"/>
                  <a:pt x="9079" y="5928"/>
                </a:cubicBezTo>
                <a:cubicBezTo>
                  <a:pt x="9054" y="5904"/>
                  <a:pt x="9045" y="5896"/>
                  <a:pt x="9029" y="5879"/>
                </a:cubicBezTo>
              </a:path>
              <a:path w="423" h="423">
                <a:moveTo>
                  <a:pt x="9004" y="5655"/>
                </a:moveTo>
                <a:cubicBezTo>
                  <a:pt x="9004" y="5630"/>
                  <a:pt x="9004" y="5606"/>
                  <a:pt x="9004" y="5581"/>
                </a:cubicBezTo>
                <a:cubicBezTo>
                  <a:pt x="8948" y="5637"/>
                  <a:pt x="8901" y="5689"/>
                  <a:pt x="8855" y="5755"/>
                </a:cubicBezTo>
                <a:cubicBezTo>
                  <a:pt x="8801" y="5833"/>
                  <a:pt x="8738" y="5904"/>
                  <a:pt x="8682" y="5978"/>
                </a:cubicBezTo>
                <a:cubicBezTo>
                  <a:pt x="8674" y="5986"/>
                  <a:pt x="8665" y="5995"/>
                  <a:pt x="8657" y="6003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43720" y="704880"/>
            <a:ext cx="295200" cy="171360"/>
          </a:xfrm>
          <a:custGeom>
            <a:avLst/>
            <a:gdLst/>
            <a:ahLst/>
            <a:rect l="l" t="t" r="r" b="b"/>
            <a:pathLst>
              <a:path w="819" h="472">
                <a:moveTo>
                  <a:pt x="15677" y="2108"/>
                </a:moveTo>
                <a:cubicBezTo>
                  <a:pt x="15731" y="2085"/>
                  <a:pt x="15755" y="2067"/>
                  <a:pt x="15801" y="2108"/>
                </a:cubicBezTo>
                <a:cubicBezTo>
                  <a:pt x="15819" y="2125"/>
                  <a:pt x="15864" y="2184"/>
                  <a:pt x="15875" y="2208"/>
                </a:cubicBezTo>
                <a:cubicBezTo>
                  <a:pt x="15881" y="2222"/>
                  <a:pt x="15898" y="2297"/>
                  <a:pt x="15900" y="2307"/>
                </a:cubicBezTo>
                <a:cubicBezTo>
                  <a:pt x="15912" y="2363"/>
                  <a:pt x="15886" y="2386"/>
                  <a:pt x="15875" y="2431"/>
                </a:cubicBezTo>
                <a:cubicBezTo>
                  <a:pt x="15875" y="2378"/>
                  <a:pt x="15895" y="2299"/>
                  <a:pt x="15925" y="2257"/>
                </a:cubicBezTo>
                <a:cubicBezTo>
                  <a:pt x="15993" y="2164"/>
                  <a:pt x="16119" y="2037"/>
                  <a:pt x="16222" y="1984"/>
                </a:cubicBezTo>
                <a:cubicBezTo>
                  <a:pt x="16322" y="1933"/>
                  <a:pt x="16415" y="1961"/>
                  <a:pt x="16470" y="2059"/>
                </a:cubicBezTo>
                <a:cubicBezTo>
                  <a:pt x="16509" y="2128"/>
                  <a:pt x="16509" y="2248"/>
                  <a:pt x="16446" y="2307"/>
                </a:cubicBezTo>
                <a:cubicBezTo>
                  <a:pt x="16407" y="2344"/>
                  <a:pt x="16368" y="2349"/>
                  <a:pt x="16321" y="2356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18160" y="608040"/>
            <a:ext cx="9720" cy="258840"/>
          </a:xfrm>
          <a:custGeom>
            <a:avLst/>
            <a:gdLst/>
            <a:ahLst/>
            <a:rect l="l" t="t" r="r" b="b"/>
            <a:pathLst>
              <a:path w="26" h="720">
                <a:moveTo>
                  <a:pt x="18107" y="1687"/>
                </a:moveTo>
                <a:cubicBezTo>
                  <a:pt x="18137" y="1805"/>
                  <a:pt x="18146" y="1936"/>
                  <a:pt x="18132" y="2059"/>
                </a:cubicBezTo>
                <a:cubicBezTo>
                  <a:pt x="18118" y="2178"/>
                  <a:pt x="18107" y="2286"/>
                  <a:pt x="18107" y="2406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15080" y="750960"/>
            <a:ext cx="88920" cy="17280"/>
          </a:xfrm>
          <a:custGeom>
            <a:avLst/>
            <a:gdLst/>
            <a:ahLst/>
            <a:rect l="l" t="t" r="r" b="b"/>
            <a:pathLst>
              <a:path w="249" h="50">
                <a:moveTo>
                  <a:pt x="18653" y="2084"/>
                </a:moveTo>
                <a:cubicBezTo>
                  <a:pt x="18706" y="2136"/>
                  <a:pt x="18726" y="2133"/>
                  <a:pt x="18802" y="2133"/>
                </a:cubicBezTo>
                <a:cubicBezTo>
                  <a:pt x="18852" y="2133"/>
                  <a:pt x="18868" y="2133"/>
                  <a:pt x="18901" y="2133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83280" y="571680"/>
            <a:ext cx="509760" cy="258480"/>
          </a:xfrm>
          <a:custGeom>
            <a:avLst/>
            <a:gdLst/>
            <a:ahLst/>
            <a:rect l="l" t="t" r="r" b="b"/>
            <a:pathLst>
              <a:path w="1415" h="720">
                <a:moveTo>
                  <a:pt x="19596" y="1910"/>
                </a:moveTo>
                <a:cubicBezTo>
                  <a:pt x="19664" y="1910"/>
                  <a:pt x="19742" y="1927"/>
                  <a:pt x="19794" y="1885"/>
                </a:cubicBezTo>
                <a:cubicBezTo>
                  <a:pt x="19847" y="1842"/>
                  <a:pt x="19761" y="1743"/>
                  <a:pt x="19720" y="1712"/>
                </a:cubicBezTo>
                <a:cubicBezTo>
                  <a:pt x="19619" y="1635"/>
                  <a:pt x="19520" y="1720"/>
                  <a:pt x="19472" y="1811"/>
                </a:cubicBezTo>
                <a:cubicBezTo>
                  <a:pt x="19401" y="1946"/>
                  <a:pt x="19422" y="2084"/>
                  <a:pt x="19422" y="2232"/>
                </a:cubicBezTo>
                <a:cubicBezTo>
                  <a:pt x="19422" y="2277"/>
                  <a:pt x="19419" y="2290"/>
                  <a:pt x="19447" y="2307"/>
                </a:cubicBezTo>
              </a:path>
              <a:path w="1415" h="720">
                <a:moveTo>
                  <a:pt x="19596" y="2208"/>
                </a:moveTo>
                <a:cubicBezTo>
                  <a:pt x="19615" y="2150"/>
                  <a:pt x="19624" y="2143"/>
                  <a:pt x="19621" y="2108"/>
                </a:cubicBezTo>
                <a:cubicBezTo>
                  <a:pt x="19553" y="2108"/>
                  <a:pt x="19509" y="2105"/>
                  <a:pt x="19447" y="2133"/>
                </a:cubicBezTo>
                <a:cubicBezTo>
                  <a:pt x="19430" y="2141"/>
                  <a:pt x="19414" y="2150"/>
                  <a:pt x="19397" y="2158"/>
                </a:cubicBezTo>
              </a:path>
              <a:path w="1415" h="720">
                <a:moveTo>
                  <a:pt x="20092" y="1712"/>
                </a:moveTo>
                <a:cubicBezTo>
                  <a:pt x="20092" y="1695"/>
                  <a:pt x="20092" y="1679"/>
                  <a:pt x="20092" y="1662"/>
                </a:cubicBezTo>
                <a:cubicBezTo>
                  <a:pt x="20042" y="1721"/>
                  <a:pt x="19960" y="1834"/>
                  <a:pt x="19943" y="1910"/>
                </a:cubicBezTo>
                <a:cubicBezTo>
                  <a:pt x="19925" y="1992"/>
                  <a:pt x="19927" y="2166"/>
                  <a:pt x="19993" y="2232"/>
                </a:cubicBezTo>
                <a:cubicBezTo>
                  <a:pt x="20009" y="2240"/>
                  <a:pt x="20026" y="2249"/>
                  <a:pt x="20042" y="2257"/>
                </a:cubicBezTo>
              </a:path>
              <a:path w="1415" h="720">
                <a:moveTo>
                  <a:pt x="20092" y="2059"/>
                </a:moveTo>
                <a:cubicBezTo>
                  <a:pt x="20134" y="1985"/>
                  <a:pt x="20141" y="1969"/>
                  <a:pt x="20216" y="2009"/>
                </a:cubicBezTo>
                <a:cubicBezTo>
                  <a:pt x="20272" y="2039"/>
                  <a:pt x="20314" y="2087"/>
                  <a:pt x="20290" y="2158"/>
                </a:cubicBezTo>
                <a:cubicBezTo>
                  <a:pt x="20265" y="2234"/>
                  <a:pt x="20208" y="2208"/>
                  <a:pt x="20141" y="2208"/>
                </a:cubicBezTo>
                <a:cubicBezTo>
                  <a:pt x="20097" y="2208"/>
                  <a:pt x="20083" y="2211"/>
                  <a:pt x="20067" y="2183"/>
                </a:cubicBezTo>
              </a:path>
              <a:path w="1415" h="720">
                <a:moveTo>
                  <a:pt x="20265" y="2059"/>
                </a:moveTo>
                <a:cubicBezTo>
                  <a:pt x="20338" y="2004"/>
                  <a:pt x="20338" y="1979"/>
                  <a:pt x="20389" y="1984"/>
                </a:cubicBezTo>
                <a:cubicBezTo>
                  <a:pt x="20367" y="2046"/>
                  <a:pt x="20342" y="2141"/>
                  <a:pt x="20365" y="2208"/>
                </a:cubicBezTo>
                <a:cubicBezTo>
                  <a:pt x="20394" y="2291"/>
                  <a:pt x="20473" y="2240"/>
                  <a:pt x="20513" y="2208"/>
                </a:cubicBezTo>
              </a:path>
              <a:path w="1415" h="720">
                <a:moveTo>
                  <a:pt x="20513" y="1612"/>
                </a:moveTo>
                <a:cubicBezTo>
                  <a:pt x="20647" y="1590"/>
                  <a:pt x="20733" y="1613"/>
                  <a:pt x="20786" y="1761"/>
                </a:cubicBezTo>
                <a:cubicBezTo>
                  <a:pt x="20847" y="1931"/>
                  <a:pt x="20822" y="2089"/>
                  <a:pt x="20737" y="2232"/>
                </a:cubicBezTo>
                <a:cubicBezTo>
                  <a:pt x="20720" y="2257"/>
                  <a:pt x="20704" y="2282"/>
                  <a:pt x="20687" y="2307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769160" y="714240"/>
            <a:ext cx="108000" cy="44640"/>
          </a:xfrm>
          <a:custGeom>
            <a:avLst/>
            <a:gdLst/>
            <a:ahLst/>
            <a:rect l="l" t="t" r="r" b="b"/>
            <a:pathLst>
              <a:path w="299" h="125">
                <a:moveTo>
                  <a:pt x="21853" y="1984"/>
                </a:moveTo>
                <a:cubicBezTo>
                  <a:pt x="21934" y="1984"/>
                  <a:pt x="21757" y="1984"/>
                  <a:pt x="21754" y="1984"/>
                </a:cubicBezTo>
                <a:cubicBezTo>
                  <a:pt x="21691" y="1984"/>
                  <a:pt x="21645" y="2009"/>
                  <a:pt x="21580" y="2009"/>
                </a:cubicBezTo>
              </a:path>
              <a:path w="299" h="125">
                <a:moveTo>
                  <a:pt x="21803" y="2059"/>
                </a:moveTo>
                <a:cubicBezTo>
                  <a:pt x="21825" y="2081"/>
                  <a:pt x="21834" y="2086"/>
                  <a:pt x="21828" y="2108"/>
                </a:cubicBezTo>
                <a:cubicBezTo>
                  <a:pt x="21754" y="2108"/>
                  <a:pt x="21679" y="2108"/>
                  <a:pt x="21605" y="2108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01000" y="625320"/>
            <a:ext cx="169920" cy="14292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22374" y="1860"/>
                </a:moveTo>
                <a:cubicBezTo>
                  <a:pt x="22321" y="1860"/>
                  <a:pt x="22336" y="1848"/>
                  <a:pt x="22299" y="1836"/>
                </a:cubicBezTo>
                <a:cubicBezTo>
                  <a:pt x="22314" y="1776"/>
                  <a:pt x="22334" y="1742"/>
                  <a:pt x="22399" y="1736"/>
                </a:cubicBezTo>
                <a:cubicBezTo>
                  <a:pt x="22521" y="1725"/>
                  <a:pt x="22622" y="1768"/>
                  <a:pt x="22671" y="1885"/>
                </a:cubicBezTo>
                <a:cubicBezTo>
                  <a:pt x="22720" y="2001"/>
                  <a:pt x="22678" y="2112"/>
                  <a:pt x="22547" y="2133"/>
                </a:cubicBezTo>
                <a:cubicBezTo>
                  <a:pt x="22444" y="2150"/>
                  <a:pt x="22320" y="2144"/>
                  <a:pt x="22250" y="2059"/>
                </a:cubicBezTo>
                <a:cubicBezTo>
                  <a:pt x="22242" y="2042"/>
                  <a:pt x="22233" y="2026"/>
                  <a:pt x="22225" y="2009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67360" y="1081080"/>
            <a:ext cx="98640" cy="268200"/>
          </a:xfrm>
          <a:custGeom>
            <a:avLst/>
            <a:gdLst/>
            <a:ahLst/>
            <a:rect l="l" t="t" r="r" b="b"/>
            <a:pathLst>
              <a:path w="274" h="746">
                <a:moveTo>
                  <a:pt x="19224" y="3299"/>
                </a:moveTo>
                <a:cubicBezTo>
                  <a:pt x="19234" y="3340"/>
                  <a:pt x="19233" y="3339"/>
                  <a:pt x="19273" y="3349"/>
                </a:cubicBezTo>
                <a:cubicBezTo>
                  <a:pt x="19333" y="3334"/>
                  <a:pt x="19339" y="3264"/>
                  <a:pt x="19348" y="3200"/>
                </a:cubicBezTo>
                <a:cubicBezTo>
                  <a:pt x="19360" y="3114"/>
                  <a:pt x="19325" y="3045"/>
                  <a:pt x="19273" y="3001"/>
                </a:cubicBezTo>
                <a:cubicBezTo>
                  <a:pt x="19193" y="3066"/>
                  <a:pt x="19174" y="3119"/>
                  <a:pt x="19149" y="3225"/>
                </a:cubicBezTo>
                <a:cubicBezTo>
                  <a:pt x="19112" y="3378"/>
                  <a:pt x="19131" y="3495"/>
                  <a:pt x="19149" y="3646"/>
                </a:cubicBezTo>
                <a:cubicBezTo>
                  <a:pt x="19149" y="3698"/>
                  <a:pt x="19150" y="3716"/>
                  <a:pt x="19174" y="3746"/>
                </a:cubicBezTo>
              </a:path>
              <a:path w="274" h="746">
                <a:moveTo>
                  <a:pt x="19224" y="3522"/>
                </a:moveTo>
                <a:cubicBezTo>
                  <a:pt x="19224" y="3514"/>
                  <a:pt x="19224" y="3505"/>
                  <a:pt x="19224" y="3497"/>
                </a:cubicBezTo>
                <a:cubicBezTo>
                  <a:pt x="19175" y="3546"/>
                  <a:pt x="19135" y="3587"/>
                  <a:pt x="19075" y="3621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81920" y="1081080"/>
            <a:ext cx="357120" cy="276120"/>
          </a:xfrm>
          <a:custGeom>
            <a:avLst/>
            <a:gdLst/>
            <a:ahLst/>
            <a:rect l="l" t="t" r="r" b="b"/>
            <a:pathLst>
              <a:path w="993" h="770">
                <a:moveTo>
                  <a:pt x="19794" y="3076"/>
                </a:moveTo>
                <a:cubicBezTo>
                  <a:pt x="19836" y="2979"/>
                  <a:pt x="19832" y="3009"/>
                  <a:pt x="19769" y="3076"/>
                </a:cubicBezTo>
                <a:cubicBezTo>
                  <a:pt x="19682" y="3169"/>
                  <a:pt x="19673" y="3273"/>
                  <a:pt x="19670" y="3398"/>
                </a:cubicBezTo>
                <a:cubicBezTo>
                  <a:pt x="19667" y="3500"/>
                  <a:pt x="19682" y="3568"/>
                  <a:pt x="19745" y="3646"/>
                </a:cubicBezTo>
              </a:path>
              <a:path w="993" h="770">
                <a:moveTo>
                  <a:pt x="19819" y="3473"/>
                </a:moveTo>
                <a:cubicBezTo>
                  <a:pt x="19853" y="3423"/>
                  <a:pt x="19874" y="3403"/>
                  <a:pt x="19943" y="3398"/>
                </a:cubicBezTo>
                <a:cubicBezTo>
                  <a:pt x="20009" y="3394"/>
                  <a:pt x="20097" y="3428"/>
                  <a:pt x="20117" y="3497"/>
                </a:cubicBezTo>
                <a:cubicBezTo>
                  <a:pt x="20131" y="3543"/>
                  <a:pt x="20120" y="3669"/>
                  <a:pt x="20067" y="3696"/>
                </a:cubicBezTo>
                <a:cubicBezTo>
                  <a:pt x="19992" y="3734"/>
                  <a:pt x="19916" y="3664"/>
                  <a:pt x="19869" y="3621"/>
                </a:cubicBezTo>
                <a:cubicBezTo>
                  <a:pt x="19844" y="3597"/>
                  <a:pt x="19835" y="3589"/>
                  <a:pt x="19819" y="3572"/>
                </a:cubicBezTo>
              </a:path>
              <a:path w="993" h="770">
                <a:moveTo>
                  <a:pt x="20042" y="3423"/>
                </a:moveTo>
                <a:cubicBezTo>
                  <a:pt x="20067" y="3398"/>
                  <a:pt x="20092" y="3374"/>
                  <a:pt x="20117" y="3349"/>
                </a:cubicBezTo>
                <a:cubicBezTo>
                  <a:pt x="20117" y="3427"/>
                  <a:pt x="20116" y="3505"/>
                  <a:pt x="20166" y="3572"/>
                </a:cubicBezTo>
                <a:cubicBezTo>
                  <a:pt x="20211" y="3632"/>
                  <a:pt x="20227" y="3637"/>
                  <a:pt x="20290" y="3646"/>
                </a:cubicBezTo>
              </a:path>
              <a:path w="993" h="770">
                <a:moveTo>
                  <a:pt x="20315" y="3051"/>
                </a:moveTo>
                <a:cubicBezTo>
                  <a:pt x="20461" y="2989"/>
                  <a:pt x="20520" y="3040"/>
                  <a:pt x="20588" y="3200"/>
                </a:cubicBezTo>
                <a:cubicBezTo>
                  <a:pt x="20647" y="3339"/>
                  <a:pt x="20709" y="3549"/>
                  <a:pt x="20638" y="3696"/>
                </a:cubicBezTo>
                <a:cubicBezTo>
                  <a:pt x="20588" y="3800"/>
                  <a:pt x="20511" y="3757"/>
                  <a:pt x="20439" y="3721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89880" y="1177920"/>
            <a:ext cx="135000" cy="54000"/>
          </a:xfrm>
          <a:custGeom>
            <a:avLst/>
            <a:gdLst/>
            <a:ahLst/>
            <a:rect l="l" t="t" r="r" b="b"/>
            <a:pathLst>
              <a:path w="373" h="150">
                <a:moveTo>
                  <a:pt x="21431" y="3274"/>
                </a:moveTo>
                <a:cubicBezTo>
                  <a:pt x="21493" y="3274"/>
                  <a:pt x="21347" y="3297"/>
                  <a:pt x="21332" y="3299"/>
                </a:cubicBezTo>
                <a:cubicBezTo>
                  <a:pt x="21285" y="3307"/>
                  <a:pt x="21231" y="3299"/>
                  <a:pt x="21183" y="3299"/>
                </a:cubicBezTo>
              </a:path>
              <a:path w="373" h="150">
                <a:moveTo>
                  <a:pt x="21406" y="3398"/>
                </a:moveTo>
                <a:cubicBezTo>
                  <a:pt x="21423" y="3406"/>
                  <a:pt x="21439" y="3415"/>
                  <a:pt x="21456" y="3423"/>
                </a:cubicBezTo>
                <a:cubicBezTo>
                  <a:pt x="21396" y="3397"/>
                  <a:pt x="21320" y="3381"/>
                  <a:pt x="21258" y="3373"/>
                </a:cubicBezTo>
                <a:cubicBezTo>
                  <a:pt x="21195" y="3365"/>
                  <a:pt x="21146" y="3356"/>
                  <a:pt x="21084" y="3349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93000" y="1062000"/>
            <a:ext cx="19080" cy="223920"/>
          </a:xfrm>
          <a:custGeom>
            <a:avLst/>
            <a:gdLst/>
            <a:ahLst/>
            <a:rect l="l" t="t" r="r" b="b"/>
            <a:pathLst>
              <a:path w="51" h="621">
                <a:moveTo>
                  <a:pt x="21977" y="2952"/>
                </a:moveTo>
                <a:cubicBezTo>
                  <a:pt x="21977" y="3062"/>
                  <a:pt x="21939" y="3142"/>
                  <a:pt x="21927" y="3249"/>
                </a:cubicBezTo>
                <a:cubicBezTo>
                  <a:pt x="21915" y="3356"/>
                  <a:pt x="21919" y="3473"/>
                  <a:pt x="21952" y="3572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1446120"/>
            <a:ext cx="63360" cy="19080"/>
          </a:xfrm>
          <a:custGeom>
            <a:avLst/>
            <a:gdLst/>
            <a:ahLst/>
            <a:rect l="l" t="t" r="r" b="b"/>
            <a:pathLst>
              <a:path w="174" h="51">
                <a:moveTo>
                  <a:pt x="8954" y="4068"/>
                </a:moveTo>
                <a:cubicBezTo>
                  <a:pt x="8930" y="4068"/>
                  <a:pt x="8922" y="4068"/>
                  <a:pt x="8930" y="4043"/>
                </a:cubicBezTo>
              </a:path>
              <a:path w="174" h="51">
                <a:moveTo>
                  <a:pt x="8954" y="4068"/>
                </a:moveTo>
                <a:cubicBezTo>
                  <a:pt x="8962" y="4051"/>
                  <a:pt x="8971" y="4035"/>
                  <a:pt x="8979" y="4018"/>
                </a:cubicBezTo>
                <a:cubicBezTo>
                  <a:pt x="9017" y="4047"/>
                  <a:pt x="9030" y="4043"/>
                  <a:pt x="9079" y="4043"/>
                </a:cubicBezTo>
                <a:cubicBezTo>
                  <a:pt x="9079" y="4018"/>
                  <a:pt x="9079" y="4010"/>
                  <a:pt x="9103" y="4018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16200" y="1411200"/>
            <a:ext cx="98640" cy="810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10294" y="3919"/>
                </a:moveTo>
                <a:cubicBezTo>
                  <a:pt x="10268" y="3953"/>
                  <a:pt x="10260" y="3981"/>
                  <a:pt x="10244" y="4018"/>
                </a:cubicBezTo>
                <a:cubicBezTo>
                  <a:pt x="10226" y="4061"/>
                  <a:pt x="10229" y="4174"/>
                  <a:pt x="10195" y="4142"/>
                </a:cubicBezTo>
                <a:cubicBezTo>
                  <a:pt x="10175" y="4123"/>
                  <a:pt x="10243" y="4095"/>
                  <a:pt x="10244" y="4093"/>
                </a:cubicBezTo>
                <a:cubicBezTo>
                  <a:pt x="10257" y="4067"/>
                  <a:pt x="10260" y="4047"/>
                  <a:pt x="10294" y="4043"/>
                </a:cubicBezTo>
                <a:cubicBezTo>
                  <a:pt x="10302" y="4043"/>
                  <a:pt x="10311" y="4043"/>
                  <a:pt x="10319" y="4043"/>
                </a:cubicBezTo>
                <a:cubicBezTo>
                  <a:pt x="10287" y="3980"/>
                  <a:pt x="10250" y="3997"/>
                  <a:pt x="10195" y="3969"/>
                </a:cubicBezTo>
                <a:cubicBezTo>
                  <a:pt x="10151" y="3947"/>
                  <a:pt x="10124" y="3944"/>
                  <a:pt x="10071" y="3944"/>
                </a:cubicBezTo>
                <a:cubicBezTo>
                  <a:pt x="10063" y="3944"/>
                  <a:pt x="10054" y="3944"/>
                  <a:pt x="10046" y="3944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0040" y="2044800"/>
            <a:ext cx="106200" cy="117360"/>
          </a:xfrm>
          <a:custGeom>
            <a:avLst/>
            <a:gdLst/>
            <a:ahLst/>
            <a:rect l="l" t="t" r="r" b="b"/>
            <a:pathLst>
              <a:path w="298" h="324">
                <a:moveTo>
                  <a:pt x="14684" y="5680"/>
                </a:moveTo>
                <a:cubicBezTo>
                  <a:pt x="14641" y="5691"/>
                  <a:pt x="14619" y="5721"/>
                  <a:pt x="14585" y="5755"/>
                </a:cubicBezTo>
                <a:cubicBezTo>
                  <a:pt x="14528" y="5812"/>
                  <a:pt x="14483" y="5866"/>
                  <a:pt x="14436" y="5928"/>
                </a:cubicBezTo>
                <a:cubicBezTo>
                  <a:pt x="14407" y="5966"/>
                  <a:pt x="14424" y="5991"/>
                  <a:pt x="14387" y="60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60960" y="2035080"/>
            <a:ext cx="125280" cy="117720"/>
          </a:xfrm>
          <a:custGeom>
            <a:avLst/>
            <a:gdLst/>
            <a:ahLst/>
            <a:rect l="l" t="t" r="r" b="b"/>
            <a:pathLst>
              <a:path w="348" h="324">
                <a:moveTo>
                  <a:pt x="14660" y="5953"/>
                </a:moveTo>
                <a:cubicBezTo>
                  <a:pt x="14668" y="5961"/>
                  <a:pt x="14676" y="5970"/>
                  <a:pt x="14684" y="5978"/>
                </a:cubicBezTo>
                <a:cubicBezTo>
                  <a:pt x="14620" y="5912"/>
                  <a:pt x="14558" y="5835"/>
                  <a:pt x="14486" y="5779"/>
                </a:cubicBezTo>
                <a:cubicBezTo>
                  <a:pt x="14431" y="5736"/>
                  <a:pt x="14386" y="5704"/>
                  <a:pt x="14337" y="56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57240" y="4429080"/>
            <a:ext cx="17640" cy="169920"/>
          </a:xfrm>
          <a:custGeom>
            <a:avLst/>
            <a:gdLst/>
            <a:ahLst/>
            <a:rect l="l" t="t" r="r" b="b"/>
            <a:pathLst>
              <a:path w="51" h="472">
                <a:moveTo>
                  <a:pt x="5209" y="12427"/>
                </a:moveTo>
                <a:cubicBezTo>
                  <a:pt x="5180" y="12389"/>
                  <a:pt x="5184" y="12376"/>
                  <a:pt x="5184" y="12328"/>
                </a:cubicBezTo>
                <a:cubicBezTo>
                  <a:pt x="5184" y="12320"/>
                  <a:pt x="5184" y="12311"/>
                  <a:pt x="5184" y="12303"/>
                </a:cubicBezTo>
                <a:cubicBezTo>
                  <a:pt x="5140" y="12318"/>
                  <a:pt x="5159" y="12374"/>
                  <a:pt x="5159" y="12427"/>
                </a:cubicBezTo>
                <a:cubicBezTo>
                  <a:pt x="5159" y="12533"/>
                  <a:pt x="5170" y="12623"/>
                  <a:pt x="5184" y="12725"/>
                </a:cubicBezTo>
                <a:cubicBezTo>
                  <a:pt x="5184" y="12741"/>
                  <a:pt x="5184" y="12758"/>
                  <a:pt x="5184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17800" y="4572000"/>
            <a:ext cx="936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5606" y="12700"/>
                </a:moveTo>
                <a:cubicBezTo>
                  <a:pt x="5631" y="12700"/>
                  <a:pt x="5639" y="12700"/>
                  <a:pt x="5631" y="127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08160" y="4384800"/>
            <a:ext cx="27000" cy="160200"/>
          </a:xfrm>
          <a:custGeom>
            <a:avLst/>
            <a:gdLst/>
            <a:ahLst/>
            <a:rect l="l" t="t" r="r" b="b"/>
            <a:pathLst>
              <a:path w="75" h="448">
                <a:moveTo>
                  <a:pt x="5854" y="12204"/>
                </a:moveTo>
                <a:cubicBezTo>
                  <a:pt x="5854" y="12155"/>
                  <a:pt x="5877" y="12226"/>
                  <a:pt x="5879" y="12254"/>
                </a:cubicBezTo>
                <a:cubicBezTo>
                  <a:pt x="5884" y="12340"/>
                  <a:pt x="5895" y="12419"/>
                  <a:pt x="5904" y="12502"/>
                </a:cubicBezTo>
                <a:cubicBezTo>
                  <a:pt x="5904" y="12570"/>
                  <a:pt x="5901" y="12589"/>
                  <a:pt x="5928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24160" y="2062080"/>
            <a:ext cx="1800" cy="19080"/>
          </a:xfrm>
          <a:custGeom>
            <a:avLst/>
            <a:gdLst/>
            <a:ahLst/>
            <a:rect l="l" t="t" r="r" b="b"/>
            <a:pathLst>
              <a:path w="1" h="50">
                <a:moveTo>
                  <a:pt x="8954" y="5779"/>
                </a:moveTo>
                <a:cubicBezTo>
                  <a:pt x="8954" y="5755"/>
                  <a:pt x="8954" y="5746"/>
                  <a:pt x="8954" y="573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24160" y="1901880"/>
            <a:ext cx="7920" cy="71280"/>
          </a:xfrm>
          <a:custGeom>
            <a:avLst/>
            <a:gdLst/>
            <a:ahLst/>
            <a:rect l="l" t="t" r="r" b="b"/>
            <a:pathLst>
              <a:path w="26" h="200">
                <a:moveTo>
                  <a:pt x="8979" y="5482"/>
                </a:moveTo>
                <a:cubicBezTo>
                  <a:pt x="8979" y="5412"/>
                  <a:pt x="8973" y="5366"/>
                  <a:pt x="8954" y="5308"/>
                </a:cubicBezTo>
                <a:cubicBezTo>
                  <a:pt x="8954" y="5300"/>
                  <a:pt x="8954" y="5291"/>
                  <a:pt x="8954" y="528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41800" y="1768320"/>
            <a:ext cx="1440" cy="61920"/>
          </a:xfrm>
          <a:custGeom>
            <a:avLst/>
            <a:gdLst/>
            <a:ahLst/>
            <a:rect l="l" t="t" r="r" b="b"/>
            <a:pathLst>
              <a:path w="1" h="175">
                <a:moveTo>
                  <a:pt x="9004" y="5085"/>
                </a:moveTo>
                <a:cubicBezTo>
                  <a:pt x="9004" y="5027"/>
                  <a:pt x="9004" y="4969"/>
                  <a:pt x="9004" y="491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1800" y="1633680"/>
            <a:ext cx="1440" cy="45720"/>
          </a:xfrm>
          <a:custGeom>
            <a:avLst/>
            <a:gdLst/>
            <a:ahLst/>
            <a:rect l="l" t="t" r="r" b="b"/>
            <a:pathLst>
              <a:path w="1" h="125">
                <a:moveTo>
                  <a:pt x="9004" y="4663"/>
                </a:moveTo>
                <a:cubicBezTo>
                  <a:pt x="9004" y="4622"/>
                  <a:pt x="9004" y="4580"/>
                  <a:pt x="9004" y="453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1800" y="1500120"/>
            <a:ext cx="1440" cy="63720"/>
          </a:xfrm>
          <a:custGeom>
            <a:avLst/>
            <a:gdLst/>
            <a:ahLst/>
            <a:rect l="l" t="t" r="r" b="b"/>
            <a:pathLst>
              <a:path w="1" h="175">
                <a:moveTo>
                  <a:pt x="9004" y="4341"/>
                </a:moveTo>
                <a:cubicBezTo>
                  <a:pt x="9004" y="4283"/>
                  <a:pt x="9004" y="4225"/>
                  <a:pt x="9004" y="416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78080" y="1482840"/>
            <a:ext cx="117720" cy="17280"/>
          </a:xfrm>
          <a:custGeom>
            <a:avLst/>
            <a:gdLst/>
            <a:ahLst/>
            <a:rect l="l" t="t" r="r" b="b"/>
            <a:pathLst>
              <a:path w="324" h="50">
                <a:moveTo>
                  <a:pt x="9153" y="4167"/>
                </a:moveTo>
                <a:cubicBezTo>
                  <a:pt x="9153" y="4159"/>
                  <a:pt x="9153" y="4150"/>
                  <a:pt x="9153" y="4142"/>
                </a:cubicBezTo>
                <a:cubicBezTo>
                  <a:pt x="9116" y="4130"/>
                  <a:pt x="9131" y="4118"/>
                  <a:pt x="9079" y="4118"/>
                </a:cubicBezTo>
                <a:cubicBezTo>
                  <a:pt x="8996" y="4118"/>
                  <a:pt x="8913" y="4118"/>
                  <a:pt x="8830" y="411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39960" y="2394000"/>
            <a:ext cx="17280" cy="34920"/>
          </a:xfrm>
          <a:custGeom>
            <a:avLst/>
            <a:gdLst/>
            <a:ahLst/>
            <a:rect l="l" t="t" r="r" b="b"/>
            <a:pathLst>
              <a:path w="50" h="100">
                <a:moveTo>
                  <a:pt x="5159" y="6747"/>
                </a:moveTo>
                <a:cubicBezTo>
                  <a:pt x="5109" y="6687"/>
                  <a:pt x="5110" y="6710"/>
                  <a:pt x="5110" y="6648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39960" y="2357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110" y="6548"/>
                </a:moveTo>
                <a:lnTo>
                  <a:pt x="5110" y="6548"/>
                </a:lnTo>
                <a:lnTo>
                  <a:pt x="5110" y="6548"/>
                </a:lnTo>
                <a:lnTo>
                  <a:pt x="5110" y="6548"/>
                </a:ln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30240" y="2313000"/>
            <a:ext cx="972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5110" y="6449"/>
                </a:moveTo>
                <a:cubicBezTo>
                  <a:pt x="5085" y="6449"/>
                  <a:pt x="5077" y="6449"/>
                  <a:pt x="5085" y="6424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30240" y="22766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085" y="6325"/>
                </a:moveTo>
                <a:lnTo>
                  <a:pt x="5085" y="6325"/>
                </a:lnTo>
                <a:lnTo>
                  <a:pt x="5085" y="6325"/>
                </a:lnTo>
                <a:lnTo>
                  <a:pt x="5085" y="6325"/>
                </a:lnTo>
                <a:lnTo>
                  <a:pt x="5085" y="6325"/>
                </a:lnTo>
                <a:lnTo>
                  <a:pt x="5085" y="6325"/>
                </a:lnTo>
                <a:lnTo>
                  <a:pt x="5085" y="6325"/>
                </a:ln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20880" y="2241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060" y="6226"/>
                </a:moveTo>
                <a:lnTo>
                  <a:pt x="5060" y="6226"/>
                </a:lnTo>
                <a:lnTo>
                  <a:pt x="5060" y="6226"/>
                </a:lnTo>
                <a:lnTo>
                  <a:pt x="5060" y="6226"/>
                </a:lnTo>
                <a:lnTo>
                  <a:pt x="5060" y="6226"/>
                </a:lnTo>
                <a:lnTo>
                  <a:pt x="5060" y="6226"/>
                </a:ln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12960" y="218772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5035" y="6102"/>
                </a:moveTo>
                <a:cubicBezTo>
                  <a:pt x="5035" y="6094"/>
                  <a:pt x="5035" y="6085"/>
                  <a:pt x="5035" y="607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03240" y="2152800"/>
            <a:ext cx="9720" cy="44280"/>
          </a:xfrm>
          <a:custGeom>
            <a:avLst/>
            <a:gdLst/>
            <a:ahLst/>
            <a:rect l="l" t="t" r="r" b="b"/>
            <a:pathLst>
              <a:path w="25" h="125">
                <a:moveTo>
                  <a:pt x="5035" y="6102"/>
                </a:moveTo>
                <a:cubicBezTo>
                  <a:pt x="5017" y="6028"/>
                  <a:pt x="5009" y="6021"/>
                  <a:pt x="5011" y="5978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57240" y="5205240"/>
            <a:ext cx="135000" cy="28800"/>
          </a:xfrm>
          <a:custGeom>
            <a:avLst/>
            <a:gdLst/>
            <a:ahLst/>
            <a:rect l="l" t="t" r="r" b="b"/>
            <a:pathLst>
              <a:path w="373" h="76">
                <a:moveTo>
                  <a:pt x="5482" y="14461"/>
                </a:moveTo>
                <a:cubicBezTo>
                  <a:pt x="5510" y="14461"/>
                  <a:pt x="5521" y="14463"/>
                  <a:pt x="5531" y="14486"/>
                </a:cubicBezTo>
                <a:cubicBezTo>
                  <a:pt x="5483" y="14486"/>
                  <a:pt x="5426" y="14497"/>
                  <a:pt x="5383" y="14511"/>
                </a:cubicBezTo>
                <a:cubicBezTo>
                  <a:pt x="5312" y="14535"/>
                  <a:pt x="5261" y="14536"/>
                  <a:pt x="5184" y="14536"/>
                </a:cubicBezTo>
                <a:cubicBezTo>
                  <a:pt x="5176" y="14536"/>
                  <a:pt x="5167" y="14536"/>
                  <a:pt x="5159" y="14536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81160" y="5089680"/>
            <a:ext cx="17640" cy="144360"/>
          </a:xfrm>
          <a:custGeom>
            <a:avLst/>
            <a:gdLst/>
            <a:ahLst/>
            <a:rect l="l" t="t" r="r" b="b"/>
            <a:pathLst>
              <a:path w="51" h="398">
                <a:moveTo>
                  <a:pt x="5779" y="14163"/>
                </a:moveTo>
                <a:cubicBezTo>
                  <a:pt x="5779" y="14139"/>
                  <a:pt x="5779" y="14131"/>
                  <a:pt x="5804" y="14139"/>
                </a:cubicBezTo>
                <a:cubicBezTo>
                  <a:pt x="5788" y="14201"/>
                  <a:pt x="5779" y="14237"/>
                  <a:pt x="5779" y="14312"/>
                </a:cubicBezTo>
                <a:cubicBezTo>
                  <a:pt x="5779" y="14401"/>
                  <a:pt x="5818" y="14457"/>
                  <a:pt x="5829" y="14536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24080" y="5214960"/>
            <a:ext cx="79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6176" y="14486"/>
                </a:moveTo>
                <a:cubicBezTo>
                  <a:pt x="6184" y="14486"/>
                  <a:pt x="6193" y="14486"/>
                  <a:pt x="6201" y="14486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20920" y="5089680"/>
            <a:ext cx="28440" cy="152280"/>
          </a:xfrm>
          <a:custGeom>
            <a:avLst/>
            <a:gdLst/>
            <a:ahLst/>
            <a:rect l="l" t="t" r="r" b="b"/>
            <a:pathLst>
              <a:path w="76" h="422">
                <a:moveTo>
                  <a:pt x="6449" y="14163"/>
                </a:moveTo>
                <a:cubicBezTo>
                  <a:pt x="6449" y="14122"/>
                  <a:pt x="6440" y="14198"/>
                  <a:pt x="6449" y="14238"/>
                </a:cubicBezTo>
                <a:cubicBezTo>
                  <a:pt x="6470" y="14330"/>
                  <a:pt x="6468" y="14450"/>
                  <a:pt x="6499" y="14536"/>
                </a:cubicBezTo>
                <a:cubicBezTo>
                  <a:pt x="6507" y="14544"/>
                  <a:pt x="6516" y="14552"/>
                  <a:pt x="6524" y="14560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85920" y="2438280"/>
            <a:ext cx="54000" cy="847800"/>
          </a:xfrm>
          <a:custGeom>
            <a:avLst/>
            <a:gdLst/>
            <a:ahLst/>
            <a:rect l="l" t="t" r="r" b="b"/>
            <a:pathLst>
              <a:path w="150" h="2357">
                <a:moveTo>
                  <a:pt x="3572" y="6772"/>
                </a:moveTo>
                <a:cubicBezTo>
                  <a:pt x="3572" y="6831"/>
                  <a:pt x="3589" y="6875"/>
                  <a:pt x="3597" y="6921"/>
                </a:cubicBezTo>
                <a:cubicBezTo>
                  <a:pt x="3620" y="7055"/>
                  <a:pt x="3604" y="7217"/>
                  <a:pt x="3621" y="7342"/>
                </a:cubicBezTo>
                <a:cubicBezTo>
                  <a:pt x="3634" y="7433"/>
                  <a:pt x="3633" y="7535"/>
                  <a:pt x="3646" y="7615"/>
                </a:cubicBezTo>
                <a:cubicBezTo>
                  <a:pt x="3695" y="7906"/>
                  <a:pt x="3623" y="8220"/>
                  <a:pt x="3671" y="8508"/>
                </a:cubicBezTo>
                <a:cubicBezTo>
                  <a:pt x="3682" y="8574"/>
                  <a:pt x="3685" y="8643"/>
                  <a:pt x="3696" y="8706"/>
                </a:cubicBezTo>
                <a:cubicBezTo>
                  <a:pt x="3708" y="8780"/>
                  <a:pt x="3709" y="8859"/>
                  <a:pt x="3721" y="8930"/>
                </a:cubicBezTo>
                <a:cubicBezTo>
                  <a:pt x="3731" y="8991"/>
                  <a:pt x="3721" y="9065"/>
                  <a:pt x="3721" y="9128"/>
                </a:cubicBezTo>
              </a:path>
            </a:pathLst>
          </a:custGeom>
          <a:noFill/>
          <a:ln cap="rnd" w="349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31920" y="2438280"/>
            <a:ext cx="90360" cy="677880"/>
          </a:xfrm>
          <a:custGeom>
            <a:avLst/>
            <a:gdLst/>
            <a:ahLst/>
            <a:rect l="l" t="t" r="r" b="b"/>
            <a:pathLst>
              <a:path w="249" h="1886">
                <a:moveTo>
                  <a:pt x="3423" y="6772"/>
                </a:moveTo>
                <a:cubicBezTo>
                  <a:pt x="3423" y="7086"/>
                  <a:pt x="3408" y="7402"/>
                  <a:pt x="3448" y="7714"/>
                </a:cubicBezTo>
                <a:cubicBezTo>
                  <a:pt x="3478" y="7947"/>
                  <a:pt x="3543" y="8177"/>
                  <a:pt x="3572" y="8409"/>
                </a:cubicBezTo>
                <a:cubicBezTo>
                  <a:pt x="3578" y="8456"/>
                  <a:pt x="3591" y="8611"/>
                  <a:pt x="3572" y="8582"/>
                </a:cubicBezTo>
                <a:cubicBezTo>
                  <a:pt x="3544" y="8527"/>
                  <a:pt x="3536" y="8504"/>
                  <a:pt x="3547" y="8458"/>
                </a:cubicBezTo>
                <a:cubicBezTo>
                  <a:pt x="3499" y="8305"/>
                  <a:pt x="3476" y="8173"/>
                  <a:pt x="3473" y="8012"/>
                </a:cubicBezTo>
                <a:cubicBezTo>
                  <a:pt x="3469" y="7771"/>
                  <a:pt x="3448" y="7535"/>
                  <a:pt x="3448" y="7293"/>
                </a:cubicBezTo>
                <a:cubicBezTo>
                  <a:pt x="3448" y="7161"/>
                  <a:pt x="3448" y="7028"/>
                  <a:pt x="3448" y="6896"/>
                </a:cubicBezTo>
                <a:cubicBezTo>
                  <a:pt x="3404" y="6852"/>
                  <a:pt x="3423" y="6832"/>
                  <a:pt x="3423" y="6921"/>
                </a:cubicBezTo>
                <a:cubicBezTo>
                  <a:pt x="3423" y="7096"/>
                  <a:pt x="3441" y="7267"/>
                  <a:pt x="3448" y="7441"/>
                </a:cubicBezTo>
                <a:cubicBezTo>
                  <a:pt x="3459" y="7706"/>
                  <a:pt x="3462" y="7972"/>
                  <a:pt x="3497" y="8235"/>
                </a:cubicBezTo>
                <a:cubicBezTo>
                  <a:pt x="3521" y="8376"/>
                  <a:pt x="3527" y="8418"/>
                  <a:pt x="3547" y="8508"/>
                </a:cubicBezTo>
                <a:cubicBezTo>
                  <a:pt x="3549" y="8531"/>
                  <a:pt x="3566" y="8737"/>
                  <a:pt x="3572" y="8607"/>
                </a:cubicBezTo>
                <a:cubicBezTo>
                  <a:pt x="3581" y="8393"/>
                  <a:pt x="3590" y="8176"/>
                  <a:pt x="3597" y="7962"/>
                </a:cubicBezTo>
                <a:cubicBezTo>
                  <a:pt x="3607" y="7664"/>
                  <a:pt x="3576" y="7388"/>
                  <a:pt x="3547" y="7094"/>
                </a:cubicBezTo>
                <a:cubicBezTo>
                  <a:pt x="3547" y="7028"/>
                  <a:pt x="3547" y="7011"/>
                  <a:pt x="3547" y="6970"/>
                </a:cubicBezTo>
                <a:cubicBezTo>
                  <a:pt x="3547" y="7212"/>
                  <a:pt x="3548" y="7448"/>
                  <a:pt x="3572" y="7689"/>
                </a:cubicBezTo>
                <a:cubicBezTo>
                  <a:pt x="3595" y="7922"/>
                  <a:pt x="3645" y="8152"/>
                  <a:pt x="3671" y="8384"/>
                </a:cubicBezTo>
                <a:cubicBezTo>
                  <a:pt x="3671" y="8442"/>
                  <a:pt x="3671" y="8450"/>
                  <a:pt x="3671" y="8483"/>
                </a:cubicBezTo>
                <a:cubicBezTo>
                  <a:pt x="3671" y="8184"/>
                  <a:pt x="3657" y="7888"/>
                  <a:pt x="3646" y="7590"/>
                </a:cubicBezTo>
                <a:cubicBezTo>
                  <a:pt x="3639" y="7413"/>
                  <a:pt x="3661" y="7225"/>
                  <a:pt x="3572" y="7069"/>
                </a:cubicBezTo>
                <a:cubicBezTo>
                  <a:pt x="3572" y="7402"/>
                  <a:pt x="3583" y="7731"/>
                  <a:pt x="3597" y="8062"/>
                </a:cubicBezTo>
                <a:cubicBezTo>
                  <a:pt x="3597" y="8120"/>
                  <a:pt x="3597" y="8177"/>
                  <a:pt x="3597" y="8235"/>
                </a:cubicBezTo>
              </a:path>
            </a:pathLst>
          </a:custGeom>
          <a:noFill/>
          <a:ln cap="rnd" w="349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47800" y="2044800"/>
            <a:ext cx="108000" cy="135000"/>
          </a:xfrm>
          <a:custGeom>
            <a:avLst/>
            <a:gdLst/>
            <a:ahLst/>
            <a:rect l="l" t="t" r="r" b="b"/>
            <a:pathLst>
              <a:path w="299" h="373">
                <a:moveTo>
                  <a:pt x="2654" y="5680"/>
                </a:moveTo>
                <a:cubicBezTo>
                  <a:pt x="2654" y="5688"/>
                  <a:pt x="2654" y="5697"/>
                  <a:pt x="2654" y="5705"/>
                </a:cubicBezTo>
                <a:cubicBezTo>
                  <a:pt x="2610" y="5716"/>
                  <a:pt x="2589" y="5745"/>
                  <a:pt x="2555" y="5779"/>
                </a:cubicBezTo>
                <a:cubicBezTo>
                  <a:pt x="2516" y="5817"/>
                  <a:pt x="2496" y="5865"/>
                  <a:pt x="2456" y="5904"/>
                </a:cubicBezTo>
                <a:cubicBezTo>
                  <a:pt x="2436" y="5924"/>
                  <a:pt x="2393" y="5977"/>
                  <a:pt x="2381" y="6003"/>
                </a:cubicBezTo>
                <a:cubicBezTo>
                  <a:pt x="2372" y="6022"/>
                  <a:pt x="2356" y="6070"/>
                  <a:pt x="2356" y="6028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0800" y="2044800"/>
            <a:ext cx="135000" cy="108000"/>
          </a:xfrm>
          <a:custGeom>
            <a:avLst/>
            <a:gdLst/>
            <a:ahLst/>
            <a:rect l="l" t="t" r="r" b="b"/>
            <a:pathLst>
              <a:path w="373" h="299">
                <a:moveTo>
                  <a:pt x="2629" y="5978"/>
                </a:moveTo>
                <a:cubicBezTo>
                  <a:pt x="2637" y="5978"/>
                  <a:pt x="2646" y="5978"/>
                  <a:pt x="2654" y="5978"/>
                </a:cubicBezTo>
                <a:cubicBezTo>
                  <a:pt x="2614" y="5938"/>
                  <a:pt x="2572" y="5914"/>
                  <a:pt x="2530" y="5879"/>
                </a:cubicBezTo>
                <a:cubicBezTo>
                  <a:pt x="2462" y="5823"/>
                  <a:pt x="2396" y="5764"/>
                  <a:pt x="2332" y="5705"/>
                </a:cubicBezTo>
                <a:cubicBezTo>
                  <a:pt x="2309" y="5682"/>
                  <a:pt x="2305" y="5674"/>
                  <a:pt x="2282" y="5680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1880" y="1482840"/>
            <a:ext cx="63360" cy="125280"/>
          </a:xfrm>
          <a:custGeom>
            <a:avLst/>
            <a:gdLst/>
            <a:ahLst/>
            <a:rect l="l" t="t" r="r" b="b"/>
            <a:pathLst>
              <a:path w="175" h="348">
                <a:moveTo>
                  <a:pt x="2208" y="4118"/>
                </a:moveTo>
                <a:cubicBezTo>
                  <a:pt x="2197" y="4161"/>
                  <a:pt x="2144" y="4178"/>
                  <a:pt x="2133" y="4217"/>
                </a:cubicBezTo>
                <a:cubicBezTo>
                  <a:pt x="2119" y="4264"/>
                  <a:pt x="2106" y="4323"/>
                  <a:pt x="2084" y="4366"/>
                </a:cubicBezTo>
                <a:cubicBezTo>
                  <a:pt x="2066" y="4402"/>
                  <a:pt x="2059" y="4432"/>
                  <a:pt x="2034" y="4465"/>
                </a:cubicBezTo>
                <a:cubicBezTo>
                  <a:pt x="2034" y="4422"/>
                  <a:pt x="2024" y="4427"/>
                  <a:pt x="2059" y="4415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0240" y="1535040"/>
            <a:ext cx="135000" cy="36720"/>
          </a:xfrm>
          <a:custGeom>
            <a:avLst/>
            <a:gdLst/>
            <a:ahLst/>
            <a:rect l="l" t="t" r="r" b="b"/>
            <a:pathLst>
              <a:path w="373" h="101">
                <a:moveTo>
                  <a:pt x="2208" y="4366"/>
                </a:moveTo>
                <a:cubicBezTo>
                  <a:pt x="2165" y="4355"/>
                  <a:pt x="2131" y="4324"/>
                  <a:pt x="2084" y="4316"/>
                </a:cubicBezTo>
                <a:cubicBezTo>
                  <a:pt x="2024" y="4305"/>
                  <a:pt x="1961" y="4276"/>
                  <a:pt x="1910" y="4266"/>
                </a:cubicBezTo>
                <a:cubicBezTo>
                  <a:pt x="1869" y="4266"/>
                  <a:pt x="1861" y="4266"/>
                  <a:pt x="1836" y="4266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9:58:33Z</dcterms:created>
  <dc:creator>School</dc:creator>
  <dc:description/>
  <dc:language>en-US</dc:language>
  <cp:lastModifiedBy>N Holden</cp:lastModifiedBy>
  <dcterms:modified xsi:type="dcterms:W3CDTF">2009-03-02T19:51:58Z</dcterms:modified>
  <cp:revision>3</cp:revision>
  <dc:subject/>
  <dc:title>Slide 1</dc:title>
</cp:coreProperties>
</file>